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6F8-7161-40E3-9570-67605682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14E-AF04-4732-A721-7107AA6E1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2362-E973-42F9-95D4-7D7ABABB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014-E7ED-4564-BF1D-0B416FE46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BF0E-3571-42F0-BC8A-B652D1F2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16C7-1180-43D4-83F4-A9F417BC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5904-4624-4F66-9E03-1DB7AA1F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516-E3F7-4BAD-A670-0178C88B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61F-D167-41BA-9814-5FF537873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2255-34C4-4991-9F31-94EB12D6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996D-70A0-44A2-AF89-B0847451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3AEB-BA74-4BFF-AB66-3E541F8A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03C7-EF04-4F3A-B380-7CB753FC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F358-CF6F-4EAC-983F-A1100FFB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9C6-1EDF-4B96-B66B-7AF86B8E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D8F-7B34-4E94-8421-7FAAB8D2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2D5-B067-436D-968E-6DCC3675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0DB-12ED-4E00-8B1B-C5C1AD49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B58-65DB-4D59-89C2-FECDD6F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FD9-FA86-4F3B-8805-10928DC9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570-28D5-4FD9-9D09-51FEBF9B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9D9-F595-4D0B-A896-809F428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96E-7193-4930-8EF0-9C919E7C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994-B0D9-45F9-ABAC-CCDA0A95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29B-447F-447C-9AC1-456D2AE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204-1E83-4152-9894-A4614BD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F83-6F06-4066-8EED-7696504D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2 Prerequi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m = 4 and (-2, 14) in 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3"/>
          <p:cNvSpPr/>
          <p:nvPr/>
        </p:nvSpPr>
        <p:spPr>
          <a:xfrm>
            <a:off x="5589720" y="353880"/>
            <a:ext cx="206280" cy="274680"/>
          </a:xfrm>
          <a:custGeom>
            <a:avLst/>
            <a:gdLst/>
            <a:ahLst/>
            <a:rect l="l" t="t" r="r" b="b"/>
            <a:pathLst>
              <a:path w="572" h="763">
                <a:moveTo>
                  <a:pt x="15589" y="984"/>
                </a:moveTo>
                <a:cubicBezTo>
                  <a:pt x="15603" y="1042"/>
                  <a:pt x="15625" y="1090"/>
                  <a:pt x="15653" y="1143"/>
                </a:cubicBezTo>
                <a:cubicBezTo>
                  <a:pt x="15696" y="1225"/>
                  <a:pt x="15704" y="1310"/>
                  <a:pt x="15748" y="1397"/>
                </a:cubicBezTo>
                <a:cubicBezTo>
                  <a:pt x="15783" y="1466"/>
                  <a:pt x="15789" y="1528"/>
                  <a:pt x="15843" y="1588"/>
                </a:cubicBezTo>
                <a:cubicBezTo>
                  <a:pt x="15888" y="1638"/>
                  <a:pt x="15905" y="1651"/>
                  <a:pt x="15970" y="1651"/>
                </a:cubicBezTo>
              </a:path>
              <a:path w="572" h="763">
                <a:moveTo>
                  <a:pt x="15970" y="984"/>
                </a:moveTo>
                <a:cubicBezTo>
                  <a:pt x="15905" y="1050"/>
                  <a:pt x="15858" y="1125"/>
                  <a:pt x="15812" y="1206"/>
                </a:cubicBezTo>
                <a:cubicBezTo>
                  <a:pt x="15760" y="1298"/>
                  <a:pt x="15700" y="1402"/>
                  <a:pt x="15653" y="1492"/>
                </a:cubicBezTo>
                <a:cubicBezTo>
                  <a:pt x="15618" y="1559"/>
                  <a:pt x="15577" y="1650"/>
                  <a:pt x="15558" y="1714"/>
                </a:cubicBezTo>
                <a:cubicBezTo>
                  <a:pt x="15558" y="1746"/>
                  <a:pt x="15558" y="1757"/>
                  <a:pt x="15526" y="1746"/>
                </a:cubicBezTo>
              </a:path>
              <a:path w="572" h="763">
                <a:moveTo>
                  <a:pt x="16066" y="1397"/>
                </a:moveTo>
                <a:cubicBezTo>
                  <a:pt x="16085" y="1473"/>
                  <a:pt x="16080" y="1483"/>
                  <a:pt x="16066" y="1556"/>
                </a:cubicBezTo>
                <a:cubicBezTo>
                  <a:pt x="16055" y="1615"/>
                  <a:pt x="16066" y="1686"/>
                  <a:pt x="16066" y="1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4"/>
          <p:cNvSpPr/>
          <p:nvPr/>
        </p:nvSpPr>
        <p:spPr>
          <a:xfrm>
            <a:off x="6297480" y="378000"/>
            <a:ext cx="252720" cy="296640"/>
          </a:xfrm>
          <a:custGeom>
            <a:avLst/>
            <a:gdLst/>
            <a:ahLst/>
            <a:rect l="l" t="t" r="r" b="b"/>
            <a:pathLst>
              <a:path w="700" h="826">
                <a:moveTo>
                  <a:pt x="17494" y="1048"/>
                </a:moveTo>
                <a:cubicBezTo>
                  <a:pt x="17525" y="1089"/>
                  <a:pt x="17549" y="1162"/>
                  <a:pt x="17558" y="1206"/>
                </a:cubicBezTo>
                <a:cubicBezTo>
                  <a:pt x="17580" y="1315"/>
                  <a:pt x="17522" y="1434"/>
                  <a:pt x="17590" y="1524"/>
                </a:cubicBezTo>
                <a:cubicBezTo>
                  <a:pt x="17649" y="1524"/>
                  <a:pt x="17681" y="1514"/>
                  <a:pt x="17716" y="1460"/>
                </a:cubicBezTo>
                <a:cubicBezTo>
                  <a:pt x="17761" y="1390"/>
                  <a:pt x="17826" y="1257"/>
                  <a:pt x="17844" y="1175"/>
                </a:cubicBezTo>
                <a:cubicBezTo>
                  <a:pt x="17844" y="1118"/>
                  <a:pt x="17839" y="1101"/>
                  <a:pt x="17875" y="1080"/>
                </a:cubicBezTo>
                <a:cubicBezTo>
                  <a:pt x="17875" y="1006"/>
                  <a:pt x="17875" y="1164"/>
                  <a:pt x="17875" y="1238"/>
                </a:cubicBezTo>
                <a:cubicBezTo>
                  <a:pt x="17875" y="1355"/>
                  <a:pt x="17891" y="1444"/>
                  <a:pt x="17907" y="1556"/>
                </a:cubicBezTo>
                <a:cubicBezTo>
                  <a:pt x="17918" y="1631"/>
                  <a:pt x="17906" y="1687"/>
                  <a:pt x="17875" y="1746"/>
                </a:cubicBezTo>
                <a:cubicBezTo>
                  <a:pt x="17835" y="1822"/>
                  <a:pt x="17819" y="1877"/>
                  <a:pt x="17748" y="1842"/>
                </a:cubicBezTo>
              </a:path>
              <a:path w="700" h="826">
                <a:moveTo>
                  <a:pt x="18193" y="1397"/>
                </a:moveTo>
                <a:cubicBezTo>
                  <a:pt x="18173" y="1514"/>
                  <a:pt x="18155" y="1559"/>
                  <a:pt x="18098" y="1651"/>
                </a:cubicBezTo>
                <a:cubicBezTo>
                  <a:pt x="18066" y="1714"/>
                  <a:pt x="18055" y="1736"/>
                  <a:pt x="18034" y="1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nk 5"/>
          <p:cNvSpPr/>
          <p:nvPr/>
        </p:nvSpPr>
        <p:spPr>
          <a:xfrm>
            <a:off x="3760920" y="1839960"/>
            <a:ext cx="1439640" cy="457200"/>
          </a:xfrm>
          <a:custGeom>
            <a:avLst/>
            <a:gdLst/>
            <a:ahLst/>
            <a:rect l="l" t="t" r="r" b="b"/>
            <a:pathLst>
              <a:path w="4001" h="1271">
                <a:moveTo>
                  <a:pt x="10446" y="6382"/>
                </a:moveTo>
                <a:cubicBezTo>
                  <a:pt x="10457" y="6369"/>
                  <a:pt x="10490" y="6309"/>
                  <a:pt x="10509" y="6286"/>
                </a:cubicBezTo>
                <a:cubicBezTo>
                  <a:pt x="10549" y="6238"/>
                  <a:pt x="10573" y="6208"/>
                  <a:pt x="10604" y="6160"/>
                </a:cubicBezTo>
                <a:cubicBezTo>
                  <a:pt x="10643" y="6101"/>
                  <a:pt x="10687" y="6023"/>
                  <a:pt x="10732" y="5969"/>
                </a:cubicBezTo>
                <a:cubicBezTo>
                  <a:pt x="10790" y="5900"/>
                  <a:pt x="10851" y="5801"/>
                  <a:pt x="10922" y="5747"/>
                </a:cubicBezTo>
                <a:cubicBezTo>
                  <a:pt x="11008" y="5682"/>
                  <a:pt x="11115" y="5603"/>
                  <a:pt x="11208" y="5556"/>
                </a:cubicBezTo>
                <a:cubicBezTo>
                  <a:pt x="11343" y="5488"/>
                  <a:pt x="11471" y="5461"/>
                  <a:pt x="11620" y="5461"/>
                </a:cubicBezTo>
                <a:cubicBezTo>
                  <a:pt x="11775" y="5461"/>
                  <a:pt x="11955" y="5434"/>
                  <a:pt x="12097" y="5493"/>
                </a:cubicBezTo>
                <a:cubicBezTo>
                  <a:pt x="12185" y="5530"/>
                  <a:pt x="12292" y="5574"/>
                  <a:pt x="12351" y="5652"/>
                </a:cubicBezTo>
                <a:cubicBezTo>
                  <a:pt x="12412" y="5732"/>
                  <a:pt x="12464" y="5814"/>
                  <a:pt x="12510" y="5906"/>
                </a:cubicBezTo>
                <a:cubicBezTo>
                  <a:pt x="12544" y="5974"/>
                  <a:pt x="12614" y="6061"/>
                  <a:pt x="12636" y="6128"/>
                </a:cubicBezTo>
                <a:cubicBezTo>
                  <a:pt x="12653" y="6180"/>
                  <a:pt x="12689" y="6270"/>
                  <a:pt x="12700" y="6318"/>
                </a:cubicBezTo>
                <a:cubicBezTo>
                  <a:pt x="12714" y="6379"/>
                  <a:pt x="12675" y="6364"/>
                  <a:pt x="12668" y="6382"/>
                </a:cubicBezTo>
              </a:path>
              <a:path w="4001" h="1271">
                <a:moveTo>
                  <a:pt x="10636" y="6032"/>
                </a:moveTo>
                <a:cubicBezTo>
                  <a:pt x="10673" y="5974"/>
                  <a:pt x="10692" y="5923"/>
                  <a:pt x="10732" y="5874"/>
                </a:cubicBezTo>
                <a:cubicBezTo>
                  <a:pt x="10791" y="5802"/>
                  <a:pt x="10883" y="5754"/>
                  <a:pt x="10954" y="5683"/>
                </a:cubicBezTo>
                <a:cubicBezTo>
                  <a:pt x="11032" y="5605"/>
                  <a:pt x="11170" y="5512"/>
                  <a:pt x="11271" y="5461"/>
                </a:cubicBezTo>
                <a:cubicBezTo>
                  <a:pt x="11401" y="5396"/>
                  <a:pt x="11546" y="5317"/>
                  <a:pt x="11684" y="5270"/>
                </a:cubicBezTo>
                <a:cubicBezTo>
                  <a:pt x="11838" y="5218"/>
                  <a:pt x="12002" y="5183"/>
                  <a:pt x="12160" y="5144"/>
                </a:cubicBezTo>
                <a:cubicBezTo>
                  <a:pt x="12325" y="5103"/>
                  <a:pt x="12529" y="5088"/>
                  <a:pt x="12700" y="5112"/>
                </a:cubicBezTo>
                <a:cubicBezTo>
                  <a:pt x="12897" y="5140"/>
                  <a:pt x="13053" y="5185"/>
                  <a:pt x="13240" y="5239"/>
                </a:cubicBezTo>
                <a:cubicBezTo>
                  <a:pt x="13403" y="5287"/>
                  <a:pt x="13564" y="5347"/>
                  <a:pt x="13716" y="5429"/>
                </a:cubicBezTo>
                <a:cubicBezTo>
                  <a:pt x="13901" y="5529"/>
                  <a:pt x="14041" y="5642"/>
                  <a:pt x="14192" y="5778"/>
                </a:cubicBezTo>
                <a:cubicBezTo>
                  <a:pt x="14273" y="5851"/>
                  <a:pt x="14315" y="5951"/>
                  <a:pt x="14383" y="6032"/>
                </a:cubicBezTo>
                <a:cubicBezTo>
                  <a:pt x="14432" y="6090"/>
                  <a:pt x="14430" y="6092"/>
                  <a:pt x="14446" y="6160"/>
                </a:cubicBezTo>
                <a:cubicBezTo>
                  <a:pt x="14446" y="6181"/>
                  <a:pt x="14446" y="6202"/>
                  <a:pt x="14446" y="6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nk 6"/>
          <p:cNvSpPr/>
          <p:nvPr/>
        </p:nvSpPr>
        <p:spPr>
          <a:xfrm>
            <a:off x="2114640" y="2182680"/>
            <a:ext cx="3521160" cy="1189080"/>
          </a:xfrm>
          <a:custGeom>
            <a:avLst/>
            <a:gdLst/>
            <a:ahLst/>
            <a:rect l="l" t="t" r="r" b="b"/>
            <a:pathLst>
              <a:path w="9780" h="3303">
                <a:moveTo>
                  <a:pt x="6001" y="6763"/>
                </a:moveTo>
                <a:cubicBezTo>
                  <a:pt x="5994" y="6829"/>
                  <a:pt x="5972" y="6854"/>
                  <a:pt x="5969" y="6922"/>
                </a:cubicBezTo>
                <a:cubicBezTo>
                  <a:pt x="5957" y="7196"/>
                  <a:pt x="5966" y="7494"/>
                  <a:pt x="6001" y="7747"/>
                </a:cubicBezTo>
                <a:cubicBezTo>
                  <a:pt x="6010" y="7811"/>
                  <a:pt x="6029" y="7870"/>
                  <a:pt x="6096" y="7906"/>
                </a:cubicBezTo>
                <a:cubicBezTo>
                  <a:pt x="6147" y="7933"/>
                  <a:pt x="6195" y="7875"/>
                  <a:pt x="6223" y="7842"/>
                </a:cubicBezTo>
                <a:cubicBezTo>
                  <a:pt x="6279" y="7777"/>
                  <a:pt x="6311" y="7697"/>
                  <a:pt x="6350" y="7620"/>
                </a:cubicBezTo>
                <a:cubicBezTo>
                  <a:pt x="6389" y="7542"/>
                  <a:pt x="6462" y="7420"/>
                  <a:pt x="6477" y="7334"/>
                </a:cubicBezTo>
                <a:cubicBezTo>
                  <a:pt x="6495" y="7228"/>
                  <a:pt x="6524" y="7121"/>
                  <a:pt x="6540" y="7017"/>
                </a:cubicBezTo>
                <a:cubicBezTo>
                  <a:pt x="6547" y="6972"/>
                  <a:pt x="6540" y="6904"/>
                  <a:pt x="6540" y="6858"/>
                </a:cubicBezTo>
                <a:cubicBezTo>
                  <a:pt x="6540" y="6911"/>
                  <a:pt x="6540" y="6900"/>
                  <a:pt x="6540" y="6953"/>
                </a:cubicBezTo>
                <a:cubicBezTo>
                  <a:pt x="6540" y="7159"/>
                  <a:pt x="6552" y="7354"/>
                  <a:pt x="6572" y="7556"/>
                </a:cubicBezTo>
                <a:cubicBezTo>
                  <a:pt x="6589" y="7729"/>
                  <a:pt x="6558" y="7898"/>
                  <a:pt x="6540" y="8064"/>
                </a:cubicBezTo>
                <a:cubicBezTo>
                  <a:pt x="6524" y="8212"/>
                  <a:pt x="6538" y="8363"/>
                  <a:pt x="6509" y="8509"/>
                </a:cubicBezTo>
                <a:cubicBezTo>
                  <a:pt x="6486" y="8624"/>
                  <a:pt x="6428" y="8750"/>
                  <a:pt x="6382" y="8858"/>
                </a:cubicBezTo>
                <a:cubicBezTo>
                  <a:pt x="6338" y="8959"/>
                  <a:pt x="6282" y="9006"/>
                  <a:pt x="6223" y="9080"/>
                </a:cubicBezTo>
                <a:cubicBezTo>
                  <a:pt x="6164" y="9153"/>
                  <a:pt x="6159" y="9171"/>
                  <a:pt x="6064" y="9176"/>
                </a:cubicBezTo>
                <a:cubicBezTo>
                  <a:pt x="5958" y="9182"/>
                  <a:pt x="5958" y="9169"/>
                  <a:pt x="5906" y="9080"/>
                </a:cubicBezTo>
                <a:cubicBezTo>
                  <a:pt x="5868" y="9015"/>
                  <a:pt x="5874" y="8974"/>
                  <a:pt x="5874" y="8890"/>
                </a:cubicBezTo>
                <a:cubicBezTo>
                  <a:pt x="5874" y="8791"/>
                  <a:pt x="5926" y="8693"/>
                  <a:pt x="5969" y="8604"/>
                </a:cubicBezTo>
                <a:cubicBezTo>
                  <a:pt x="6013" y="8511"/>
                  <a:pt x="6090" y="8424"/>
                  <a:pt x="6160" y="8350"/>
                </a:cubicBezTo>
                <a:cubicBezTo>
                  <a:pt x="6232" y="8274"/>
                  <a:pt x="6289" y="8239"/>
                  <a:pt x="6382" y="8192"/>
                </a:cubicBezTo>
                <a:cubicBezTo>
                  <a:pt x="6466" y="8150"/>
                  <a:pt x="6479" y="8137"/>
                  <a:pt x="6572" y="8128"/>
                </a:cubicBezTo>
                <a:cubicBezTo>
                  <a:pt x="6645" y="8121"/>
                  <a:pt x="6667" y="8141"/>
                  <a:pt x="6699" y="8160"/>
                </a:cubicBezTo>
              </a:path>
              <a:path w="9780" h="3303">
                <a:moveTo>
                  <a:pt x="7048" y="7461"/>
                </a:moveTo>
                <a:cubicBezTo>
                  <a:pt x="7097" y="7498"/>
                  <a:pt x="7114" y="7493"/>
                  <a:pt x="7176" y="7493"/>
                </a:cubicBezTo>
                <a:cubicBezTo>
                  <a:pt x="7329" y="7493"/>
                  <a:pt x="7487" y="7481"/>
                  <a:pt x="7620" y="7525"/>
                </a:cubicBezTo>
                <a:cubicBezTo>
                  <a:pt x="7652" y="7525"/>
                  <a:pt x="7663" y="7525"/>
                  <a:pt x="7684" y="7525"/>
                </a:cubicBezTo>
              </a:path>
              <a:path w="9780" h="3303">
                <a:moveTo>
                  <a:pt x="7969" y="6636"/>
                </a:moveTo>
                <a:cubicBezTo>
                  <a:pt x="7969" y="6706"/>
                  <a:pt x="7942" y="6756"/>
                  <a:pt x="7938" y="6826"/>
                </a:cubicBezTo>
                <a:cubicBezTo>
                  <a:pt x="7932" y="6946"/>
                  <a:pt x="7887" y="7058"/>
                  <a:pt x="7874" y="7176"/>
                </a:cubicBezTo>
                <a:cubicBezTo>
                  <a:pt x="7860" y="7304"/>
                  <a:pt x="7870" y="7431"/>
                  <a:pt x="7842" y="7556"/>
                </a:cubicBezTo>
                <a:cubicBezTo>
                  <a:pt x="7816" y="7674"/>
                  <a:pt x="7765" y="7791"/>
                  <a:pt x="7747" y="7906"/>
                </a:cubicBezTo>
                <a:cubicBezTo>
                  <a:pt x="7743" y="7928"/>
                  <a:pt x="7739" y="8097"/>
                  <a:pt x="7715" y="8096"/>
                </a:cubicBezTo>
                <a:cubicBezTo>
                  <a:pt x="7715" y="8085"/>
                  <a:pt x="7715" y="8075"/>
                  <a:pt x="7715" y="8064"/>
                </a:cubicBezTo>
              </a:path>
              <a:path w="9780" h="3303">
                <a:moveTo>
                  <a:pt x="8160" y="6668"/>
                </a:moveTo>
                <a:cubicBezTo>
                  <a:pt x="8160" y="6738"/>
                  <a:pt x="8132" y="6787"/>
                  <a:pt x="8128" y="6858"/>
                </a:cubicBezTo>
                <a:cubicBezTo>
                  <a:pt x="8122" y="6964"/>
                  <a:pt x="8069" y="7034"/>
                  <a:pt x="8064" y="7144"/>
                </a:cubicBezTo>
                <a:cubicBezTo>
                  <a:pt x="8060" y="7234"/>
                  <a:pt x="8033" y="7304"/>
                  <a:pt x="8033" y="7398"/>
                </a:cubicBezTo>
                <a:cubicBezTo>
                  <a:pt x="8033" y="7434"/>
                  <a:pt x="8030" y="7448"/>
                  <a:pt x="8001" y="7461"/>
                </a:cubicBezTo>
                <a:cubicBezTo>
                  <a:pt x="8038" y="7449"/>
                  <a:pt x="8050" y="7424"/>
                  <a:pt x="8096" y="7398"/>
                </a:cubicBezTo>
                <a:cubicBezTo>
                  <a:pt x="8150" y="7368"/>
                  <a:pt x="8167" y="7360"/>
                  <a:pt x="8223" y="7398"/>
                </a:cubicBezTo>
                <a:cubicBezTo>
                  <a:pt x="8261" y="7424"/>
                  <a:pt x="8307" y="7474"/>
                  <a:pt x="8350" y="7493"/>
                </a:cubicBezTo>
                <a:cubicBezTo>
                  <a:pt x="8397" y="7514"/>
                  <a:pt x="8454" y="7525"/>
                  <a:pt x="8509" y="7525"/>
                </a:cubicBezTo>
                <a:cubicBezTo>
                  <a:pt x="8585" y="7525"/>
                  <a:pt x="8642" y="7482"/>
                  <a:pt x="8700" y="7430"/>
                </a:cubicBezTo>
                <a:cubicBezTo>
                  <a:pt x="8757" y="7378"/>
                  <a:pt x="8769" y="7309"/>
                  <a:pt x="8795" y="7239"/>
                </a:cubicBezTo>
              </a:path>
              <a:path w="9780" h="3303">
                <a:moveTo>
                  <a:pt x="8572" y="6572"/>
                </a:moveTo>
                <a:cubicBezTo>
                  <a:pt x="8572" y="6913"/>
                  <a:pt x="8573" y="7251"/>
                  <a:pt x="8541" y="7588"/>
                </a:cubicBezTo>
                <a:cubicBezTo>
                  <a:pt x="8528" y="7726"/>
                  <a:pt x="8514" y="7865"/>
                  <a:pt x="8509" y="8001"/>
                </a:cubicBezTo>
                <a:cubicBezTo>
                  <a:pt x="8505" y="8112"/>
                  <a:pt x="8517" y="8186"/>
                  <a:pt x="8541" y="8287"/>
                </a:cubicBezTo>
                <a:cubicBezTo>
                  <a:pt x="8541" y="8297"/>
                  <a:pt x="8541" y="8308"/>
                  <a:pt x="8541" y="8318"/>
                </a:cubicBezTo>
              </a:path>
              <a:path w="9780" h="3303">
                <a:moveTo>
                  <a:pt x="9112" y="7302"/>
                </a:moveTo>
                <a:cubicBezTo>
                  <a:pt x="9183" y="7316"/>
                  <a:pt x="9227" y="7334"/>
                  <a:pt x="9303" y="7334"/>
                </a:cubicBezTo>
                <a:cubicBezTo>
                  <a:pt x="9400" y="7334"/>
                  <a:pt x="9496" y="7343"/>
                  <a:pt x="9588" y="7366"/>
                </a:cubicBezTo>
                <a:cubicBezTo>
                  <a:pt x="9667" y="7386"/>
                  <a:pt x="9701" y="7398"/>
                  <a:pt x="9779" y="7398"/>
                </a:cubicBezTo>
              </a:path>
              <a:path w="9780" h="3303">
                <a:moveTo>
                  <a:pt x="9049" y="7779"/>
                </a:moveTo>
                <a:cubicBezTo>
                  <a:pt x="9066" y="7830"/>
                  <a:pt x="9112" y="7810"/>
                  <a:pt x="9176" y="7810"/>
                </a:cubicBezTo>
                <a:cubicBezTo>
                  <a:pt x="9294" y="7810"/>
                  <a:pt x="9380" y="7826"/>
                  <a:pt x="9493" y="7842"/>
                </a:cubicBezTo>
                <a:cubicBezTo>
                  <a:pt x="9578" y="7854"/>
                  <a:pt x="9635" y="7853"/>
                  <a:pt x="9716" y="7874"/>
                </a:cubicBezTo>
                <a:cubicBezTo>
                  <a:pt x="9726" y="7874"/>
                  <a:pt x="9737" y="7874"/>
                  <a:pt x="9747" y="7874"/>
                </a:cubicBezTo>
              </a:path>
              <a:path w="9780" h="3303">
                <a:moveTo>
                  <a:pt x="10382" y="6668"/>
                </a:moveTo>
                <a:cubicBezTo>
                  <a:pt x="10382" y="6801"/>
                  <a:pt x="10365" y="6919"/>
                  <a:pt x="10350" y="7048"/>
                </a:cubicBezTo>
                <a:cubicBezTo>
                  <a:pt x="10338" y="7152"/>
                  <a:pt x="10323" y="7263"/>
                  <a:pt x="10319" y="7366"/>
                </a:cubicBezTo>
                <a:cubicBezTo>
                  <a:pt x="10315" y="7461"/>
                  <a:pt x="10287" y="7526"/>
                  <a:pt x="10287" y="7620"/>
                </a:cubicBezTo>
                <a:cubicBezTo>
                  <a:pt x="10287" y="7652"/>
                  <a:pt x="10287" y="7663"/>
                  <a:pt x="10287" y="7684"/>
                </a:cubicBezTo>
                <a:cubicBezTo>
                  <a:pt x="10295" y="7651"/>
                  <a:pt x="10314" y="7574"/>
                  <a:pt x="10350" y="7556"/>
                </a:cubicBezTo>
                <a:cubicBezTo>
                  <a:pt x="10384" y="7539"/>
                  <a:pt x="10442" y="7505"/>
                  <a:pt x="10478" y="7493"/>
                </a:cubicBezTo>
                <a:cubicBezTo>
                  <a:pt x="10486" y="7490"/>
                  <a:pt x="10591" y="7518"/>
                  <a:pt x="10604" y="7525"/>
                </a:cubicBezTo>
                <a:cubicBezTo>
                  <a:pt x="10649" y="7549"/>
                  <a:pt x="10721" y="7563"/>
                  <a:pt x="10763" y="7588"/>
                </a:cubicBezTo>
                <a:cubicBezTo>
                  <a:pt x="10827" y="7627"/>
                  <a:pt x="10875" y="7620"/>
                  <a:pt x="10954" y="7620"/>
                </a:cubicBezTo>
                <a:cubicBezTo>
                  <a:pt x="11025" y="7620"/>
                  <a:pt x="11057" y="7601"/>
                  <a:pt x="11112" y="7556"/>
                </a:cubicBezTo>
              </a:path>
              <a:path w="9780" h="3303">
                <a:moveTo>
                  <a:pt x="11049" y="6636"/>
                </a:moveTo>
                <a:cubicBezTo>
                  <a:pt x="11049" y="6799"/>
                  <a:pt x="11032" y="6954"/>
                  <a:pt x="11017" y="7112"/>
                </a:cubicBezTo>
                <a:cubicBezTo>
                  <a:pt x="11002" y="7276"/>
                  <a:pt x="10942" y="7428"/>
                  <a:pt x="10922" y="7588"/>
                </a:cubicBezTo>
                <a:cubicBezTo>
                  <a:pt x="10904" y="7737"/>
                  <a:pt x="10865" y="7882"/>
                  <a:pt x="10858" y="8033"/>
                </a:cubicBezTo>
                <a:cubicBezTo>
                  <a:pt x="10854" y="8121"/>
                  <a:pt x="10827" y="8197"/>
                  <a:pt x="10827" y="8287"/>
                </a:cubicBezTo>
                <a:cubicBezTo>
                  <a:pt x="10827" y="8318"/>
                  <a:pt x="10827" y="8329"/>
                  <a:pt x="10827" y="8350"/>
                </a:cubicBezTo>
              </a:path>
              <a:path w="9780" h="3303">
                <a:moveTo>
                  <a:pt x="12224" y="6064"/>
                </a:moveTo>
                <a:cubicBezTo>
                  <a:pt x="12178" y="6116"/>
                  <a:pt x="12140" y="6172"/>
                  <a:pt x="12097" y="6223"/>
                </a:cubicBezTo>
                <a:cubicBezTo>
                  <a:pt x="12015" y="6321"/>
                  <a:pt x="11913" y="6434"/>
                  <a:pt x="11843" y="6540"/>
                </a:cubicBezTo>
                <a:cubicBezTo>
                  <a:pt x="11738" y="6700"/>
                  <a:pt x="11634" y="6871"/>
                  <a:pt x="11557" y="7048"/>
                </a:cubicBezTo>
                <a:cubicBezTo>
                  <a:pt x="11478" y="7230"/>
                  <a:pt x="11417" y="7429"/>
                  <a:pt x="11366" y="7620"/>
                </a:cubicBezTo>
                <a:cubicBezTo>
                  <a:pt x="11325" y="7771"/>
                  <a:pt x="11310" y="7971"/>
                  <a:pt x="11335" y="8128"/>
                </a:cubicBezTo>
                <a:cubicBezTo>
                  <a:pt x="11355" y="8254"/>
                  <a:pt x="11411" y="8392"/>
                  <a:pt x="11462" y="8509"/>
                </a:cubicBezTo>
                <a:cubicBezTo>
                  <a:pt x="11502" y="8602"/>
                  <a:pt x="11551" y="8658"/>
                  <a:pt x="11620" y="8731"/>
                </a:cubicBezTo>
                <a:cubicBezTo>
                  <a:pt x="11659" y="8772"/>
                  <a:pt x="11686" y="8810"/>
                  <a:pt x="11748" y="8795"/>
                </a:cubicBezTo>
                <a:cubicBezTo>
                  <a:pt x="11801" y="8783"/>
                  <a:pt x="11803" y="8729"/>
                  <a:pt x="11811" y="8668"/>
                </a:cubicBezTo>
              </a:path>
              <a:path w="9780" h="3303">
                <a:moveTo>
                  <a:pt x="12160" y="7017"/>
                </a:moveTo>
                <a:cubicBezTo>
                  <a:pt x="12178" y="7070"/>
                  <a:pt x="12239" y="7116"/>
                  <a:pt x="12256" y="7207"/>
                </a:cubicBezTo>
                <a:cubicBezTo>
                  <a:pt x="12280" y="7332"/>
                  <a:pt x="12294" y="7465"/>
                  <a:pt x="12319" y="7588"/>
                </a:cubicBezTo>
                <a:cubicBezTo>
                  <a:pt x="12349" y="7739"/>
                  <a:pt x="12450" y="7866"/>
                  <a:pt x="12510" y="8001"/>
                </a:cubicBezTo>
                <a:cubicBezTo>
                  <a:pt x="12563" y="8120"/>
                  <a:pt x="12630" y="8184"/>
                  <a:pt x="12700" y="8287"/>
                </a:cubicBezTo>
                <a:cubicBezTo>
                  <a:pt x="12751" y="8363"/>
                  <a:pt x="12741" y="8350"/>
                  <a:pt x="12827" y="8350"/>
                </a:cubicBezTo>
              </a:path>
              <a:path w="9780" h="3303">
                <a:moveTo>
                  <a:pt x="12732" y="7144"/>
                </a:moveTo>
                <a:cubicBezTo>
                  <a:pt x="12654" y="7163"/>
                  <a:pt x="12641" y="7230"/>
                  <a:pt x="12605" y="7302"/>
                </a:cubicBezTo>
                <a:cubicBezTo>
                  <a:pt x="12545" y="7422"/>
                  <a:pt x="12476" y="7534"/>
                  <a:pt x="12414" y="7652"/>
                </a:cubicBezTo>
                <a:cubicBezTo>
                  <a:pt x="12340" y="7791"/>
                  <a:pt x="12256" y="7932"/>
                  <a:pt x="12192" y="8064"/>
                </a:cubicBezTo>
                <a:cubicBezTo>
                  <a:pt x="12145" y="8161"/>
                  <a:pt x="12096" y="8258"/>
                  <a:pt x="12033" y="8350"/>
                </a:cubicBezTo>
                <a:cubicBezTo>
                  <a:pt x="12005" y="8379"/>
                  <a:pt x="11995" y="8394"/>
                  <a:pt x="12002" y="8350"/>
                </a:cubicBezTo>
              </a:path>
              <a:path w="9780" h="3303">
                <a:moveTo>
                  <a:pt x="13335" y="7302"/>
                </a:moveTo>
                <a:cubicBezTo>
                  <a:pt x="13396" y="7317"/>
                  <a:pt x="13419" y="7356"/>
                  <a:pt x="13398" y="7430"/>
                </a:cubicBezTo>
                <a:cubicBezTo>
                  <a:pt x="13367" y="7537"/>
                  <a:pt x="13340" y="7634"/>
                  <a:pt x="13335" y="7747"/>
                </a:cubicBezTo>
                <a:cubicBezTo>
                  <a:pt x="13330" y="7844"/>
                  <a:pt x="13352" y="7913"/>
                  <a:pt x="13367" y="8001"/>
                </a:cubicBezTo>
                <a:cubicBezTo>
                  <a:pt x="13375" y="8049"/>
                  <a:pt x="13367" y="8110"/>
                  <a:pt x="13367" y="8160"/>
                </a:cubicBezTo>
              </a:path>
              <a:path w="9780" h="3303">
                <a:moveTo>
                  <a:pt x="13113" y="7747"/>
                </a:moveTo>
                <a:cubicBezTo>
                  <a:pt x="13131" y="7804"/>
                  <a:pt x="13204" y="7779"/>
                  <a:pt x="13272" y="7779"/>
                </a:cubicBezTo>
                <a:cubicBezTo>
                  <a:pt x="13385" y="7779"/>
                  <a:pt x="13480" y="7806"/>
                  <a:pt x="13589" y="7810"/>
                </a:cubicBezTo>
                <a:cubicBezTo>
                  <a:pt x="13684" y="7814"/>
                  <a:pt x="13727" y="7810"/>
                  <a:pt x="13811" y="7779"/>
                </a:cubicBezTo>
              </a:path>
              <a:path w="9780" h="3303">
                <a:moveTo>
                  <a:pt x="14034" y="7366"/>
                </a:moveTo>
                <a:cubicBezTo>
                  <a:pt x="14060" y="7300"/>
                  <a:pt x="14102" y="7243"/>
                  <a:pt x="14129" y="7176"/>
                </a:cubicBezTo>
                <a:cubicBezTo>
                  <a:pt x="14164" y="7089"/>
                  <a:pt x="14185" y="7080"/>
                  <a:pt x="14256" y="7017"/>
                </a:cubicBezTo>
                <a:cubicBezTo>
                  <a:pt x="14303" y="6975"/>
                  <a:pt x="14357" y="6934"/>
                  <a:pt x="14414" y="6922"/>
                </a:cubicBezTo>
                <a:cubicBezTo>
                  <a:pt x="14497" y="6904"/>
                  <a:pt x="14506" y="6980"/>
                  <a:pt x="14510" y="7048"/>
                </a:cubicBezTo>
                <a:cubicBezTo>
                  <a:pt x="14516" y="7151"/>
                  <a:pt x="14447" y="7268"/>
                  <a:pt x="14414" y="7366"/>
                </a:cubicBezTo>
                <a:cubicBezTo>
                  <a:pt x="14366" y="7512"/>
                  <a:pt x="14276" y="7640"/>
                  <a:pt x="14224" y="7779"/>
                </a:cubicBezTo>
                <a:cubicBezTo>
                  <a:pt x="14172" y="7917"/>
                  <a:pt x="14134" y="8003"/>
                  <a:pt x="14065" y="8128"/>
                </a:cubicBezTo>
                <a:cubicBezTo>
                  <a:pt x="14034" y="8184"/>
                  <a:pt x="14035" y="8266"/>
                  <a:pt x="14002" y="8287"/>
                </a:cubicBezTo>
                <a:cubicBezTo>
                  <a:pt x="13991" y="8287"/>
                  <a:pt x="13981" y="8287"/>
                  <a:pt x="13970" y="8287"/>
                </a:cubicBezTo>
                <a:cubicBezTo>
                  <a:pt x="14009" y="8239"/>
                  <a:pt x="14024" y="8226"/>
                  <a:pt x="14065" y="8192"/>
                </a:cubicBezTo>
                <a:cubicBezTo>
                  <a:pt x="14130" y="8138"/>
                  <a:pt x="14161" y="8107"/>
                  <a:pt x="14256" y="8128"/>
                </a:cubicBezTo>
                <a:cubicBezTo>
                  <a:pt x="14318" y="8142"/>
                  <a:pt x="14423" y="8167"/>
                  <a:pt x="14478" y="8192"/>
                </a:cubicBezTo>
                <a:cubicBezTo>
                  <a:pt x="14558" y="8228"/>
                  <a:pt x="14622" y="8306"/>
                  <a:pt x="14700" y="8350"/>
                </a:cubicBezTo>
                <a:cubicBezTo>
                  <a:pt x="14766" y="8387"/>
                  <a:pt x="14826" y="8417"/>
                  <a:pt x="14891" y="8446"/>
                </a:cubicBezTo>
                <a:cubicBezTo>
                  <a:pt x="14978" y="8485"/>
                  <a:pt x="15007" y="8443"/>
                  <a:pt x="15081" y="8382"/>
                </a:cubicBezTo>
              </a:path>
              <a:path w="9780" h="3303">
                <a:moveTo>
                  <a:pt x="15081" y="6255"/>
                </a:moveTo>
                <a:cubicBezTo>
                  <a:pt x="15135" y="6316"/>
                  <a:pt x="15177" y="6366"/>
                  <a:pt x="15208" y="6445"/>
                </a:cubicBezTo>
                <a:cubicBezTo>
                  <a:pt x="15272" y="6606"/>
                  <a:pt x="15347" y="6753"/>
                  <a:pt x="15399" y="6922"/>
                </a:cubicBezTo>
                <a:cubicBezTo>
                  <a:pt x="15466" y="7140"/>
                  <a:pt x="15539" y="7366"/>
                  <a:pt x="15589" y="7588"/>
                </a:cubicBezTo>
                <a:cubicBezTo>
                  <a:pt x="15642" y="7821"/>
                  <a:pt x="15648" y="8080"/>
                  <a:pt x="15653" y="8318"/>
                </a:cubicBezTo>
                <a:cubicBezTo>
                  <a:pt x="15657" y="8525"/>
                  <a:pt x="15607" y="8722"/>
                  <a:pt x="15558" y="8922"/>
                </a:cubicBezTo>
                <a:cubicBezTo>
                  <a:pt x="15518" y="9085"/>
                  <a:pt x="15420" y="9207"/>
                  <a:pt x="15367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nk 7"/>
          <p:cNvSpPr/>
          <p:nvPr/>
        </p:nvSpPr>
        <p:spPr>
          <a:xfrm>
            <a:off x="2239920" y="3292560"/>
            <a:ext cx="2413080" cy="628560"/>
          </a:xfrm>
          <a:custGeom>
            <a:avLst/>
            <a:gdLst/>
            <a:ahLst/>
            <a:rect l="l" t="t" r="r" b="b"/>
            <a:pathLst>
              <a:path w="6700" h="1747">
                <a:moveTo>
                  <a:pt x="6572" y="9208"/>
                </a:moveTo>
                <a:cubicBezTo>
                  <a:pt x="6599" y="9228"/>
                  <a:pt x="6609" y="9219"/>
                  <a:pt x="6636" y="9239"/>
                </a:cubicBezTo>
                <a:cubicBezTo>
                  <a:pt x="6602" y="9290"/>
                  <a:pt x="6593" y="9338"/>
                  <a:pt x="6572" y="9398"/>
                </a:cubicBezTo>
                <a:cubicBezTo>
                  <a:pt x="6535" y="9504"/>
                  <a:pt x="6493" y="9605"/>
                  <a:pt x="6477" y="9716"/>
                </a:cubicBezTo>
                <a:cubicBezTo>
                  <a:pt x="6462" y="9819"/>
                  <a:pt x="6469" y="9842"/>
                  <a:pt x="6477" y="9938"/>
                </a:cubicBezTo>
                <a:cubicBezTo>
                  <a:pt x="6477" y="9949"/>
                  <a:pt x="6477" y="9959"/>
                  <a:pt x="6477" y="9970"/>
                </a:cubicBezTo>
                <a:cubicBezTo>
                  <a:pt x="6534" y="9970"/>
                  <a:pt x="6598" y="9987"/>
                  <a:pt x="6636" y="9938"/>
                </a:cubicBezTo>
                <a:cubicBezTo>
                  <a:pt x="6698" y="9857"/>
                  <a:pt x="6770" y="9769"/>
                  <a:pt x="6826" y="9684"/>
                </a:cubicBezTo>
                <a:cubicBezTo>
                  <a:pt x="6884" y="9596"/>
                  <a:pt x="6903" y="9487"/>
                  <a:pt x="6953" y="9398"/>
                </a:cubicBezTo>
                <a:cubicBezTo>
                  <a:pt x="6953" y="9366"/>
                  <a:pt x="6953" y="9355"/>
                  <a:pt x="6985" y="9366"/>
                </a:cubicBezTo>
                <a:cubicBezTo>
                  <a:pt x="6985" y="9430"/>
                  <a:pt x="7000" y="9431"/>
                  <a:pt x="6985" y="9493"/>
                </a:cubicBezTo>
                <a:cubicBezTo>
                  <a:pt x="6954" y="9621"/>
                  <a:pt x="6926" y="9737"/>
                  <a:pt x="6922" y="9874"/>
                </a:cubicBezTo>
                <a:cubicBezTo>
                  <a:pt x="6917" y="10024"/>
                  <a:pt x="6914" y="10202"/>
                  <a:pt x="6890" y="10350"/>
                </a:cubicBezTo>
                <a:cubicBezTo>
                  <a:pt x="6870" y="10476"/>
                  <a:pt x="6813" y="10615"/>
                  <a:pt x="6763" y="10732"/>
                </a:cubicBezTo>
                <a:cubicBezTo>
                  <a:pt x="6736" y="10795"/>
                  <a:pt x="6643" y="10873"/>
                  <a:pt x="6572" y="10890"/>
                </a:cubicBezTo>
                <a:cubicBezTo>
                  <a:pt x="6498" y="10907"/>
                  <a:pt x="6377" y="10836"/>
                  <a:pt x="6318" y="10795"/>
                </a:cubicBezTo>
                <a:cubicBezTo>
                  <a:pt x="6257" y="10753"/>
                  <a:pt x="6227" y="10669"/>
                  <a:pt x="6223" y="10604"/>
                </a:cubicBezTo>
                <a:cubicBezTo>
                  <a:pt x="6218" y="10524"/>
                  <a:pt x="6228" y="10487"/>
                  <a:pt x="6255" y="10414"/>
                </a:cubicBezTo>
              </a:path>
              <a:path w="6700" h="1747">
                <a:moveTo>
                  <a:pt x="7176" y="9811"/>
                </a:moveTo>
                <a:cubicBezTo>
                  <a:pt x="7176" y="9800"/>
                  <a:pt x="7176" y="9790"/>
                  <a:pt x="7176" y="9779"/>
                </a:cubicBezTo>
                <a:cubicBezTo>
                  <a:pt x="7313" y="9779"/>
                  <a:pt x="7451" y="9779"/>
                  <a:pt x="7588" y="9779"/>
                </a:cubicBezTo>
              </a:path>
              <a:path w="6700" h="1747">
                <a:moveTo>
                  <a:pt x="7906" y="9208"/>
                </a:moveTo>
                <a:cubicBezTo>
                  <a:pt x="7906" y="9281"/>
                  <a:pt x="7883" y="9342"/>
                  <a:pt x="7874" y="9398"/>
                </a:cubicBezTo>
                <a:cubicBezTo>
                  <a:pt x="7856" y="9509"/>
                  <a:pt x="7847" y="9635"/>
                  <a:pt x="7842" y="9747"/>
                </a:cubicBezTo>
                <a:cubicBezTo>
                  <a:pt x="7837" y="9866"/>
                  <a:pt x="7810" y="9973"/>
                  <a:pt x="7810" y="10096"/>
                </a:cubicBezTo>
                <a:cubicBezTo>
                  <a:pt x="7810" y="10169"/>
                  <a:pt x="7813" y="10197"/>
                  <a:pt x="7779" y="10255"/>
                </a:cubicBezTo>
              </a:path>
              <a:path w="6700" h="1747">
                <a:moveTo>
                  <a:pt x="8223" y="9303"/>
                </a:moveTo>
                <a:cubicBezTo>
                  <a:pt x="8223" y="9448"/>
                  <a:pt x="8217" y="9589"/>
                  <a:pt x="8192" y="9716"/>
                </a:cubicBezTo>
                <a:cubicBezTo>
                  <a:pt x="8179" y="9780"/>
                  <a:pt x="8166" y="9849"/>
                  <a:pt x="8160" y="9906"/>
                </a:cubicBezTo>
                <a:cubicBezTo>
                  <a:pt x="8160" y="9917"/>
                  <a:pt x="8160" y="9927"/>
                  <a:pt x="8160" y="9938"/>
                </a:cubicBezTo>
                <a:cubicBezTo>
                  <a:pt x="8204" y="9923"/>
                  <a:pt x="8198" y="9893"/>
                  <a:pt x="8255" y="9874"/>
                </a:cubicBezTo>
                <a:cubicBezTo>
                  <a:pt x="8321" y="9852"/>
                  <a:pt x="8396" y="9891"/>
                  <a:pt x="8446" y="9906"/>
                </a:cubicBezTo>
                <a:cubicBezTo>
                  <a:pt x="8507" y="9925"/>
                  <a:pt x="8621" y="9919"/>
                  <a:pt x="8636" y="9874"/>
                </a:cubicBezTo>
              </a:path>
              <a:path w="6700" h="1747">
                <a:moveTo>
                  <a:pt x="8636" y="9303"/>
                </a:moveTo>
                <a:cubicBezTo>
                  <a:pt x="8636" y="9384"/>
                  <a:pt x="8621" y="9480"/>
                  <a:pt x="8604" y="9557"/>
                </a:cubicBezTo>
                <a:cubicBezTo>
                  <a:pt x="8577" y="9679"/>
                  <a:pt x="8524" y="9814"/>
                  <a:pt x="8509" y="9938"/>
                </a:cubicBezTo>
                <a:cubicBezTo>
                  <a:pt x="8493" y="10065"/>
                  <a:pt x="8453" y="10192"/>
                  <a:pt x="8446" y="10319"/>
                </a:cubicBezTo>
                <a:cubicBezTo>
                  <a:pt x="8443" y="10369"/>
                  <a:pt x="8388" y="10462"/>
                  <a:pt x="8414" y="10509"/>
                </a:cubicBezTo>
                <a:cubicBezTo>
                  <a:pt x="8425" y="10520"/>
                  <a:pt x="8435" y="10530"/>
                  <a:pt x="8446" y="10541"/>
                </a:cubicBezTo>
              </a:path>
              <a:path w="6700" h="1747">
                <a:moveTo>
                  <a:pt x="8890" y="9747"/>
                </a:moveTo>
                <a:cubicBezTo>
                  <a:pt x="8968" y="9747"/>
                  <a:pt x="9006" y="9734"/>
                  <a:pt x="9080" y="9716"/>
                </a:cubicBezTo>
                <a:cubicBezTo>
                  <a:pt x="9130" y="9704"/>
                  <a:pt x="9164" y="9729"/>
                  <a:pt x="9208" y="9747"/>
                </a:cubicBezTo>
              </a:path>
              <a:path w="6700" h="1747">
                <a:moveTo>
                  <a:pt x="8922" y="10033"/>
                </a:moveTo>
                <a:cubicBezTo>
                  <a:pt x="9038" y="10033"/>
                  <a:pt x="9155" y="10033"/>
                  <a:pt x="9271" y="10033"/>
                </a:cubicBezTo>
              </a:path>
              <a:path w="6700" h="1747">
                <a:moveTo>
                  <a:pt x="9811" y="9239"/>
                </a:moveTo>
                <a:cubicBezTo>
                  <a:pt x="9811" y="9300"/>
                  <a:pt x="9786" y="9353"/>
                  <a:pt x="9779" y="9398"/>
                </a:cubicBezTo>
                <a:cubicBezTo>
                  <a:pt x="9765" y="9490"/>
                  <a:pt x="9750" y="9566"/>
                  <a:pt x="9716" y="9652"/>
                </a:cubicBezTo>
                <a:cubicBezTo>
                  <a:pt x="9694" y="9707"/>
                  <a:pt x="9658" y="9758"/>
                  <a:pt x="9652" y="9811"/>
                </a:cubicBezTo>
                <a:cubicBezTo>
                  <a:pt x="9644" y="9881"/>
                  <a:pt x="9674" y="9784"/>
                  <a:pt x="9684" y="9779"/>
                </a:cubicBezTo>
                <a:cubicBezTo>
                  <a:pt x="9706" y="9768"/>
                  <a:pt x="9827" y="9741"/>
                  <a:pt x="9842" y="9747"/>
                </a:cubicBezTo>
                <a:cubicBezTo>
                  <a:pt x="9894" y="9768"/>
                  <a:pt x="9949" y="9789"/>
                  <a:pt x="10001" y="9811"/>
                </a:cubicBezTo>
                <a:cubicBezTo>
                  <a:pt x="10035" y="9825"/>
                  <a:pt x="10116" y="9866"/>
                  <a:pt x="10160" y="9842"/>
                </a:cubicBezTo>
                <a:cubicBezTo>
                  <a:pt x="10194" y="9824"/>
                  <a:pt x="10228" y="9774"/>
                  <a:pt x="10255" y="9747"/>
                </a:cubicBezTo>
              </a:path>
              <a:path w="6700" h="1747">
                <a:moveTo>
                  <a:pt x="10255" y="9144"/>
                </a:moveTo>
                <a:cubicBezTo>
                  <a:pt x="10255" y="9226"/>
                  <a:pt x="10227" y="9286"/>
                  <a:pt x="10224" y="9366"/>
                </a:cubicBezTo>
                <a:cubicBezTo>
                  <a:pt x="10219" y="9495"/>
                  <a:pt x="10220" y="9623"/>
                  <a:pt x="10192" y="9747"/>
                </a:cubicBezTo>
                <a:cubicBezTo>
                  <a:pt x="10164" y="9874"/>
                  <a:pt x="10119" y="10000"/>
                  <a:pt x="10096" y="10128"/>
                </a:cubicBezTo>
                <a:cubicBezTo>
                  <a:pt x="10084" y="10193"/>
                  <a:pt x="10065" y="10252"/>
                  <a:pt x="10065" y="10319"/>
                </a:cubicBezTo>
              </a:path>
              <a:path w="6700" h="1747">
                <a:moveTo>
                  <a:pt x="10478" y="9620"/>
                </a:moveTo>
                <a:cubicBezTo>
                  <a:pt x="10512" y="9667"/>
                  <a:pt x="10559" y="9750"/>
                  <a:pt x="10573" y="9811"/>
                </a:cubicBezTo>
                <a:cubicBezTo>
                  <a:pt x="10598" y="9922"/>
                  <a:pt x="10670" y="9997"/>
                  <a:pt x="10732" y="10096"/>
                </a:cubicBezTo>
                <a:cubicBezTo>
                  <a:pt x="10796" y="10198"/>
                  <a:pt x="10860" y="10248"/>
                  <a:pt x="10954" y="10319"/>
                </a:cubicBezTo>
                <a:cubicBezTo>
                  <a:pt x="11029" y="10375"/>
                  <a:pt x="10997" y="10371"/>
                  <a:pt x="11081" y="10350"/>
                </a:cubicBezTo>
              </a:path>
              <a:path w="6700" h="1747">
                <a:moveTo>
                  <a:pt x="10986" y="9652"/>
                </a:moveTo>
                <a:cubicBezTo>
                  <a:pt x="10929" y="9709"/>
                  <a:pt x="10888" y="9765"/>
                  <a:pt x="10858" y="9842"/>
                </a:cubicBezTo>
                <a:cubicBezTo>
                  <a:pt x="10813" y="9958"/>
                  <a:pt x="10746" y="10092"/>
                  <a:pt x="10668" y="10192"/>
                </a:cubicBezTo>
                <a:cubicBezTo>
                  <a:pt x="10600" y="10280"/>
                  <a:pt x="10525" y="10366"/>
                  <a:pt x="10446" y="10446"/>
                </a:cubicBezTo>
                <a:cubicBezTo>
                  <a:pt x="10417" y="10475"/>
                  <a:pt x="10407" y="10481"/>
                  <a:pt x="10414" y="10509"/>
                </a:cubicBezTo>
              </a:path>
              <a:path w="6700" h="1747">
                <a:moveTo>
                  <a:pt x="11652" y="9779"/>
                </a:moveTo>
                <a:cubicBezTo>
                  <a:pt x="11663" y="9779"/>
                  <a:pt x="11673" y="9779"/>
                  <a:pt x="11684" y="9779"/>
                </a:cubicBezTo>
              </a:path>
              <a:path w="6700" h="1747">
                <a:moveTo>
                  <a:pt x="11652" y="9779"/>
                </a:moveTo>
                <a:cubicBezTo>
                  <a:pt x="11663" y="9768"/>
                  <a:pt x="11673" y="9758"/>
                  <a:pt x="11684" y="9747"/>
                </a:cubicBezTo>
              </a:path>
              <a:path w="6700" h="1747">
                <a:moveTo>
                  <a:pt x="11684" y="9747"/>
                </a:moveTo>
                <a:lnTo>
                  <a:pt x="11684" y="9747"/>
                </a:lnTo>
              </a:path>
              <a:path w="6700" h="1747">
                <a:moveTo>
                  <a:pt x="11684" y="9779"/>
                </a:moveTo>
                <a:cubicBezTo>
                  <a:pt x="11645" y="9843"/>
                  <a:pt x="11625" y="9920"/>
                  <a:pt x="11620" y="10001"/>
                </a:cubicBezTo>
                <a:cubicBezTo>
                  <a:pt x="11614" y="10115"/>
                  <a:pt x="11618" y="10254"/>
                  <a:pt x="11652" y="10319"/>
                </a:cubicBezTo>
                <a:cubicBezTo>
                  <a:pt x="11652" y="10329"/>
                  <a:pt x="11652" y="10340"/>
                  <a:pt x="11652" y="10350"/>
                </a:cubicBezTo>
              </a:path>
              <a:path w="6700" h="1747">
                <a:moveTo>
                  <a:pt x="11366" y="9970"/>
                </a:moveTo>
                <a:cubicBezTo>
                  <a:pt x="11426" y="10014"/>
                  <a:pt x="11479" y="10001"/>
                  <a:pt x="11557" y="10001"/>
                </a:cubicBezTo>
                <a:cubicBezTo>
                  <a:pt x="11695" y="10001"/>
                  <a:pt x="11832" y="10001"/>
                  <a:pt x="11970" y="10001"/>
                </a:cubicBezTo>
              </a:path>
              <a:path w="6700" h="1747">
                <a:moveTo>
                  <a:pt x="12732" y="9620"/>
                </a:moveTo>
                <a:cubicBezTo>
                  <a:pt x="12761" y="9582"/>
                  <a:pt x="12778" y="9546"/>
                  <a:pt x="12764" y="9493"/>
                </a:cubicBezTo>
                <a:cubicBezTo>
                  <a:pt x="12728" y="9355"/>
                  <a:pt x="12699" y="9366"/>
                  <a:pt x="12573" y="9366"/>
                </a:cubicBezTo>
                <a:cubicBezTo>
                  <a:pt x="12443" y="9366"/>
                  <a:pt x="12432" y="9371"/>
                  <a:pt x="12351" y="9462"/>
                </a:cubicBezTo>
                <a:cubicBezTo>
                  <a:pt x="12298" y="9522"/>
                  <a:pt x="12194" y="9621"/>
                  <a:pt x="12224" y="9716"/>
                </a:cubicBezTo>
                <a:cubicBezTo>
                  <a:pt x="12247" y="9791"/>
                  <a:pt x="12287" y="9853"/>
                  <a:pt x="12382" y="9874"/>
                </a:cubicBezTo>
                <a:cubicBezTo>
                  <a:pt x="12472" y="9894"/>
                  <a:pt x="12595" y="9865"/>
                  <a:pt x="12668" y="9811"/>
                </a:cubicBezTo>
                <a:cubicBezTo>
                  <a:pt x="12759" y="9744"/>
                  <a:pt x="12821" y="9668"/>
                  <a:pt x="12827" y="9557"/>
                </a:cubicBezTo>
                <a:cubicBezTo>
                  <a:pt x="12831" y="9484"/>
                  <a:pt x="12739" y="9396"/>
                  <a:pt x="12668" y="9366"/>
                </a:cubicBezTo>
                <a:cubicBezTo>
                  <a:pt x="12611" y="9342"/>
                  <a:pt x="12550" y="9367"/>
                  <a:pt x="12510" y="9398"/>
                </a:cubicBezTo>
              </a:path>
              <a:path w="6700" h="1747">
                <a:moveTo>
                  <a:pt x="12605" y="10033"/>
                </a:moveTo>
                <a:cubicBezTo>
                  <a:pt x="12577" y="10012"/>
                  <a:pt x="12521" y="9977"/>
                  <a:pt x="12478" y="10001"/>
                </a:cubicBezTo>
                <a:cubicBezTo>
                  <a:pt x="12429" y="10028"/>
                  <a:pt x="12394" y="10053"/>
                  <a:pt x="12351" y="10096"/>
                </a:cubicBezTo>
                <a:cubicBezTo>
                  <a:pt x="12260" y="10187"/>
                  <a:pt x="12230" y="10255"/>
                  <a:pt x="12224" y="10382"/>
                </a:cubicBezTo>
                <a:cubicBezTo>
                  <a:pt x="12219" y="10490"/>
                  <a:pt x="12245" y="10523"/>
                  <a:pt x="12319" y="10604"/>
                </a:cubicBezTo>
                <a:cubicBezTo>
                  <a:pt x="12371" y="10660"/>
                  <a:pt x="12468" y="10636"/>
                  <a:pt x="12541" y="10636"/>
                </a:cubicBezTo>
                <a:cubicBezTo>
                  <a:pt x="12672" y="10636"/>
                  <a:pt x="12757" y="10555"/>
                  <a:pt x="12827" y="10446"/>
                </a:cubicBezTo>
                <a:cubicBezTo>
                  <a:pt x="12899" y="10335"/>
                  <a:pt x="12899" y="10238"/>
                  <a:pt x="12890" y="10128"/>
                </a:cubicBezTo>
                <a:cubicBezTo>
                  <a:pt x="12880" y="10006"/>
                  <a:pt x="12807" y="9918"/>
                  <a:pt x="12700" y="9842"/>
                </a:cubicBezTo>
                <a:cubicBezTo>
                  <a:pt x="12607" y="9776"/>
                  <a:pt x="12564" y="9785"/>
                  <a:pt x="12478" y="9811"/>
                </a:cubicBezTo>
                <a:cubicBezTo>
                  <a:pt x="12442" y="9811"/>
                  <a:pt x="12428" y="9814"/>
                  <a:pt x="12414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nk 8"/>
          <p:cNvSpPr/>
          <p:nvPr/>
        </p:nvSpPr>
        <p:spPr>
          <a:xfrm>
            <a:off x="4079880" y="3886200"/>
            <a:ext cx="573120" cy="514440"/>
          </a:xfrm>
          <a:custGeom>
            <a:avLst/>
            <a:gdLst/>
            <a:ahLst/>
            <a:rect l="l" t="t" r="r" b="b"/>
            <a:pathLst>
              <a:path w="1588" h="1430">
                <a:moveTo>
                  <a:pt x="11589" y="10890"/>
                </a:moveTo>
                <a:cubicBezTo>
                  <a:pt x="11589" y="10956"/>
                  <a:pt x="11565" y="10988"/>
                  <a:pt x="11557" y="11049"/>
                </a:cubicBezTo>
                <a:cubicBezTo>
                  <a:pt x="11542" y="11155"/>
                  <a:pt x="11557" y="11263"/>
                  <a:pt x="11525" y="11366"/>
                </a:cubicBezTo>
                <a:cubicBezTo>
                  <a:pt x="11500" y="11448"/>
                  <a:pt x="11471" y="11536"/>
                  <a:pt x="11462" y="11620"/>
                </a:cubicBezTo>
                <a:cubicBezTo>
                  <a:pt x="11462" y="11631"/>
                  <a:pt x="11462" y="11641"/>
                  <a:pt x="11462" y="11652"/>
                </a:cubicBezTo>
              </a:path>
              <a:path w="1588" h="1430">
                <a:moveTo>
                  <a:pt x="11335" y="11144"/>
                </a:moveTo>
                <a:cubicBezTo>
                  <a:pt x="11393" y="11159"/>
                  <a:pt x="11465" y="11188"/>
                  <a:pt x="11525" y="11208"/>
                </a:cubicBezTo>
                <a:cubicBezTo>
                  <a:pt x="11590" y="11230"/>
                  <a:pt x="11745" y="11278"/>
                  <a:pt x="11811" y="11271"/>
                </a:cubicBezTo>
                <a:cubicBezTo>
                  <a:pt x="11832" y="11261"/>
                  <a:pt x="11853" y="11250"/>
                  <a:pt x="11874" y="11240"/>
                </a:cubicBezTo>
              </a:path>
              <a:path w="1588" h="1430">
                <a:moveTo>
                  <a:pt x="12097" y="10795"/>
                </a:moveTo>
                <a:cubicBezTo>
                  <a:pt x="12097" y="10918"/>
                  <a:pt x="12079" y="11025"/>
                  <a:pt x="12065" y="11144"/>
                </a:cubicBezTo>
                <a:cubicBezTo>
                  <a:pt x="12046" y="11305"/>
                  <a:pt x="11988" y="11460"/>
                  <a:pt x="11970" y="11620"/>
                </a:cubicBezTo>
                <a:cubicBezTo>
                  <a:pt x="11961" y="11698"/>
                  <a:pt x="11882" y="11787"/>
                  <a:pt x="11938" y="11843"/>
                </a:cubicBezTo>
                <a:cubicBezTo>
                  <a:pt x="11982" y="11887"/>
                  <a:pt x="11970" y="11787"/>
                  <a:pt x="11970" y="11779"/>
                </a:cubicBezTo>
              </a:path>
              <a:path w="1588" h="1430">
                <a:moveTo>
                  <a:pt x="12414" y="10922"/>
                </a:moveTo>
                <a:cubicBezTo>
                  <a:pt x="12414" y="10958"/>
                  <a:pt x="12417" y="10972"/>
                  <a:pt x="12446" y="10986"/>
                </a:cubicBezTo>
                <a:cubicBezTo>
                  <a:pt x="12403" y="11056"/>
                  <a:pt x="12387" y="11150"/>
                  <a:pt x="12382" y="11240"/>
                </a:cubicBezTo>
                <a:cubicBezTo>
                  <a:pt x="12378" y="11322"/>
                  <a:pt x="12351" y="11378"/>
                  <a:pt x="12351" y="11462"/>
                </a:cubicBezTo>
                <a:cubicBezTo>
                  <a:pt x="12351" y="11497"/>
                  <a:pt x="12382" y="11521"/>
                  <a:pt x="12414" y="11525"/>
                </a:cubicBezTo>
                <a:cubicBezTo>
                  <a:pt x="12460" y="11531"/>
                  <a:pt x="12487" y="11494"/>
                  <a:pt x="12541" y="11494"/>
                </a:cubicBezTo>
                <a:cubicBezTo>
                  <a:pt x="12617" y="11494"/>
                  <a:pt x="12668" y="11507"/>
                  <a:pt x="12732" y="11525"/>
                </a:cubicBezTo>
                <a:cubicBezTo>
                  <a:pt x="12780" y="11539"/>
                  <a:pt x="12858" y="11491"/>
                  <a:pt x="12890" y="11462"/>
                </a:cubicBezTo>
                <a:cubicBezTo>
                  <a:pt x="12901" y="11451"/>
                  <a:pt x="12911" y="11441"/>
                  <a:pt x="12922" y="11430"/>
                </a:cubicBezTo>
              </a:path>
              <a:path w="1588" h="1430">
                <a:moveTo>
                  <a:pt x="12859" y="10858"/>
                </a:moveTo>
                <a:cubicBezTo>
                  <a:pt x="12859" y="10965"/>
                  <a:pt x="12847" y="11072"/>
                  <a:pt x="12827" y="11176"/>
                </a:cubicBezTo>
                <a:cubicBezTo>
                  <a:pt x="12795" y="11348"/>
                  <a:pt x="12775" y="11513"/>
                  <a:pt x="12732" y="11684"/>
                </a:cubicBezTo>
                <a:cubicBezTo>
                  <a:pt x="12687" y="11863"/>
                  <a:pt x="12649" y="12044"/>
                  <a:pt x="12605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nk 9"/>
          <p:cNvSpPr/>
          <p:nvPr/>
        </p:nvSpPr>
        <p:spPr>
          <a:xfrm>
            <a:off x="2571840" y="3921120"/>
            <a:ext cx="538200" cy="399960"/>
          </a:xfrm>
          <a:custGeom>
            <a:avLst/>
            <a:gdLst/>
            <a:ahLst/>
            <a:rect l="l" t="t" r="r" b="b"/>
            <a:pathLst>
              <a:path w="1493" h="1113">
                <a:moveTo>
                  <a:pt x="7366" y="10922"/>
                </a:moveTo>
                <a:cubicBezTo>
                  <a:pt x="7356" y="10994"/>
                  <a:pt x="7315" y="11049"/>
                  <a:pt x="7302" y="11112"/>
                </a:cubicBezTo>
                <a:cubicBezTo>
                  <a:pt x="7284" y="11203"/>
                  <a:pt x="7303" y="11312"/>
                  <a:pt x="7271" y="11398"/>
                </a:cubicBezTo>
                <a:cubicBezTo>
                  <a:pt x="7246" y="11465"/>
                  <a:pt x="7218" y="11456"/>
                  <a:pt x="7271" y="11525"/>
                </a:cubicBezTo>
              </a:path>
              <a:path w="1493" h="1113">
                <a:moveTo>
                  <a:pt x="7144" y="11144"/>
                </a:moveTo>
                <a:cubicBezTo>
                  <a:pt x="7144" y="11155"/>
                  <a:pt x="7144" y="11165"/>
                  <a:pt x="7144" y="11176"/>
                </a:cubicBezTo>
                <a:cubicBezTo>
                  <a:pt x="7194" y="11189"/>
                  <a:pt x="7214" y="11208"/>
                  <a:pt x="7271" y="11208"/>
                </a:cubicBezTo>
                <a:cubicBezTo>
                  <a:pt x="7345" y="11208"/>
                  <a:pt x="7419" y="11208"/>
                  <a:pt x="7493" y="11208"/>
                </a:cubicBezTo>
              </a:path>
              <a:path w="1493" h="1113">
                <a:moveTo>
                  <a:pt x="7874" y="10890"/>
                </a:moveTo>
                <a:cubicBezTo>
                  <a:pt x="7874" y="10995"/>
                  <a:pt x="7854" y="11075"/>
                  <a:pt x="7842" y="11176"/>
                </a:cubicBezTo>
                <a:cubicBezTo>
                  <a:pt x="7828" y="11297"/>
                  <a:pt x="7817" y="11411"/>
                  <a:pt x="7779" y="11525"/>
                </a:cubicBezTo>
                <a:cubicBezTo>
                  <a:pt x="7753" y="11604"/>
                  <a:pt x="7733" y="11677"/>
                  <a:pt x="7715" y="11748"/>
                </a:cubicBezTo>
              </a:path>
              <a:path w="1493" h="1113">
                <a:moveTo>
                  <a:pt x="8192" y="10922"/>
                </a:moveTo>
                <a:cubicBezTo>
                  <a:pt x="8231" y="10935"/>
                  <a:pt x="8239" y="10992"/>
                  <a:pt x="8223" y="11049"/>
                </a:cubicBezTo>
                <a:cubicBezTo>
                  <a:pt x="8201" y="11124"/>
                  <a:pt x="8178" y="11195"/>
                  <a:pt x="8160" y="11271"/>
                </a:cubicBezTo>
                <a:cubicBezTo>
                  <a:pt x="8149" y="11319"/>
                  <a:pt x="8160" y="11380"/>
                  <a:pt x="8160" y="11430"/>
                </a:cubicBezTo>
                <a:cubicBezTo>
                  <a:pt x="8209" y="11414"/>
                  <a:pt x="8186" y="11398"/>
                  <a:pt x="8255" y="11398"/>
                </a:cubicBezTo>
                <a:cubicBezTo>
                  <a:pt x="8323" y="11398"/>
                  <a:pt x="8361" y="11444"/>
                  <a:pt x="8414" y="11462"/>
                </a:cubicBezTo>
                <a:cubicBezTo>
                  <a:pt x="8474" y="11482"/>
                  <a:pt x="8561" y="11468"/>
                  <a:pt x="8604" y="11430"/>
                </a:cubicBezTo>
                <a:cubicBezTo>
                  <a:pt x="8615" y="11419"/>
                  <a:pt x="8625" y="11409"/>
                  <a:pt x="8636" y="11398"/>
                </a:cubicBezTo>
              </a:path>
              <a:path w="1493" h="1113">
                <a:moveTo>
                  <a:pt x="8572" y="10954"/>
                </a:moveTo>
                <a:cubicBezTo>
                  <a:pt x="8555" y="11022"/>
                  <a:pt x="8518" y="11101"/>
                  <a:pt x="8509" y="11176"/>
                </a:cubicBezTo>
                <a:cubicBezTo>
                  <a:pt x="8493" y="11305"/>
                  <a:pt x="8483" y="11431"/>
                  <a:pt x="8446" y="11557"/>
                </a:cubicBezTo>
                <a:cubicBezTo>
                  <a:pt x="8402" y="11704"/>
                  <a:pt x="8396" y="11851"/>
                  <a:pt x="8350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Ink 10"/>
          <p:cNvSpPr/>
          <p:nvPr/>
        </p:nvSpPr>
        <p:spPr>
          <a:xfrm>
            <a:off x="2446200" y="4583160"/>
            <a:ext cx="1989360" cy="744480"/>
          </a:xfrm>
          <a:custGeom>
            <a:avLst/>
            <a:gdLst/>
            <a:ahLst/>
            <a:rect l="l" t="t" r="r" b="b"/>
            <a:pathLst>
              <a:path w="5526" h="2065">
                <a:moveTo>
                  <a:pt x="7176" y="12890"/>
                </a:moveTo>
                <a:cubicBezTo>
                  <a:pt x="7155" y="12946"/>
                  <a:pt x="7123" y="13017"/>
                  <a:pt x="7112" y="13081"/>
                </a:cubicBezTo>
                <a:cubicBezTo>
                  <a:pt x="7090" y="13211"/>
                  <a:pt x="7034" y="13325"/>
                  <a:pt x="7017" y="13462"/>
                </a:cubicBezTo>
                <a:cubicBezTo>
                  <a:pt x="7008" y="13536"/>
                  <a:pt x="7003" y="13628"/>
                  <a:pt x="7048" y="13684"/>
                </a:cubicBezTo>
                <a:cubicBezTo>
                  <a:pt x="7089" y="13736"/>
                  <a:pt x="7136" y="13793"/>
                  <a:pt x="7207" y="13780"/>
                </a:cubicBezTo>
                <a:cubicBezTo>
                  <a:pt x="7259" y="13770"/>
                  <a:pt x="7361" y="13727"/>
                  <a:pt x="7398" y="13684"/>
                </a:cubicBezTo>
                <a:cubicBezTo>
                  <a:pt x="7477" y="13592"/>
                  <a:pt x="7530" y="13474"/>
                  <a:pt x="7588" y="13367"/>
                </a:cubicBezTo>
                <a:cubicBezTo>
                  <a:pt x="7621" y="13306"/>
                  <a:pt x="7631" y="13239"/>
                  <a:pt x="7652" y="13176"/>
                </a:cubicBezTo>
                <a:cubicBezTo>
                  <a:pt x="7652" y="13247"/>
                  <a:pt x="7627" y="13303"/>
                  <a:pt x="7620" y="13367"/>
                </a:cubicBezTo>
                <a:cubicBezTo>
                  <a:pt x="7606" y="13498"/>
                  <a:pt x="7580" y="13618"/>
                  <a:pt x="7556" y="13748"/>
                </a:cubicBezTo>
                <a:cubicBezTo>
                  <a:pt x="7531" y="13886"/>
                  <a:pt x="7481" y="14023"/>
                  <a:pt x="7461" y="14160"/>
                </a:cubicBezTo>
                <a:cubicBezTo>
                  <a:pt x="7441" y="14293"/>
                  <a:pt x="7419" y="14414"/>
                  <a:pt x="7366" y="14542"/>
                </a:cubicBezTo>
                <a:cubicBezTo>
                  <a:pt x="7339" y="14607"/>
                  <a:pt x="7298" y="14722"/>
                  <a:pt x="7239" y="14764"/>
                </a:cubicBezTo>
                <a:cubicBezTo>
                  <a:pt x="7190" y="14799"/>
                  <a:pt x="7074" y="14818"/>
                  <a:pt x="7017" y="14796"/>
                </a:cubicBezTo>
                <a:cubicBezTo>
                  <a:pt x="6944" y="14768"/>
                  <a:pt x="6903" y="14743"/>
                  <a:pt x="6858" y="14668"/>
                </a:cubicBezTo>
                <a:cubicBezTo>
                  <a:pt x="6811" y="14590"/>
                  <a:pt x="6799" y="14568"/>
                  <a:pt x="6794" y="14478"/>
                </a:cubicBezTo>
                <a:cubicBezTo>
                  <a:pt x="6789" y="14378"/>
                  <a:pt x="6838" y="14383"/>
                  <a:pt x="6890" y="14319"/>
                </a:cubicBezTo>
                <a:cubicBezTo>
                  <a:pt x="6946" y="14250"/>
                  <a:pt x="7014" y="14182"/>
                  <a:pt x="7112" y="14160"/>
                </a:cubicBezTo>
                <a:cubicBezTo>
                  <a:pt x="7171" y="14147"/>
                  <a:pt x="7279" y="14153"/>
                  <a:pt x="7334" y="14129"/>
                </a:cubicBezTo>
                <a:cubicBezTo>
                  <a:pt x="7387" y="14106"/>
                  <a:pt x="7405" y="14076"/>
                  <a:pt x="7461" y="14065"/>
                </a:cubicBezTo>
                <a:cubicBezTo>
                  <a:pt x="7526" y="14052"/>
                  <a:pt x="7491" y="14067"/>
                  <a:pt x="7525" y="14034"/>
                </a:cubicBezTo>
              </a:path>
              <a:path w="5526" h="2065">
                <a:moveTo>
                  <a:pt x="7969" y="13462"/>
                </a:moveTo>
                <a:cubicBezTo>
                  <a:pt x="7969" y="13451"/>
                  <a:pt x="7969" y="13441"/>
                  <a:pt x="7969" y="13430"/>
                </a:cubicBezTo>
                <a:cubicBezTo>
                  <a:pt x="8052" y="13430"/>
                  <a:pt x="8114" y="13449"/>
                  <a:pt x="8192" y="13462"/>
                </a:cubicBezTo>
                <a:cubicBezTo>
                  <a:pt x="8272" y="13475"/>
                  <a:pt x="8339" y="13488"/>
                  <a:pt x="8414" y="13494"/>
                </a:cubicBezTo>
                <a:cubicBezTo>
                  <a:pt x="8445" y="13497"/>
                  <a:pt x="8478" y="13494"/>
                  <a:pt x="8509" y="13494"/>
                </a:cubicBezTo>
              </a:path>
              <a:path w="5526" h="2065">
                <a:moveTo>
                  <a:pt x="8096" y="13843"/>
                </a:moveTo>
                <a:cubicBezTo>
                  <a:pt x="8213" y="13843"/>
                  <a:pt x="8329" y="13843"/>
                  <a:pt x="8446" y="13843"/>
                </a:cubicBezTo>
              </a:path>
              <a:path w="5526" h="2065">
                <a:moveTo>
                  <a:pt x="8890" y="12890"/>
                </a:moveTo>
                <a:cubicBezTo>
                  <a:pt x="8880" y="12929"/>
                  <a:pt x="8874" y="13011"/>
                  <a:pt x="8858" y="13049"/>
                </a:cubicBezTo>
                <a:cubicBezTo>
                  <a:pt x="8830" y="13115"/>
                  <a:pt x="8826" y="13159"/>
                  <a:pt x="8826" y="13240"/>
                </a:cubicBezTo>
                <a:cubicBezTo>
                  <a:pt x="8826" y="13269"/>
                  <a:pt x="8792" y="13419"/>
                  <a:pt x="8795" y="13430"/>
                </a:cubicBezTo>
                <a:cubicBezTo>
                  <a:pt x="8800" y="13449"/>
                  <a:pt x="8854" y="13462"/>
                  <a:pt x="8890" y="13462"/>
                </a:cubicBezTo>
                <a:cubicBezTo>
                  <a:pt x="8969" y="13462"/>
                  <a:pt x="9005" y="13475"/>
                  <a:pt x="9080" y="13494"/>
                </a:cubicBezTo>
                <a:cubicBezTo>
                  <a:pt x="9142" y="13510"/>
                  <a:pt x="9208" y="13510"/>
                  <a:pt x="9271" y="13526"/>
                </a:cubicBezTo>
                <a:cubicBezTo>
                  <a:pt x="9319" y="13538"/>
                  <a:pt x="9368" y="13460"/>
                  <a:pt x="9398" y="13430"/>
                </a:cubicBezTo>
              </a:path>
              <a:path w="5526" h="2065">
                <a:moveTo>
                  <a:pt x="9398" y="12732"/>
                </a:moveTo>
                <a:cubicBezTo>
                  <a:pt x="9385" y="12846"/>
                  <a:pt x="9357" y="12969"/>
                  <a:pt x="9334" y="13081"/>
                </a:cubicBezTo>
                <a:cubicBezTo>
                  <a:pt x="9305" y="13226"/>
                  <a:pt x="9301" y="13382"/>
                  <a:pt x="9271" y="13526"/>
                </a:cubicBezTo>
                <a:cubicBezTo>
                  <a:pt x="9245" y="13653"/>
                  <a:pt x="9199" y="13778"/>
                  <a:pt x="9176" y="13906"/>
                </a:cubicBezTo>
                <a:cubicBezTo>
                  <a:pt x="9165" y="13966"/>
                  <a:pt x="9176" y="14036"/>
                  <a:pt x="9176" y="14097"/>
                </a:cubicBezTo>
              </a:path>
              <a:path w="5526" h="2065">
                <a:moveTo>
                  <a:pt x="9588" y="13272"/>
                </a:moveTo>
                <a:cubicBezTo>
                  <a:pt x="9588" y="13362"/>
                  <a:pt x="9607" y="13446"/>
                  <a:pt x="9652" y="13526"/>
                </a:cubicBezTo>
                <a:cubicBezTo>
                  <a:pt x="9727" y="13659"/>
                  <a:pt x="9783" y="13799"/>
                  <a:pt x="9842" y="13938"/>
                </a:cubicBezTo>
                <a:cubicBezTo>
                  <a:pt x="9887" y="14043"/>
                  <a:pt x="9930" y="14168"/>
                  <a:pt x="10001" y="14256"/>
                </a:cubicBezTo>
                <a:cubicBezTo>
                  <a:pt x="10030" y="14285"/>
                  <a:pt x="10036" y="14296"/>
                  <a:pt x="10065" y="14288"/>
                </a:cubicBezTo>
              </a:path>
              <a:path w="5526" h="2065">
                <a:moveTo>
                  <a:pt x="10065" y="13367"/>
                </a:moveTo>
                <a:cubicBezTo>
                  <a:pt x="10016" y="13464"/>
                  <a:pt x="10017" y="13558"/>
                  <a:pt x="9970" y="13652"/>
                </a:cubicBezTo>
                <a:cubicBezTo>
                  <a:pt x="9904" y="13784"/>
                  <a:pt x="9830" y="13909"/>
                  <a:pt x="9747" y="14034"/>
                </a:cubicBezTo>
                <a:cubicBezTo>
                  <a:pt x="9663" y="14161"/>
                  <a:pt x="9578" y="14287"/>
                  <a:pt x="9493" y="14414"/>
                </a:cubicBezTo>
              </a:path>
              <a:path w="5526" h="2065">
                <a:moveTo>
                  <a:pt x="10763" y="13144"/>
                </a:moveTo>
                <a:cubicBezTo>
                  <a:pt x="10763" y="13215"/>
                  <a:pt x="10748" y="13300"/>
                  <a:pt x="10732" y="13367"/>
                </a:cubicBezTo>
                <a:cubicBezTo>
                  <a:pt x="10696" y="13524"/>
                  <a:pt x="10703" y="13687"/>
                  <a:pt x="10668" y="13843"/>
                </a:cubicBezTo>
                <a:cubicBezTo>
                  <a:pt x="10647" y="13936"/>
                  <a:pt x="10636" y="14001"/>
                  <a:pt x="10636" y="14097"/>
                </a:cubicBezTo>
              </a:path>
              <a:path w="5526" h="2065">
                <a:moveTo>
                  <a:pt x="10478" y="13621"/>
                </a:moveTo>
                <a:cubicBezTo>
                  <a:pt x="10563" y="13621"/>
                  <a:pt x="10616" y="13668"/>
                  <a:pt x="10700" y="13684"/>
                </a:cubicBezTo>
                <a:cubicBezTo>
                  <a:pt x="10778" y="13699"/>
                  <a:pt x="10841" y="13709"/>
                  <a:pt x="10922" y="13716"/>
                </a:cubicBezTo>
              </a:path>
              <a:path w="5526" h="2065">
                <a:moveTo>
                  <a:pt x="11208" y="13176"/>
                </a:moveTo>
                <a:cubicBezTo>
                  <a:pt x="11250" y="13166"/>
                  <a:pt x="11329" y="13131"/>
                  <a:pt x="11366" y="13113"/>
                </a:cubicBezTo>
                <a:cubicBezTo>
                  <a:pt x="11450" y="13071"/>
                  <a:pt x="11450" y="13088"/>
                  <a:pt x="11525" y="13113"/>
                </a:cubicBezTo>
                <a:cubicBezTo>
                  <a:pt x="11569" y="13128"/>
                  <a:pt x="11612" y="13144"/>
                  <a:pt x="11589" y="13208"/>
                </a:cubicBezTo>
                <a:cubicBezTo>
                  <a:pt x="11564" y="13277"/>
                  <a:pt x="11502" y="13405"/>
                  <a:pt x="11462" y="13462"/>
                </a:cubicBezTo>
                <a:cubicBezTo>
                  <a:pt x="11406" y="13541"/>
                  <a:pt x="11330" y="13684"/>
                  <a:pt x="11271" y="13748"/>
                </a:cubicBezTo>
                <a:cubicBezTo>
                  <a:pt x="11223" y="13799"/>
                  <a:pt x="11166" y="13851"/>
                  <a:pt x="11112" y="13906"/>
                </a:cubicBezTo>
                <a:cubicBezTo>
                  <a:pt x="11102" y="13917"/>
                  <a:pt x="11091" y="13927"/>
                  <a:pt x="11081" y="13938"/>
                </a:cubicBezTo>
                <a:cubicBezTo>
                  <a:pt x="11129" y="13938"/>
                  <a:pt x="11171" y="13895"/>
                  <a:pt x="11208" y="13906"/>
                </a:cubicBezTo>
                <a:cubicBezTo>
                  <a:pt x="11267" y="13923"/>
                  <a:pt x="11343" y="13948"/>
                  <a:pt x="11398" y="13970"/>
                </a:cubicBezTo>
                <a:cubicBezTo>
                  <a:pt x="11468" y="13998"/>
                  <a:pt x="11495" y="14070"/>
                  <a:pt x="11557" y="14097"/>
                </a:cubicBezTo>
                <a:cubicBezTo>
                  <a:pt x="11608" y="14119"/>
                  <a:pt x="11613" y="14062"/>
                  <a:pt x="11620" y="14034"/>
                </a:cubicBezTo>
              </a:path>
              <a:path w="5526" h="2065">
                <a:moveTo>
                  <a:pt x="11779" y="13208"/>
                </a:moveTo>
                <a:cubicBezTo>
                  <a:pt x="11790" y="13174"/>
                  <a:pt x="11824" y="13158"/>
                  <a:pt x="11874" y="13176"/>
                </a:cubicBezTo>
                <a:cubicBezTo>
                  <a:pt x="11920" y="13192"/>
                  <a:pt x="12040" y="13240"/>
                  <a:pt x="12065" y="13272"/>
                </a:cubicBezTo>
                <a:cubicBezTo>
                  <a:pt x="12097" y="13314"/>
                  <a:pt x="12125" y="13412"/>
                  <a:pt x="12128" y="13462"/>
                </a:cubicBezTo>
                <a:cubicBezTo>
                  <a:pt x="12133" y="13538"/>
                  <a:pt x="12083" y="13596"/>
                  <a:pt x="12033" y="13652"/>
                </a:cubicBezTo>
                <a:cubicBezTo>
                  <a:pt x="11981" y="13710"/>
                  <a:pt x="11953" y="13781"/>
                  <a:pt x="11906" y="13843"/>
                </a:cubicBezTo>
                <a:cubicBezTo>
                  <a:pt x="11869" y="13891"/>
                  <a:pt x="11845" y="13925"/>
                  <a:pt x="11811" y="13970"/>
                </a:cubicBezTo>
                <a:cubicBezTo>
                  <a:pt x="11850" y="13999"/>
                  <a:pt x="11889" y="14030"/>
                  <a:pt x="11938" y="14034"/>
                </a:cubicBezTo>
                <a:cubicBezTo>
                  <a:pt x="12009" y="14039"/>
                  <a:pt x="12061" y="14058"/>
                  <a:pt x="12128" y="14065"/>
                </a:cubicBezTo>
                <a:cubicBezTo>
                  <a:pt x="12190" y="14071"/>
                  <a:pt x="12256" y="14065"/>
                  <a:pt x="12319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nk 11"/>
          <p:cNvSpPr/>
          <p:nvPr/>
        </p:nvSpPr>
        <p:spPr>
          <a:xfrm>
            <a:off x="1189080" y="1257480"/>
            <a:ext cx="1039680" cy="869760"/>
          </a:xfrm>
          <a:custGeom>
            <a:avLst/>
            <a:gdLst/>
            <a:ahLst/>
            <a:rect l="l" t="t" r="r" b="b"/>
            <a:pathLst>
              <a:path w="2890" h="2415">
                <a:moveTo>
                  <a:pt x="3302" y="4636"/>
                </a:moveTo>
                <a:cubicBezTo>
                  <a:pt x="3409" y="4636"/>
                  <a:pt x="3227" y="4636"/>
                  <a:pt x="3334" y="4636"/>
                </a:cubicBezTo>
                <a:cubicBezTo>
                  <a:pt x="3334" y="4760"/>
                  <a:pt x="3344" y="4864"/>
                  <a:pt x="3366" y="4985"/>
                </a:cubicBezTo>
                <a:cubicBezTo>
                  <a:pt x="3380" y="5064"/>
                  <a:pt x="3432" y="5081"/>
                  <a:pt x="3461" y="5144"/>
                </a:cubicBezTo>
                <a:cubicBezTo>
                  <a:pt x="3461" y="5154"/>
                  <a:pt x="3461" y="5165"/>
                  <a:pt x="3461" y="5175"/>
                </a:cubicBezTo>
                <a:cubicBezTo>
                  <a:pt x="3504" y="5175"/>
                  <a:pt x="3539" y="5167"/>
                  <a:pt x="3556" y="5144"/>
                </a:cubicBezTo>
                <a:cubicBezTo>
                  <a:pt x="3616" y="5061"/>
                  <a:pt x="3588" y="4923"/>
                  <a:pt x="3588" y="4826"/>
                </a:cubicBezTo>
                <a:cubicBezTo>
                  <a:pt x="3588" y="4729"/>
                  <a:pt x="3576" y="4683"/>
                  <a:pt x="3556" y="4604"/>
                </a:cubicBezTo>
                <a:cubicBezTo>
                  <a:pt x="3556" y="4674"/>
                  <a:pt x="3584" y="4723"/>
                  <a:pt x="3588" y="4794"/>
                </a:cubicBezTo>
                <a:cubicBezTo>
                  <a:pt x="3593" y="4886"/>
                  <a:pt x="3637" y="4960"/>
                  <a:pt x="3651" y="5048"/>
                </a:cubicBezTo>
                <a:cubicBezTo>
                  <a:pt x="3665" y="5133"/>
                  <a:pt x="3704" y="5219"/>
                  <a:pt x="3715" y="5302"/>
                </a:cubicBezTo>
                <a:cubicBezTo>
                  <a:pt x="3727" y="5392"/>
                  <a:pt x="3746" y="5465"/>
                  <a:pt x="3746" y="5556"/>
                </a:cubicBezTo>
                <a:cubicBezTo>
                  <a:pt x="3746" y="5632"/>
                  <a:pt x="3724" y="5744"/>
                  <a:pt x="3683" y="5810"/>
                </a:cubicBezTo>
                <a:cubicBezTo>
                  <a:pt x="3660" y="5848"/>
                  <a:pt x="3593" y="5894"/>
                  <a:pt x="3556" y="5906"/>
                </a:cubicBezTo>
                <a:cubicBezTo>
                  <a:pt x="3517" y="5919"/>
                  <a:pt x="3454" y="5891"/>
                  <a:pt x="3429" y="5874"/>
                </a:cubicBezTo>
                <a:cubicBezTo>
                  <a:pt x="3388" y="5847"/>
                  <a:pt x="3369" y="5761"/>
                  <a:pt x="3366" y="5715"/>
                </a:cubicBezTo>
                <a:cubicBezTo>
                  <a:pt x="3366" y="5694"/>
                  <a:pt x="3366" y="5673"/>
                  <a:pt x="3366" y="5652"/>
                </a:cubicBezTo>
              </a:path>
              <a:path w="2890" h="2415">
                <a:moveTo>
                  <a:pt x="3905" y="4604"/>
                </a:moveTo>
                <a:cubicBezTo>
                  <a:pt x="3905" y="4593"/>
                  <a:pt x="3905" y="4583"/>
                  <a:pt x="3905" y="4572"/>
                </a:cubicBezTo>
                <a:cubicBezTo>
                  <a:pt x="3951" y="4561"/>
                  <a:pt x="3990" y="4517"/>
                  <a:pt x="4032" y="4508"/>
                </a:cubicBezTo>
                <a:cubicBezTo>
                  <a:pt x="4087" y="4496"/>
                  <a:pt x="4110" y="4489"/>
                  <a:pt x="4159" y="4477"/>
                </a:cubicBezTo>
              </a:path>
              <a:path w="2890" h="2415">
                <a:moveTo>
                  <a:pt x="4000" y="4858"/>
                </a:moveTo>
                <a:cubicBezTo>
                  <a:pt x="4000" y="4847"/>
                  <a:pt x="4000" y="4837"/>
                  <a:pt x="4000" y="4826"/>
                </a:cubicBezTo>
                <a:cubicBezTo>
                  <a:pt x="4064" y="4810"/>
                  <a:pt x="4090" y="4754"/>
                  <a:pt x="4159" y="4731"/>
                </a:cubicBezTo>
                <a:cubicBezTo>
                  <a:pt x="4207" y="4715"/>
                  <a:pt x="4231" y="4699"/>
                  <a:pt x="4286" y="4699"/>
                </a:cubicBezTo>
              </a:path>
              <a:path w="2890" h="2415">
                <a:moveTo>
                  <a:pt x="4350" y="4318"/>
                </a:moveTo>
                <a:cubicBezTo>
                  <a:pt x="4360" y="4405"/>
                  <a:pt x="4359" y="4520"/>
                  <a:pt x="4382" y="4604"/>
                </a:cubicBezTo>
                <a:cubicBezTo>
                  <a:pt x="4405" y="4687"/>
                  <a:pt x="4436" y="4773"/>
                  <a:pt x="4445" y="4858"/>
                </a:cubicBezTo>
                <a:cubicBezTo>
                  <a:pt x="4445" y="4869"/>
                  <a:pt x="4445" y="4879"/>
                  <a:pt x="4445" y="4890"/>
                </a:cubicBezTo>
                <a:cubicBezTo>
                  <a:pt x="4445" y="4809"/>
                  <a:pt x="4417" y="4774"/>
                  <a:pt x="4413" y="4699"/>
                </a:cubicBezTo>
                <a:cubicBezTo>
                  <a:pt x="4407" y="4598"/>
                  <a:pt x="4398" y="4494"/>
                  <a:pt x="4445" y="4413"/>
                </a:cubicBezTo>
                <a:cubicBezTo>
                  <a:pt x="4473" y="4358"/>
                  <a:pt x="4478" y="4343"/>
                  <a:pt x="4508" y="4318"/>
                </a:cubicBezTo>
                <a:cubicBezTo>
                  <a:pt x="4585" y="4318"/>
                  <a:pt x="4618" y="4364"/>
                  <a:pt x="4636" y="4445"/>
                </a:cubicBezTo>
                <a:cubicBezTo>
                  <a:pt x="4652" y="4518"/>
                  <a:pt x="4650" y="4595"/>
                  <a:pt x="4667" y="4667"/>
                </a:cubicBezTo>
                <a:cubicBezTo>
                  <a:pt x="4692" y="4740"/>
                  <a:pt x="4702" y="4749"/>
                  <a:pt x="4699" y="4794"/>
                </a:cubicBezTo>
                <a:cubicBezTo>
                  <a:pt x="4681" y="4707"/>
                  <a:pt x="4667" y="4635"/>
                  <a:pt x="4667" y="4540"/>
                </a:cubicBezTo>
                <a:cubicBezTo>
                  <a:pt x="4667" y="4470"/>
                  <a:pt x="4674" y="4413"/>
                  <a:pt x="4699" y="4350"/>
                </a:cubicBezTo>
                <a:cubicBezTo>
                  <a:pt x="4714" y="4313"/>
                  <a:pt x="4745" y="4231"/>
                  <a:pt x="4762" y="4223"/>
                </a:cubicBezTo>
                <a:cubicBezTo>
                  <a:pt x="4794" y="4223"/>
                  <a:pt x="4805" y="4223"/>
                  <a:pt x="4826" y="4223"/>
                </a:cubicBezTo>
                <a:cubicBezTo>
                  <a:pt x="4840" y="4277"/>
                  <a:pt x="4879" y="4321"/>
                  <a:pt x="4890" y="4382"/>
                </a:cubicBezTo>
                <a:cubicBezTo>
                  <a:pt x="4904" y="4463"/>
                  <a:pt x="4932" y="4534"/>
                  <a:pt x="4953" y="4604"/>
                </a:cubicBezTo>
                <a:cubicBezTo>
                  <a:pt x="4962" y="4634"/>
                  <a:pt x="4994" y="4723"/>
                  <a:pt x="5048" y="4699"/>
                </a:cubicBezTo>
                <a:cubicBezTo>
                  <a:pt x="5059" y="4688"/>
                  <a:pt x="5069" y="4678"/>
                  <a:pt x="5080" y="4667"/>
                </a:cubicBezTo>
              </a:path>
              <a:path w="2890" h="2415">
                <a:moveTo>
                  <a:pt x="5048" y="4128"/>
                </a:moveTo>
                <a:cubicBezTo>
                  <a:pt x="5037" y="4128"/>
                  <a:pt x="5027" y="4128"/>
                  <a:pt x="5016" y="4128"/>
                </a:cubicBezTo>
                <a:cubicBezTo>
                  <a:pt x="5064" y="4140"/>
                  <a:pt x="5114" y="4176"/>
                  <a:pt x="5144" y="4223"/>
                </a:cubicBezTo>
                <a:cubicBezTo>
                  <a:pt x="5199" y="4309"/>
                  <a:pt x="5222" y="4323"/>
                  <a:pt x="5302" y="4382"/>
                </a:cubicBezTo>
                <a:cubicBezTo>
                  <a:pt x="5346" y="4415"/>
                  <a:pt x="5390" y="4452"/>
                  <a:pt x="5429" y="4477"/>
                </a:cubicBezTo>
                <a:cubicBezTo>
                  <a:pt x="5440" y="4487"/>
                  <a:pt x="5450" y="4498"/>
                  <a:pt x="5461" y="4508"/>
                </a:cubicBezTo>
              </a:path>
              <a:path w="2890" h="2415">
                <a:moveTo>
                  <a:pt x="5334" y="4000"/>
                </a:moveTo>
                <a:cubicBezTo>
                  <a:pt x="5334" y="4055"/>
                  <a:pt x="5320" y="4109"/>
                  <a:pt x="5302" y="4159"/>
                </a:cubicBezTo>
                <a:cubicBezTo>
                  <a:pt x="5270" y="4248"/>
                  <a:pt x="5251" y="4325"/>
                  <a:pt x="5207" y="4413"/>
                </a:cubicBezTo>
                <a:cubicBezTo>
                  <a:pt x="5170" y="4486"/>
                  <a:pt x="5126" y="4587"/>
                  <a:pt x="5112" y="4667"/>
                </a:cubicBezTo>
                <a:cubicBezTo>
                  <a:pt x="5112" y="4688"/>
                  <a:pt x="5112" y="4710"/>
                  <a:pt x="5112" y="4731"/>
                </a:cubicBezTo>
              </a:path>
              <a:path w="2890" h="2415">
                <a:moveTo>
                  <a:pt x="5524" y="3969"/>
                </a:moveTo>
                <a:cubicBezTo>
                  <a:pt x="5569" y="4028"/>
                  <a:pt x="5533" y="4060"/>
                  <a:pt x="5556" y="4128"/>
                </a:cubicBezTo>
                <a:cubicBezTo>
                  <a:pt x="5576" y="4187"/>
                  <a:pt x="5609" y="4265"/>
                  <a:pt x="5620" y="4318"/>
                </a:cubicBezTo>
                <a:cubicBezTo>
                  <a:pt x="5620" y="4371"/>
                  <a:pt x="5609" y="4393"/>
                  <a:pt x="5652" y="4382"/>
                </a:cubicBezTo>
              </a:path>
              <a:path w="2890" h="2415">
                <a:moveTo>
                  <a:pt x="5429" y="4254"/>
                </a:moveTo>
                <a:cubicBezTo>
                  <a:pt x="5488" y="4243"/>
                  <a:pt x="5568" y="4226"/>
                  <a:pt x="5620" y="4191"/>
                </a:cubicBezTo>
                <a:cubicBezTo>
                  <a:pt x="5677" y="4153"/>
                  <a:pt x="5729" y="4114"/>
                  <a:pt x="5778" y="4064"/>
                </a:cubicBezTo>
              </a:path>
              <a:path w="2890" h="2415">
                <a:moveTo>
                  <a:pt x="5810" y="3492"/>
                </a:moveTo>
                <a:cubicBezTo>
                  <a:pt x="5810" y="3575"/>
                  <a:pt x="5837" y="3634"/>
                  <a:pt x="5842" y="3715"/>
                </a:cubicBezTo>
                <a:cubicBezTo>
                  <a:pt x="5848" y="3816"/>
                  <a:pt x="5859" y="3906"/>
                  <a:pt x="5874" y="4000"/>
                </a:cubicBezTo>
                <a:cubicBezTo>
                  <a:pt x="5882" y="4053"/>
                  <a:pt x="5874" y="4149"/>
                  <a:pt x="5874" y="4096"/>
                </a:cubicBezTo>
                <a:cubicBezTo>
                  <a:pt x="5874" y="3985"/>
                  <a:pt x="5882" y="3912"/>
                  <a:pt x="5906" y="3810"/>
                </a:cubicBezTo>
                <a:cubicBezTo>
                  <a:pt x="5919" y="3753"/>
                  <a:pt x="5958" y="3727"/>
                  <a:pt x="6001" y="3683"/>
                </a:cubicBezTo>
                <a:cubicBezTo>
                  <a:pt x="6037" y="3647"/>
                  <a:pt x="6096" y="3645"/>
                  <a:pt x="6128" y="3683"/>
                </a:cubicBezTo>
                <a:cubicBezTo>
                  <a:pt x="6168" y="3732"/>
                  <a:pt x="6212" y="3808"/>
                  <a:pt x="6191" y="3874"/>
                </a:cubicBezTo>
                <a:cubicBezTo>
                  <a:pt x="6167" y="3947"/>
                  <a:pt x="6149" y="3979"/>
                  <a:pt x="6096" y="4032"/>
                </a:cubicBezTo>
                <a:cubicBezTo>
                  <a:pt x="6029" y="4098"/>
                  <a:pt x="5987" y="4135"/>
                  <a:pt x="5906" y="4159"/>
                </a:cubicBezTo>
                <a:cubicBezTo>
                  <a:pt x="5895" y="4159"/>
                  <a:pt x="5885" y="4159"/>
                  <a:pt x="5874" y="4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Ink 12"/>
          <p:cNvSpPr/>
          <p:nvPr/>
        </p:nvSpPr>
        <p:spPr>
          <a:xfrm>
            <a:off x="2000160" y="4435560"/>
            <a:ext cx="2721240" cy="879480"/>
          </a:xfrm>
          <a:custGeom>
            <a:avLst/>
            <a:gdLst/>
            <a:ahLst/>
            <a:rect l="l" t="t" r="r" b="b"/>
            <a:pathLst>
              <a:path w="7558" h="2446">
                <a:moveTo>
                  <a:pt x="11208" y="14637"/>
                </a:moveTo>
                <a:cubicBezTo>
                  <a:pt x="11262" y="14647"/>
                  <a:pt x="11313" y="14659"/>
                  <a:pt x="11366" y="14668"/>
                </a:cubicBezTo>
                <a:cubicBezTo>
                  <a:pt x="11433" y="14680"/>
                  <a:pt x="11531" y="14726"/>
                  <a:pt x="11589" y="14732"/>
                </a:cubicBezTo>
                <a:cubicBezTo>
                  <a:pt x="11687" y="14743"/>
                  <a:pt x="11779" y="14756"/>
                  <a:pt x="11874" y="14764"/>
                </a:cubicBezTo>
                <a:cubicBezTo>
                  <a:pt x="12057" y="14778"/>
                  <a:pt x="12238" y="14761"/>
                  <a:pt x="12414" y="14732"/>
                </a:cubicBezTo>
                <a:cubicBezTo>
                  <a:pt x="12530" y="14713"/>
                  <a:pt x="12653" y="14694"/>
                  <a:pt x="12764" y="14637"/>
                </a:cubicBezTo>
                <a:cubicBezTo>
                  <a:pt x="12856" y="14590"/>
                  <a:pt x="12929" y="14496"/>
                  <a:pt x="12986" y="14414"/>
                </a:cubicBezTo>
                <a:cubicBezTo>
                  <a:pt x="13052" y="14319"/>
                  <a:pt x="13091" y="14299"/>
                  <a:pt x="13113" y="14160"/>
                </a:cubicBezTo>
                <a:cubicBezTo>
                  <a:pt x="13126" y="14077"/>
                  <a:pt x="13111" y="13918"/>
                  <a:pt x="13081" y="13843"/>
                </a:cubicBezTo>
                <a:cubicBezTo>
                  <a:pt x="13029" y="13712"/>
                  <a:pt x="12937" y="13572"/>
                  <a:pt x="12859" y="13462"/>
                </a:cubicBezTo>
                <a:cubicBezTo>
                  <a:pt x="12749" y="13307"/>
                  <a:pt x="12576" y="13090"/>
                  <a:pt x="12414" y="12986"/>
                </a:cubicBezTo>
                <a:cubicBezTo>
                  <a:pt x="12320" y="12926"/>
                  <a:pt x="12197" y="12874"/>
                  <a:pt x="12097" y="12827"/>
                </a:cubicBezTo>
                <a:cubicBezTo>
                  <a:pt x="11995" y="12779"/>
                  <a:pt x="11882" y="12703"/>
                  <a:pt x="11779" y="12668"/>
                </a:cubicBezTo>
                <a:cubicBezTo>
                  <a:pt x="11669" y="12630"/>
                  <a:pt x="11548" y="12602"/>
                  <a:pt x="11430" y="12573"/>
                </a:cubicBezTo>
                <a:cubicBezTo>
                  <a:pt x="11316" y="12545"/>
                  <a:pt x="11200" y="12505"/>
                  <a:pt x="11081" y="12478"/>
                </a:cubicBezTo>
                <a:cubicBezTo>
                  <a:pt x="10968" y="12452"/>
                  <a:pt x="10815" y="12423"/>
                  <a:pt x="10700" y="12414"/>
                </a:cubicBezTo>
                <a:cubicBezTo>
                  <a:pt x="10569" y="12404"/>
                  <a:pt x="10447" y="12401"/>
                  <a:pt x="10319" y="12382"/>
                </a:cubicBezTo>
                <a:cubicBezTo>
                  <a:pt x="10192" y="12363"/>
                  <a:pt x="10067" y="12365"/>
                  <a:pt x="9938" y="12351"/>
                </a:cubicBezTo>
                <a:cubicBezTo>
                  <a:pt x="9799" y="12336"/>
                  <a:pt x="9669" y="12322"/>
                  <a:pt x="9525" y="12319"/>
                </a:cubicBezTo>
                <a:cubicBezTo>
                  <a:pt x="9111" y="12312"/>
                  <a:pt x="8693" y="12331"/>
                  <a:pt x="8287" y="12351"/>
                </a:cubicBezTo>
                <a:cubicBezTo>
                  <a:pt x="8150" y="12358"/>
                  <a:pt x="8006" y="12376"/>
                  <a:pt x="7874" y="12382"/>
                </a:cubicBezTo>
                <a:cubicBezTo>
                  <a:pt x="7736" y="12389"/>
                  <a:pt x="7593" y="12407"/>
                  <a:pt x="7461" y="12414"/>
                </a:cubicBezTo>
                <a:cubicBezTo>
                  <a:pt x="7292" y="12423"/>
                  <a:pt x="7116" y="12437"/>
                  <a:pt x="6953" y="12446"/>
                </a:cubicBezTo>
                <a:cubicBezTo>
                  <a:pt x="6810" y="12454"/>
                  <a:pt x="6711" y="12482"/>
                  <a:pt x="6572" y="12510"/>
                </a:cubicBezTo>
                <a:cubicBezTo>
                  <a:pt x="6443" y="12536"/>
                  <a:pt x="6317" y="12549"/>
                  <a:pt x="6191" y="12605"/>
                </a:cubicBezTo>
                <a:cubicBezTo>
                  <a:pt x="6095" y="12648"/>
                  <a:pt x="5994" y="12731"/>
                  <a:pt x="5906" y="12795"/>
                </a:cubicBezTo>
                <a:cubicBezTo>
                  <a:pt x="5797" y="12875"/>
                  <a:pt x="5683" y="12955"/>
                  <a:pt x="5620" y="13081"/>
                </a:cubicBezTo>
                <a:cubicBezTo>
                  <a:pt x="5579" y="13164"/>
                  <a:pt x="5570" y="13181"/>
                  <a:pt x="5556" y="13272"/>
                </a:cubicBezTo>
                <a:cubicBezTo>
                  <a:pt x="5542" y="13361"/>
                  <a:pt x="5564" y="13445"/>
                  <a:pt x="5588" y="13526"/>
                </a:cubicBezTo>
                <a:cubicBezTo>
                  <a:pt x="5610" y="13600"/>
                  <a:pt x="5645" y="13679"/>
                  <a:pt x="5683" y="13748"/>
                </a:cubicBezTo>
                <a:cubicBezTo>
                  <a:pt x="5734" y="13840"/>
                  <a:pt x="5776" y="13933"/>
                  <a:pt x="5874" y="14002"/>
                </a:cubicBezTo>
                <a:cubicBezTo>
                  <a:pt x="5936" y="14045"/>
                  <a:pt x="6025" y="14075"/>
                  <a:pt x="6096" y="14097"/>
                </a:cubicBezTo>
                <a:cubicBezTo>
                  <a:pt x="6154" y="14116"/>
                  <a:pt x="6226" y="14109"/>
                  <a:pt x="6286" y="14129"/>
                </a:cubicBezTo>
                <a:cubicBezTo>
                  <a:pt x="6335" y="14145"/>
                  <a:pt x="6401" y="14180"/>
                  <a:pt x="6445" y="14192"/>
                </a:cubicBezTo>
                <a:cubicBezTo>
                  <a:pt x="6523" y="14213"/>
                  <a:pt x="6590" y="14229"/>
                  <a:pt x="6668" y="14256"/>
                </a:cubicBezTo>
                <a:cubicBezTo>
                  <a:pt x="6751" y="14285"/>
                  <a:pt x="6836" y="14328"/>
                  <a:pt x="6922" y="14351"/>
                </a:cubicBezTo>
                <a:cubicBezTo>
                  <a:pt x="7046" y="14385"/>
                  <a:pt x="7179" y="14418"/>
                  <a:pt x="7302" y="14446"/>
                </a:cubicBezTo>
                <a:cubicBezTo>
                  <a:pt x="7391" y="14466"/>
                  <a:pt x="7501" y="14498"/>
                  <a:pt x="7588" y="14510"/>
                </a:cubicBezTo>
                <a:cubicBezTo>
                  <a:pt x="7677" y="14522"/>
                  <a:pt x="7790" y="14536"/>
                  <a:pt x="7874" y="14542"/>
                </a:cubicBezTo>
                <a:cubicBezTo>
                  <a:pt x="7983" y="14550"/>
                  <a:pt x="8085" y="14567"/>
                  <a:pt x="8192" y="14573"/>
                </a:cubicBezTo>
                <a:cubicBezTo>
                  <a:pt x="8339" y="14582"/>
                  <a:pt x="8494" y="14597"/>
                  <a:pt x="8636" y="14605"/>
                </a:cubicBezTo>
                <a:cubicBezTo>
                  <a:pt x="8763" y="14612"/>
                  <a:pt x="8896" y="14630"/>
                  <a:pt x="9017" y="14637"/>
                </a:cubicBezTo>
                <a:cubicBezTo>
                  <a:pt x="9148" y="14644"/>
                  <a:pt x="9269" y="14661"/>
                  <a:pt x="9398" y="14668"/>
                </a:cubicBezTo>
                <a:cubicBezTo>
                  <a:pt x="9757" y="14687"/>
                  <a:pt x="10129" y="14676"/>
                  <a:pt x="10478" y="14700"/>
                </a:cubicBezTo>
                <a:cubicBezTo>
                  <a:pt x="10667" y="14713"/>
                  <a:pt x="11048" y="14764"/>
                  <a:pt x="11208" y="14732"/>
                </a:cubicBezTo>
                <a:cubicBezTo>
                  <a:pt x="11271" y="14719"/>
                  <a:pt x="11257" y="14676"/>
                  <a:pt x="11303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of the line that goes through points (2, -4) and (1, 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nk 3"/>
          <p:cNvSpPr/>
          <p:nvPr/>
        </p:nvSpPr>
        <p:spPr>
          <a:xfrm>
            <a:off x="7211880" y="857160"/>
            <a:ext cx="206640" cy="217440"/>
          </a:xfrm>
          <a:custGeom>
            <a:avLst/>
            <a:gdLst/>
            <a:ahLst/>
            <a:rect l="l" t="t" r="r" b="b"/>
            <a:pathLst>
              <a:path w="573" h="604">
                <a:moveTo>
                  <a:pt x="20130" y="2381"/>
                </a:moveTo>
                <a:cubicBezTo>
                  <a:pt x="20222" y="2405"/>
                  <a:pt x="20191" y="2439"/>
                  <a:pt x="20225" y="2508"/>
                </a:cubicBezTo>
                <a:cubicBezTo>
                  <a:pt x="20257" y="2573"/>
                  <a:pt x="20264" y="2638"/>
                  <a:pt x="20320" y="2699"/>
                </a:cubicBezTo>
                <a:cubicBezTo>
                  <a:pt x="20359" y="2741"/>
                  <a:pt x="20370" y="2780"/>
                  <a:pt x="20415" y="2826"/>
                </a:cubicBezTo>
              </a:path>
              <a:path w="573" h="604">
                <a:moveTo>
                  <a:pt x="20384" y="2381"/>
                </a:moveTo>
                <a:cubicBezTo>
                  <a:pt x="20334" y="2469"/>
                  <a:pt x="20296" y="2540"/>
                  <a:pt x="20256" y="2635"/>
                </a:cubicBezTo>
                <a:cubicBezTo>
                  <a:pt x="20222" y="2715"/>
                  <a:pt x="20120" y="2777"/>
                  <a:pt x="20098" y="2858"/>
                </a:cubicBezTo>
                <a:cubicBezTo>
                  <a:pt x="20078" y="2935"/>
                  <a:pt x="20093" y="2926"/>
                  <a:pt x="20034" y="2984"/>
                </a:cubicBezTo>
              </a:path>
              <a:path w="573" h="604">
                <a:moveTo>
                  <a:pt x="20606" y="2635"/>
                </a:moveTo>
                <a:cubicBezTo>
                  <a:pt x="20606" y="2726"/>
                  <a:pt x="20589" y="2776"/>
                  <a:pt x="20574" y="2858"/>
                </a:cubicBezTo>
                <a:cubicBezTo>
                  <a:pt x="20574" y="2915"/>
                  <a:pt x="20578" y="2932"/>
                  <a:pt x="20542" y="2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nk 4"/>
          <p:cNvSpPr/>
          <p:nvPr/>
        </p:nvSpPr>
        <p:spPr>
          <a:xfrm>
            <a:off x="7943760" y="879480"/>
            <a:ext cx="171720" cy="252360"/>
          </a:xfrm>
          <a:custGeom>
            <a:avLst/>
            <a:gdLst/>
            <a:ahLst/>
            <a:rect l="l" t="t" r="r" b="b"/>
            <a:pathLst>
              <a:path w="477" h="699">
                <a:moveTo>
                  <a:pt x="22066" y="2445"/>
                </a:moveTo>
                <a:cubicBezTo>
                  <a:pt x="22077" y="2445"/>
                  <a:pt x="22087" y="2445"/>
                  <a:pt x="22098" y="2445"/>
                </a:cubicBezTo>
              </a:path>
              <a:path w="477" h="699">
                <a:moveTo>
                  <a:pt x="22066" y="2445"/>
                </a:moveTo>
                <a:lnTo>
                  <a:pt x="22066" y="2445"/>
                </a:lnTo>
              </a:path>
              <a:path w="477" h="699">
                <a:moveTo>
                  <a:pt x="22130" y="2508"/>
                </a:moveTo>
                <a:cubicBezTo>
                  <a:pt x="22145" y="2570"/>
                  <a:pt x="22182" y="2630"/>
                  <a:pt x="22193" y="2699"/>
                </a:cubicBezTo>
                <a:cubicBezTo>
                  <a:pt x="22207" y="2782"/>
                  <a:pt x="22226" y="2797"/>
                  <a:pt x="22288" y="2858"/>
                </a:cubicBezTo>
                <a:cubicBezTo>
                  <a:pt x="22299" y="2868"/>
                  <a:pt x="22309" y="2879"/>
                  <a:pt x="22320" y="2889"/>
                </a:cubicBezTo>
              </a:path>
              <a:path w="477" h="699">
                <a:moveTo>
                  <a:pt x="22416" y="2476"/>
                </a:moveTo>
                <a:lnTo>
                  <a:pt x="22416" y="2476"/>
                </a:lnTo>
              </a:path>
              <a:path w="477" h="699">
                <a:moveTo>
                  <a:pt x="22416" y="2476"/>
                </a:moveTo>
                <a:lnTo>
                  <a:pt x="22416" y="2476"/>
                </a:lnTo>
              </a:path>
              <a:path w="477" h="699">
                <a:moveTo>
                  <a:pt x="22384" y="2508"/>
                </a:moveTo>
                <a:cubicBezTo>
                  <a:pt x="22372" y="2607"/>
                  <a:pt x="22328" y="2699"/>
                  <a:pt x="22288" y="2794"/>
                </a:cubicBezTo>
                <a:cubicBezTo>
                  <a:pt x="22249" y="2886"/>
                  <a:pt x="22191" y="2984"/>
                  <a:pt x="22162" y="3080"/>
                </a:cubicBezTo>
                <a:cubicBezTo>
                  <a:pt x="22162" y="3116"/>
                  <a:pt x="22159" y="3130"/>
                  <a:pt x="22130" y="3143"/>
                </a:cubicBezTo>
              </a:path>
              <a:path w="477" h="699">
                <a:moveTo>
                  <a:pt x="22542" y="2667"/>
                </a:moveTo>
                <a:cubicBezTo>
                  <a:pt x="22505" y="2730"/>
                  <a:pt x="22485" y="2786"/>
                  <a:pt x="22447" y="2858"/>
                </a:cubicBezTo>
                <a:cubicBezTo>
                  <a:pt x="22415" y="2920"/>
                  <a:pt x="22399" y="2987"/>
                  <a:pt x="22384" y="3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Ink 5"/>
          <p:cNvSpPr/>
          <p:nvPr/>
        </p:nvSpPr>
        <p:spPr>
          <a:xfrm>
            <a:off x="4754520" y="1589040"/>
            <a:ext cx="171360" cy="228600"/>
          </a:xfrm>
          <a:custGeom>
            <a:avLst/>
            <a:gdLst/>
            <a:ahLst/>
            <a:rect l="l" t="t" r="r" b="b"/>
            <a:pathLst>
              <a:path w="477" h="636">
                <a:moveTo>
                  <a:pt x="13335" y="4413"/>
                </a:moveTo>
                <a:cubicBezTo>
                  <a:pt x="13371" y="4510"/>
                  <a:pt x="13370" y="4602"/>
                  <a:pt x="13398" y="4699"/>
                </a:cubicBezTo>
                <a:cubicBezTo>
                  <a:pt x="13418" y="4769"/>
                  <a:pt x="13448" y="4833"/>
                  <a:pt x="13494" y="4890"/>
                </a:cubicBezTo>
              </a:path>
              <a:path w="477" h="636">
                <a:moveTo>
                  <a:pt x="13462" y="4477"/>
                </a:moveTo>
                <a:cubicBezTo>
                  <a:pt x="13452" y="4587"/>
                  <a:pt x="13426" y="4664"/>
                  <a:pt x="13367" y="4762"/>
                </a:cubicBezTo>
                <a:cubicBezTo>
                  <a:pt x="13322" y="4837"/>
                  <a:pt x="13240" y="4937"/>
                  <a:pt x="13208" y="5016"/>
                </a:cubicBezTo>
                <a:cubicBezTo>
                  <a:pt x="13208" y="5027"/>
                  <a:pt x="13208" y="5037"/>
                  <a:pt x="13208" y="5048"/>
                </a:cubicBezTo>
              </a:path>
              <a:path w="477" h="636">
                <a:moveTo>
                  <a:pt x="13557" y="4794"/>
                </a:moveTo>
                <a:cubicBezTo>
                  <a:pt x="13602" y="4760"/>
                  <a:pt x="13597" y="4762"/>
                  <a:pt x="13652" y="4762"/>
                </a:cubicBezTo>
                <a:cubicBezTo>
                  <a:pt x="13652" y="4836"/>
                  <a:pt x="13640" y="4864"/>
                  <a:pt x="13621" y="4921"/>
                </a:cubicBezTo>
                <a:cubicBezTo>
                  <a:pt x="13609" y="4956"/>
                  <a:pt x="13598" y="4980"/>
                  <a:pt x="13589" y="5016"/>
                </a:cubicBezTo>
                <a:cubicBezTo>
                  <a:pt x="13629" y="4986"/>
                  <a:pt x="13644" y="4983"/>
                  <a:pt x="13684" y="4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Ink 6"/>
          <p:cNvSpPr/>
          <p:nvPr/>
        </p:nvSpPr>
        <p:spPr>
          <a:xfrm>
            <a:off x="5349960" y="1577880"/>
            <a:ext cx="217440" cy="228600"/>
          </a:xfrm>
          <a:custGeom>
            <a:avLst/>
            <a:gdLst/>
            <a:ahLst/>
            <a:rect l="l" t="t" r="r" b="b"/>
            <a:pathLst>
              <a:path w="604" h="635">
                <a:moveTo>
                  <a:pt x="14859" y="4413"/>
                </a:moveTo>
                <a:cubicBezTo>
                  <a:pt x="14859" y="4529"/>
                  <a:pt x="14859" y="4646"/>
                  <a:pt x="14859" y="4762"/>
                </a:cubicBezTo>
                <a:cubicBezTo>
                  <a:pt x="14905" y="4762"/>
                  <a:pt x="14970" y="4755"/>
                  <a:pt x="14986" y="4699"/>
                </a:cubicBezTo>
                <a:cubicBezTo>
                  <a:pt x="15009" y="4619"/>
                  <a:pt x="15063" y="4527"/>
                  <a:pt x="15081" y="4445"/>
                </a:cubicBezTo>
                <a:cubicBezTo>
                  <a:pt x="15114" y="4294"/>
                  <a:pt x="15081" y="4530"/>
                  <a:pt x="15081" y="4572"/>
                </a:cubicBezTo>
                <a:cubicBezTo>
                  <a:pt x="15081" y="4680"/>
                  <a:pt x="15074" y="4758"/>
                  <a:pt x="15050" y="4858"/>
                </a:cubicBezTo>
                <a:cubicBezTo>
                  <a:pt x="15035" y="4919"/>
                  <a:pt x="15045" y="5009"/>
                  <a:pt x="14986" y="5016"/>
                </a:cubicBezTo>
                <a:cubicBezTo>
                  <a:pt x="14954" y="5016"/>
                  <a:pt x="14944" y="5016"/>
                  <a:pt x="14954" y="4985"/>
                </a:cubicBezTo>
              </a:path>
              <a:path w="604" h="635">
                <a:moveTo>
                  <a:pt x="15145" y="4667"/>
                </a:moveTo>
                <a:cubicBezTo>
                  <a:pt x="15201" y="4667"/>
                  <a:pt x="15222" y="4648"/>
                  <a:pt x="15272" y="4636"/>
                </a:cubicBezTo>
                <a:cubicBezTo>
                  <a:pt x="15261" y="4679"/>
                  <a:pt x="15230" y="4757"/>
                  <a:pt x="15208" y="4794"/>
                </a:cubicBezTo>
                <a:cubicBezTo>
                  <a:pt x="15197" y="4805"/>
                  <a:pt x="15187" y="4815"/>
                  <a:pt x="15176" y="4826"/>
                </a:cubicBezTo>
                <a:cubicBezTo>
                  <a:pt x="15204" y="4864"/>
                  <a:pt x="15221" y="4931"/>
                  <a:pt x="15272" y="4953"/>
                </a:cubicBezTo>
                <a:cubicBezTo>
                  <a:pt x="15329" y="4978"/>
                  <a:pt x="15381" y="4986"/>
                  <a:pt x="15430" y="4953"/>
                </a:cubicBezTo>
                <a:cubicBezTo>
                  <a:pt x="15441" y="4942"/>
                  <a:pt x="15451" y="4932"/>
                  <a:pt x="15462" y="4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nk 7"/>
          <p:cNvSpPr/>
          <p:nvPr/>
        </p:nvSpPr>
        <p:spPr>
          <a:xfrm>
            <a:off x="2182680" y="2664000"/>
            <a:ext cx="3213360" cy="1360440"/>
          </a:xfrm>
          <a:custGeom>
            <a:avLst/>
            <a:gdLst/>
            <a:ahLst/>
            <a:rect l="l" t="t" r="r" b="b"/>
            <a:pathLst>
              <a:path w="8923" h="3779">
                <a:moveTo>
                  <a:pt x="6414" y="7398"/>
                </a:moveTo>
                <a:cubicBezTo>
                  <a:pt x="6394" y="7437"/>
                  <a:pt x="6382" y="7437"/>
                  <a:pt x="6382" y="7525"/>
                </a:cubicBezTo>
                <a:cubicBezTo>
                  <a:pt x="6382" y="7630"/>
                  <a:pt x="6354" y="7707"/>
                  <a:pt x="6350" y="7810"/>
                </a:cubicBezTo>
                <a:cubicBezTo>
                  <a:pt x="6345" y="7946"/>
                  <a:pt x="6367" y="8062"/>
                  <a:pt x="6382" y="8192"/>
                </a:cubicBezTo>
                <a:cubicBezTo>
                  <a:pt x="6392" y="8285"/>
                  <a:pt x="6395" y="8395"/>
                  <a:pt x="6445" y="8477"/>
                </a:cubicBezTo>
                <a:cubicBezTo>
                  <a:pt x="6469" y="8516"/>
                  <a:pt x="6566" y="8530"/>
                  <a:pt x="6604" y="8509"/>
                </a:cubicBezTo>
                <a:cubicBezTo>
                  <a:pt x="6656" y="8480"/>
                  <a:pt x="6782" y="8175"/>
                  <a:pt x="6794" y="8128"/>
                </a:cubicBezTo>
                <a:cubicBezTo>
                  <a:pt x="6818" y="8035"/>
                  <a:pt x="6896" y="7813"/>
                  <a:pt x="6858" y="7715"/>
                </a:cubicBezTo>
                <a:cubicBezTo>
                  <a:pt x="6841" y="7672"/>
                  <a:pt x="6847" y="7693"/>
                  <a:pt x="6826" y="7652"/>
                </a:cubicBezTo>
                <a:cubicBezTo>
                  <a:pt x="6826" y="7805"/>
                  <a:pt x="6843" y="7946"/>
                  <a:pt x="6858" y="8096"/>
                </a:cubicBezTo>
                <a:cubicBezTo>
                  <a:pt x="6875" y="8270"/>
                  <a:pt x="6831" y="8433"/>
                  <a:pt x="6826" y="8604"/>
                </a:cubicBezTo>
                <a:cubicBezTo>
                  <a:pt x="6821" y="8766"/>
                  <a:pt x="6825" y="8922"/>
                  <a:pt x="6794" y="9080"/>
                </a:cubicBezTo>
                <a:cubicBezTo>
                  <a:pt x="6782" y="9141"/>
                  <a:pt x="6750" y="9369"/>
                  <a:pt x="6668" y="9398"/>
                </a:cubicBezTo>
                <a:cubicBezTo>
                  <a:pt x="6538" y="9445"/>
                  <a:pt x="6585" y="9445"/>
                  <a:pt x="6445" y="9366"/>
                </a:cubicBezTo>
                <a:cubicBezTo>
                  <a:pt x="6358" y="9317"/>
                  <a:pt x="6278" y="9249"/>
                  <a:pt x="6255" y="9144"/>
                </a:cubicBezTo>
                <a:cubicBezTo>
                  <a:pt x="6235" y="9052"/>
                  <a:pt x="6242" y="8908"/>
                  <a:pt x="6286" y="8826"/>
                </a:cubicBezTo>
                <a:cubicBezTo>
                  <a:pt x="6307" y="8794"/>
                  <a:pt x="6329" y="8763"/>
                  <a:pt x="6350" y="8731"/>
                </a:cubicBezTo>
              </a:path>
              <a:path w="8923" h="3779">
                <a:moveTo>
                  <a:pt x="6985" y="8414"/>
                </a:moveTo>
                <a:cubicBezTo>
                  <a:pt x="6997" y="8366"/>
                  <a:pt x="7014" y="8325"/>
                  <a:pt x="7048" y="8287"/>
                </a:cubicBezTo>
                <a:cubicBezTo>
                  <a:pt x="7087" y="8243"/>
                  <a:pt x="7121" y="8255"/>
                  <a:pt x="7176" y="8255"/>
                </a:cubicBezTo>
                <a:cubicBezTo>
                  <a:pt x="7176" y="8341"/>
                  <a:pt x="7194" y="8434"/>
                  <a:pt x="7144" y="8509"/>
                </a:cubicBezTo>
                <a:cubicBezTo>
                  <a:pt x="7114" y="8554"/>
                  <a:pt x="7071" y="8616"/>
                  <a:pt x="7048" y="8668"/>
                </a:cubicBezTo>
                <a:cubicBezTo>
                  <a:pt x="7034" y="8699"/>
                  <a:pt x="7025" y="8729"/>
                  <a:pt x="7017" y="8763"/>
                </a:cubicBezTo>
                <a:cubicBezTo>
                  <a:pt x="7017" y="8712"/>
                  <a:pt x="7024" y="8661"/>
                  <a:pt x="7080" y="8636"/>
                </a:cubicBezTo>
                <a:cubicBezTo>
                  <a:pt x="7133" y="8612"/>
                  <a:pt x="7168" y="8714"/>
                  <a:pt x="7207" y="8731"/>
                </a:cubicBezTo>
                <a:cubicBezTo>
                  <a:pt x="7242" y="8746"/>
                  <a:pt x="7312" y="8715"/>
                  <a:pt x="7334" y="8700"/>
                </a:cubicBezTo>
                <a:cubicBezTo>
                  <a:pt x="7363" y="8671"/>
                  <a:pt x="7369" y="8660"/>
                  <a:pt x="7398" y="8668"/>
                </a:cubicBezTo>
              </a:path>
              <a:path w="8923" h="3779">
                <a:moveTo>
                  <a:pt x="7620" y="8223"/>
                </a:moveTo>
                <a:cubicBezTo>
                  <a:pt x="7683" y="8223"/>
                  <a:pt x="7730" y="8202"/>
                  <a:pt x="7779" y="8192"/>
                </a:cubicBezTo>
                <a:cubicBezTo>
                  <a:pt x="7892" y="8170"/>
                  <a:pt x="7986" y="8202"/>
                  <a:pt x="8096" y="8160"/>
                </a:cubicBezTo>
              </a:path>
              <a:path w="8923" h="3779">
                <a:moveTo>
                  <a:pt x="8350" y="7715"/>
                </a:moveTo>
                <a:cubicBezTo>
                  <a:pt x="8350" y="7807"/>
                  <a:pt x="8329" y="7885"/>
                  <a:pt x="8318" y="7969"/>
                </a:cubicBezTo>
                <a:cubicBezTo>
                  <a:pt x="8302" y="8093"/>
                  <a:pt x="8291" y="8227"/>
                  <a:pt x="8287" y="8350"/>
                </a:cubicBezTo>
                <a:cubicBezTo>
                  <a:pt x="8284" y="8436"/>
                  <a:pt x="8276" y="8570"/>
                  <a:pt x="8350" y="8636"/>
                </a:cubicBezTo>
                <a:cubicBezTo>
                  <a:pt x="8361" y="8636"/>
                  <a:pt x="8371" y="8636"/>
                  <a:pt x="8382" y="8636"/>
                </a:cubicBezTo>
                <a:cubicBezTo>
                  <a:pt x="8476" y="8623"/>
                  <a:pt x="8445" y="8619"/>
                  <a:pt x="8509" y="8541"/>
                </a:cubicBezTo>
                <a:cubicBezTo>
                  <a:pt x="8605" y="8423"/>
                  <a:pt x="8624" y="8306"/>
                  <a:pt x="8668" y="8160"/>
                </a:cubicBezTo>
                <a:cubicBezTo>
                  <a:pt x="8699" y="8056"/>
                  <a:pt x="8723" y="7948"/>
                  <a:pt x="8731" y="7842"/>
                </a:cubicBezTo>
                <a:cubicBezTo>
                  <a:pt x="8731" y="7831"/>
                  <a:pt x="8731" y="7821"/>
                  <a:pt x="8731" y="7810"/>
                </a:cubicBezTo>
                <a:cubicBezTo>
                  <a:pt x="8705" y="7855"/>
                  <a:pt x="8700" y="7905"/>
                  <a:pt x="8700" y="8001"/>
                </a:cubicBezTo>
                <a:cubicBezTo>
                  <a:pt x="8700" y="8150"/>
                  <a:pt x="8668" y="8292"/>
                  <a:pt x="8668" y="8446"/>
                </a:cubicBezTo>
                <a:cubicBezTo>
                  <a:pt x="8668" y="8652"/>
                  <a:pt x="8658" y="8849"/>
                  <a:pt x="8636" y="9049"/>
                </a:cubicBezTo>
                <a:cubicBezTo>
                  <a:pt x="8627" y="9128"/>
                  <a:pt x="8665" y="9313"/>
                  <a:pt x="8572" y="9366"/>
                </a:cubicBezTo>
                <a:cubicBezTo>
                  <a:pt x="8511" y="9401"/>
                  <a:pt x="8373" y="9357"/>
                  <a:pt x="8318" y="9334"/>
                </a:cubicBezTo>
                <a:cubicBezTo>
                  <a:pt x="8223" y="9294"/>
                  <a:pt x="8191" y="9180"/>
                  <a:pt x="8223" y="9080"/>
                </a:cubicBezTo>
                <a:cubicBezTo>
                  <a:pt x="8234" y="9070"/>
                  <a:pt x="8244" y="9059"/>
                  <a:pt x="8255" y="9049"/>
                </a:cubicBezTo>
              </a:path>
              <a:path w="8923" h="3779">
                <a:moveTo>
                  <a:pt x="9049" y="8477"/>
                </a:moveTo>
                <a:cubicBezTo>
                  <a:pt x="9049" y="8636"/>
                  <a:pt x="9049" y="8795"/>
                  <a:pt x="9049" y="8954"/>
                </a:cubicBezTo>
              </a:path>
              <a:path w="8923" h="3779">
                <a:moveTo>
                  <a:pt x="6064" y="9652"/>
                </a:moveTo>
                <a:cubicBezTo>
                  <a:pt x="6132" y="9643"/>
                  <a:pt x="6186" y="9624"/>
                  <a:pt x="6255" y="9620"/>
                </a:cubicBezTo>
                <a:cubicBezTo>
                  <a:pt x="6383" y="9613"/>
                  <a:pt x="6510" y="9609"/>
                  <a:pt x="6636" y="9588"/>
                </a:cubicBezTo>
                <a:cubicBezTo>
                  <a:pt x="6852" y="9552"/>
                  <a:pt x="7082" y="9509"/>
                  <a:pt x="7302" y="9493"/>
                </a:cubicBezTo>
                <a:cubicBezTo>
                  <a:pt x="7581" y="9473"/>
                  <a:pt x="7858" y="9425"/>
                  <a:pt x="8128" y="9398"/>
                </a:cubicBezTo>
                <a:cubicBezTo>
                  <a:pt x="8410" y="9370"/>
                  <a:pt x="8650" y="9449"/>
                  <a:pt x="8922" y="9462"/>
                </a:cubicBezTo>
                <a:cubicBezTo>
                  <a:pt x="9052" y="9468"/>
                  <a:pt x="9173" y="9493"/>
                  <a:pt x="9303" y="9493"/>
                </a:cubicBezTo>
                <a:cubicBezTo>
                  <a:pt x="9313" y="9493"/>
                  <a:pt x="9324" y="9493"/>
                  <a:pt x="9334" y="9493"/>
                </a:cubicBezTo>
              </a:path>
              <a:path w="8923" h="3779">
                <a:moveTo>
                  <a:pt x="6699" y="9779"/>
                </a:moveTo>
                <a:cubicBezTo>
                  <a:pt x="6715" y="9858"/>
                  <a:pt x="6764" y="9896"/>
                  <a:pt x="6794" y="9970"/>
                </a:cubicBezTo>
                <a:cubicBezTo>
                  <a:pt x="6847" y="10100"/>
                  <a:pt x="6894" y="10224"/>
                  <a:pt x="6953" y="10350"/>
                </a:cubicBezTo>
                <a:cubicBezTo>
                  <a:pt x="7018" y="10489"/>
                  <a:pt x="7081" y="10625"/>
                  <a:pt x="7144" y="10763"/>
                </a:cubicBezTo>
                <a:cubicBezTo>
                  <a:pt x="7173" y="10826"/>
                  <a:pt x="7224" y="10861"/>
                  <a:pt x="7239" y="10922"/>
                </a:cubicBezTo>
              </a:path>
              <a:path w="8923" h="3779">
                <a:moveTo>
                  <a:pt x="7144" y="9874"/>
                </a:moveTo>
                <a:cubicBezTo>
                  <a:pt x="7088" y="9999"/>
                  <a:pt x="7044" y="10136"/>
                  <a:pt x="6985" y="10255"/>
                </a:cubicBezTo>
                <a:cubicBezTo>
                  <a:pt x="6911" y="10402"/>
                  <a:pt x="6848" y="10561"/>
                  <a:pt x="6763" y="10700"/>
                </a:cubicBezTo>
                <a:cubicBezTo>
                  <a:pt x="6703" y="10798"/>
                  <a:pt x="6618" y="10916"/>
                  <a:pt x="6572" y="11017"/>
                </a:cubicBezTo>
                <a:cubicBezTo>
                  <a:pt x="6572" y="11049"/>
                  <a:pt x="6572" y="11060"/>
                  <a:pt x="6572" y="11081"/>
                </a:cubicBezTo>
              </a:path>
              <a:path w="8923" h="3779">
                <a:moveTo>
                  <a:pt x="7207" y="10414"/>
                </a:moveTo>
                <a:cubicBezTo>
                  <a:pt x="7274" y="10414"/>
                  <a:pt x="7274" y="10420"/>
                  <a:pt x="7302" y="10382"/>
                </a:cubicBezTo>
                <a:cubicBezTo>
                  <a:pt x="7336" y="10336"/>
                  <a:pt x="7380" y="10300"/>
                  <a:pt x="7430" y="10287"/>
                </a:cubicBezTo>
                <a:cubicBezTo>
                  <a:pt x="7479" y="10354"/>
                  <a:pt x="7465" y="10399"/>
                  <a:pt x="7430" y="10478"/>
                </a:cubicBezTo>
                <a:cubicBezTo>
                  <a:pt x="7393" y="10562"/>
                  <a:pt x="7378" y="10617"/>
                  <a:pt x="7334" y="10700"/>
                </a:cubicBezTo>
                <a:cubicBezTo>
                  <a:pt x="7306" y="10752"/>
                  <a:pt x="7261" y="10809"/>
                  <a:pt x="7239" y="10858"/>
                </a:cubicBezTo>
                <a:cubicBezTo>
                  <a:pt x="7239" y="10869"/>
                  <a:pt x="7239" y="10879"/>
                  <a:pt x="7239" y="10890"/>
                </a:cubicBezTo>
                <a:cubicBezTo>
                  <a:pt x="7252" y="10838"/>
                  <a:pt x="7275" y="10802"/>
                  <a:pt x="7334" y="10795"/>
                </a:cubicBezTo>
                <a:cubicBezTo>
                  <a:pt x="7378" y="10790"/>
                  <a:pt x="7380" y="10835"/>
                  <a:pt x="7398" y="10858"/>
                </a:cubicBezTo>
                <a:cubicBezTo>
                  <a:pt x="7424" y="10892"/>
                  <a:pt x="7486" y="10918"/>
                  <a:pt x="7525" y="10922"/>
                </a:cubicBezTo>
                <a:cubicBezTo>
                  <a:pt x="7566" y="10927"/>
                  <a:pt x="7623" y="10884"/>
                  <a:pt x="7652" y="10858"/>
                </a:cubicBezTo>
                <a:cubicBezTo>
                  <a:pt x="7663" y="10848"/>
                  <a:pt x="7673" y="10837"/>
                  <a:pt x="7684" y="10827"/>
                </a:cubicBezTo>
              </a:path>
              <a:path w="8923" h="3779">
                <a:moveTo>
                  <a:pt x="7684" y="10382"/>
                </a:moveTo>
                <a:cubicBezTo>
                  <a:pt x="7808" y="10382"/>
                  <a:pt x="7925" y="10383"/>
                  <a:pt x="8033" y="10350"/>
                </a:cubicBezTo>
                <a:cubicBezTo>
                  <a:pt x="8043" y="10350"/>
                  <a:pt x="8054" y="10350"/>
                  <a:pt x="8064" y="10350"/>
                </a:cubicBezTo>
              </a:path>
              <a:path w="8923" h="3779">
                <a:moveTo>
                  <a:pt x="8223" y="10001"/>
                </a:moveTo>
                <a:cubicBezTo>
                  <a:pt x="8239" y="10064"/>
                  <a:pt x="8258" y="10126"/>
                  <a:pt x="8287" y="10192"/>
                </a:cubicBezTo>
                <a:cubicBezTo>
                  <a:pt x="8328" y="10286"/>
                  <a:pt x="8363" y="10390"/>
                  <a:pt x="8414" y="10478"/>
                </a:cubicBezTo>
                <a:cubicBezTo>
                  <a:pt x="8471" y="10576"/>
                  <a:pt x="8536" y="10675"/>
                  <a:pt x="8604" y="10763"/>
                </a:cubicBezTo>
                <a:cubicBezTo>
                  <a:pt x="8641" y="10811"/>
                  <a:pt x="8687" y="10821"/>
                  <a:pt x="8700" y="10795"/>
                </a:cubicBezTo>
              </a:path>
              <a:path w="8923" h="3779">
                <a:moveTo>
                  <a:pt x="8668" y="10065"/>
                </a:moveTo>
                <a:cubicBezTo>
                  <a:pt x="8570" y="10089"/>
                  <a:pt x="8586" y="10172"/>
                  <a:pt x="8541" y="10255"/>
                </a:cubicBezTo>
                <a:cubicBezTo>
                  <a:pt x="8471" y="10385"/>
                  <a:pt x="8377" y="10501"/>
                  <a:pt x="8318" y="10636"/>
                </a:cubicBezTo>
                <a:cubicBezTo>
                  <a:pt x="8275" y="10734"/>
                  <a:pt x="8227" y="10840"/>
                  <a:pt x="8160" y="10922"/>
                </a:cubicBezTo>
                <a:cubicBezTo>
                  <a:pt x="8149" y="10933"/>
                  <a:pt x="8139" y="10943"/>
                  <a:pt x="8128" y="10954"/>
                </a:cubicBezTo>
              </a:path>
              <a:path w="8923" h="3779">
                <a:moveTo>
                  <a:pt x="8826" y="10636"/>
                </a:moveTo>
                <a:cubicBezTo>
                  <a:pt x="8826" y="10790"/>
                  <a:pt x="8811" y="10932"/>
                  <a:pt x="8795" y="11081"/>
                </a:cubicBezTo>
                <a:cubicBezTo>
                  <a:pt x="8795" y="11113"/>
                  <a:pt x="8795" y="11144"/>
                  <a:pt x="8795" y="11176"/>
                </a:cubicBezTo>
              </a:path>
              <a:path w="8923" h="3779">
                <a:moveTo>
                  <a:pt x="9842" y="9557"/>
                </a:moveTo>
                <a:cubicBezTo>
                  <a:pt x="9920" y="9557"/>
                  <a:pt x="9987" y="9529"/>
                  <a:pt x="10065" y="9525"/>
                </a:cubicBezTo>
                <a:cubicBezTo>
                  <a:pt x="10146" y="9521"/>
                  <a:pt x="10179" y="9522"/>
                  <a:pt x="10255" y="9493"/>
                </a:cubicBezTo>
              </a:path>
              <a:path w="8923" h="3779">
                <a:moveTo>
                  <a:pt x="9779" y="9842"/>
                </a:moveTo>
                <a:cubicBezTo>
                  <a:pt x="9796" y="9894"/>
                  <a:pt x="9841" y="9874"/>
                  <a:pt x="9906" y="9874"/>
                </a:cubicBezTo>
                <a:cubicBezTo>
                  <a:pt x="9980" y="9874"/>
                  <a:pt x="10054" y="9874"/>
                  <a:pt x="10128" y="9874"/>
                </a:cubicBezTo>
              </a:path>
              <a:path w="8923" h="3779">
                <a:moveTo>
                  <a:pt x="11652" y="7938"/>
                </a:moveTo>
                <a:cubicBezTo>
                  <a:pt x="11622" y="7902"/>
                  <a:pt x="11633" y="7856"/>
                  <a:pt x="11557" y="7874"/>
                </a:cubicBezTo>
                <a:cubicBezTo>
                  <a:pt x="11477" y="7893"/>
                  <a:pt x="11382" y="8004"/>
                  <a:pt x="11335" y="8064"/>
                </a:cubicBezTo>
                <a:cubicBezTo>
                  <a:pt x="11237" y="8189"/>
                  <a:pt x="11157" y="8338"/>
                  <a:pt x="11081" y="8477"/>
                </a:cubicBezTo>
                <a:cubicBezTo>
                  <a:pt x="11001" y="8623"/>
                  <a:pt x="10959" y="8786"/>
                  <a:pt x="10986" y="8954"/>
                </a:cubicBezTo>
                <a:cubicBezTo>
                  <a:pt x="11009" y="9096"/>
                  <a:pt x="11061" y="9224"/>
                  <a:pt x="11176" y="9303"/>
                </a:cubicBezTo>
                <a:cubicBezTo>
                  <a:pt x="11264" y="9364"/>
                  <a:pt x="11433" y="9347"/>
                  <a:pt x="11525" y="9303"/>
                </a:cubicBezTo>
                <a:cubicBezTo>
                  <a:pt x="11668" y="9234"/>
                  <a:pt x="11751" y="9094"/>
                  <a:pt x="11811" y="8954"/>
                </a:cubicBezTo>
                <a:cubicBezTo>
                  <a:pt x="11873" y="8812"/>
                  <a:pt x="11898" y="8631"/>
                  <a:pt x="11874" y="8477"/>
                </a:cubicBezTo>
                <a:cubicBezTo>
                  <a:pt x="11856" y="8363"/>
                  <a:pt x="11811" y="8163"/>
                  <a:pt x="11748" y="8064"/>
                </a:cubicBezTo>
                <a:cubicBezTo>
                  <a:pt x="11695" y="7981"/>
                  <a:pt x="11627" y="7937"/>
                  <a:pt x="11557" y="7874"/>
                </a:cubicBezTo>
                <a:cubicBezTo>
                  <a:pt x="11487" y="7811"/>
                  <a:pt x="11527" y="7857"/>
                  <a:pt x="11494" y="7874"/>
                </a:cubicBezTo>
              </a:path>
              <a:path w="8923" h="3779">
                <a:moveTo>
                  <a:pt x="12192" y="8572"/>
                </a:moveTo>
                <a:cubicBezTo>
                  <a:pt x="12268" y="8572"/>
                  <a:pt x="12311" y="8553"/>
                  <a:pt x="12382" y="8541"/>
                </a:cubicBezTo>
                <a:cubicBezTo>
                  <a:pt x="12555" y="8511"/>
                  <a:pt x="12857" y="8505"/>
                  <a:pt x="13018" y="8572"/>
                </a:cubicBezTo>
              </a:path>
              <a:path w="8923" h="3779">
                <a:moveTo>
                  <a:pt x="12732" y="8160"/>
                </a:moveTo>
                <a:cubicBezTo>
                  <a:pt x="12814" y="8159"/>
                  <a:pt x="12736" y="8251"/>
                  <a:pt x="12732" y="8350"/>
                </a:cubicBezTo>
                <a:cubicBezTo>
                  <a:pt x="12726" y="8483"/>
                  <a:pt x="12686" y="8602"/>
                  <a:pt x="12668" y="8731"/>
                </a:cubicBezTo>
                <a:cubicBezTo>
                  <a:pt x="12655" y="8826"/>
                  <a:pt x="12641" y="8924"/>
                  <a:pt x="12636" y="9017"/>
                </a:cubicBezTo>
                <a:cubicBezTo>
                  <a:pt x="12635" y="9026"/>
                  <a:pt x="12631" y="9225"/>
                  <a:pt x="12668" y="9176"/>
                </a:cubicBezTo>
                <a:cubicBezTo>
                  <a:pt x="12668" y="9165"/>
                  <a:pt x="12668" y="9155"/>
                  <a:pt x="12668" y="9144"/>
                </a:cubicBezTo>
              </a:path>
              <a:path w="8923" h="3779">
                <a:moveTo>
                  <a:pt x="13526" y="7810"/>
                </a:moveTo>
                <a:cubicBezTo>
                  <a:pt x="13536" y="7800"/>
                  <a:pt x="13547" y="7789"/>
                  <a:pt x="13557" y="7779"/>
                </a:cubicBezTo>
                <a:cubicBezTo>
                  <a:pt x="13557" y="7868"/>
                  <a:pt x="13539" y="7914"/>
                  <a:pt x="13526" y="8001"/>
                </a:cubicBezTo>
                <a:cubicBezTo>
                  <a:pt x="13509" y="8115"/>
                  <a:pt x="13487" y="8239"/>
                  <a:pt x="13462" y="8350"/>
                </a:cubicBezTo>
                <a:cubicBezTo>
                  <a:pt x="13437" y="8461"/>
                  <a:pt x="13390" y="8561"/>
                  <a:pt x="13367" y="8668"/>
                </a:cubicBezTo>
                <a:cubicBezTo>
                  <a:pt x="13359" y="8703"/>
                  <a:pt x="13367" y="8757"/>
                  <a:pt x="13367" y="8795"/>
                </a:cubicBezTo>
                <a:cubicBezTo>
                  <a:pt x="13383" y="8746"/>
                  <a:pt x="13394" y="8757"/>
                  <a:pt x="13430" y="8731"/>
                </a:cubicBezTo>
                <a:cubicBezTo>
                  <a:pt x="13513" y="8670"/>
                  <a:pt x="13534" y="8716"/>
                  <a:pt x="13621" y="8731"/>
                </a:cubicBezTo>
                <a:cubicBezTo>
                  <a:pt x="13708" y="8746"/>
                  <a:pt x="13791" y="8741"/>
                  <a:pt x="13875" y="8763"/>
                </a:cubicBezTo>
                <a:cubicBezTo>
                  <a:pt x="13967" y="8787"/>
                  <a:pt x="14094" y="8822"/>
                  <a:pt x="14192" y="8795"/>
                </a:cubicBezTo>
                <a:cubicBezTo>
                  <a:pt x="14273" y="8772"/>
                  <a:pt x="14349" y="8711"/>
                  <a:pt x="14383" y="8636"/>
                </a:cubicBezTo>
                <a:cubicBezTo>
                  <a:pt x="14393" y="8604"/>
                  <a:pt x="14404" y="8573"/>
                  <a:pt x="14414" y="8541"/>
                </a:cubicBezTo>
              </a:path>
              <a:path w="8923" h="3779">
                <a:moveTo>
                  <a:pt x="14319" y="7842"/>
                </a:moveTo>
                <a:cubicBezTo>
                  <a:pt x="14319" y="7935"/>
                  <a:pt x="14298" y="8006"/>
                  <a:pt x="14288" y="8096"/>
                </a:cubicBezTo>
                <a:cubicBezTo>
                  <a:pt x="14271" y="8245"/>
                  <a:pt x="14281" y="8394"/>
                  <a:pt x="14256" y="8541"/>
                </a:cubicBezTo>
                <a:cubicBezTo>
                  <a:pt x="14227" y="8708"/>
                  <a:pt x="14179" y="8881"/>
                  <a:pt x="14160" y="9049"/>
                </a:cubicBezTo>
                <a:cubicBezTo>
                  <a:pt x="14160" y="9167"/>
                  <a:pt x="14163" y="9201"/>
                  <a:pt x="14129" y="9271"/>
                </a:cubicBezTo>
              </a:path>
              <a:path w="8923" h="3779">
                <a:moveTo>
                  <a:pt x="10922" y="9620"/>
                </a:moveTo>
                <a:cubicBezTo>
                  <a:pt x="10976" y="9609"/>
                  <a:pt x="10962" y="9593"/>
                  <a:pt x="11017" y="9588"/>
                </a:cubicBezTo>
                <a:cubicBezTo>
                  <a:pt x="11133" y="9577"/>
                  <a:pt x="11251" y="9567"/>
                  <a:pt x="11366" y="9557"/>
                </a:cubicBezTo>
                <a:cubicBezTo>
                  <a:pt x="11545" y="9541"/>
                  <a:pt x="11727" y="9529"/>
                  <a:pt x="11906" y="9525"/>
                </a:cubicBezTo>
                <a:cubicBezTo>
                  <a:pt x="12135" y="9520"/>
                  <a:pt x="12376" y="9514"/>
                  <a:pt x="12605" y="9493"/>
                </a:cubicBezTo>
                <a:cubicBezTo>
                  <a:pt x="12847" y="9471"/>
                  <a:pt x="13130" y="9506"/>
                  <a:pt x="13367" y="9462"/>
                </a:cubicBezTo>
                <a:cubicBezTo>
                  <a:pt x="13654" y="9408"/>
                  <a:pt x="13812" y="9450"/>
                  <a:pt x="14097" y="9462"/>
                </a:cubicBezTo>
                <a:cubicBezTo>
                  <a:pt x="14278" y="9470"/>
                  <a:pt x="14457" y="9488"/>
                  <a:pt x="14637" y="9493"/>
                </a:cubicBezTo>
                <a:cubicBezTo>
                  <a:pt x="14727" y="9496"/>
                  <a:pt x="14868" y="9494"/>
                  <a:pt x="14954" y="9525"/>
                </a:cubicBezTo>
                <a:cubicBezTo>
                  <a:pt x="14965" y="9536"/>
                  <a:pt x="14975" y="9546"/>
                  <a:pt x="14986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nk 8"/>
          <p:cNvSpPr/>
          <p:nvPr/>
        </p:nvSpPr>
        <p:spPr>
          <a:xfrm>
            <a:off x="2446200" y="4321080"/>
            <a:ext cx="3189600" cy="1028880"/>
          </a:xfrm>
          <a:custGeom>
            <a:avLst/>
            <a:gdLst/>
            <a:ahLst/>
            <a:rect l="l" t="t" r="r" b="b"/>
            <a:pathLst>
              <a:path w="8860" h="2858">
                <a:moveTo>
                  <a:pt x="7334" y="12319"/>
                </a:moveTo>
                <a:cubicBezTo>
                  <a:pt x="7363" y="12290"/>
                  <a:pt x="7373" y="12284"/>
                  <a:pt x="7366" y="12256"/>
                </a:cubicBezTo>
                <a:cubicBezTo>
                  <a:pt x="7359" y="12315"/>
                  <a:pt x="7343" y="12358"/>
                  <a:pt x="7334" y="12414"/>
                </a:cubicBezTo>
                <a:cubicBezTo>
                  <a:pt x="7319" y="12502"/>
                  <a:pt x="7308" y="12585"/>
                  <a:pt x="7271" y="12668"/>
                </a:cubicBezTo>
                <a:cubicBezTo>
                  <a:pt x="7226" y="12771"/>
                  <a:pt x="7257" y="12846"/>
                  <a:pt x="7239" y="12954"/>
                </a:cubicBezTo>
                <a:cubicBezTo>
                  <a:pt x="7226" y="13036"/>
                  <a:pt x="7226" y="13084"/>
                  <a:pt x="7239" y="13176"/>
                </a:cubicBezTo>
                <a:cubicBezTo>
                  <a:pt x="7248" y="13245"/>
                  <a:pt x="7263" y="13368"/>
                  <a:pt x="7302" y="13430"/>
                </a:cubicBezTo>
                <a:cubicBezTo>
                  <a:pt x="7333" y="13478"/>
                  <a:pt x="7374" y="13503"/>
                  <a:pt x="7430" y="13494"/>
                </a:cubicBezTo>
                <a:cubicBezTo>
                  <a:pt x="7514" y="13480"/>
                  <a:pt x="7501" y="13417"/>
                  <a:pt x="7556" y="13367"/>
                </a:cubicBezTo>
                <a:cubicBezTo>
                  <a:pt x="7633" y="13298"/>
                  <a:pt x="7666" y="13273"/>
                  <a:pt x="7715" y="13176"/>
                </a:cubicBezTo>
                <a:cubicBezTo>
                  <a:pt x="7768" y="13071"/>
                  <a:pt x="7850" y="13014"/>
                  <a:pt x="7874" y="12890"/>
                </a:cubicBezTo>
                <a:cubicBezTo>
                  <a:pt x="7897" y="12772"/>
                  <a:pt x="7955" y="12664"/>
                  <a:pt x="7969" y="12541"/>
                </a:cubicBezTo>
                <a:cubicBezTo>
                  <a:pt x="7976" y="12479"/>
                  <a:pt x="7969" y="12413"/>
                  <a:pt x="7969" y="12351"/>
                </a:cubicBezTo>
                <a:cubicBezTo>
                  <a:pt x="7946" y="12413"/>
                  <a:pt x="7957" y="12474"/>
                  <a:pt x="7938" y="12541"/>
                </a:cubicBezTo>
                <a:cubicBezTo>
                  <a:pt x="7911" y="12639"/>
                  <a:pt x="7886" y="12755"/>
                  <a:pt x="7874" y="12859"/>
                </a:cubicBezTo>
                <a:cubicBezTo>
                  <a:pt x="7858" y="12996"/>
                  <a:pt x="7821" y="13137"/>
                  <a:pt x="7810" y="13272"/>
                </a:cubicBezTo>
                <a:cubicBezTo>
                  <a:pt x="7797" y="13441"/>
                  <a:pt x="7784" y="13612"/>
                  <a:pt x="7779" y="13780"/>
                </a:cubicBezTo>
                <a:cubicBezTo>
                  <a:pt x="7774" y="13942"/>
                  <a:pt x="7752" y="14100"/>
                  <a:pt x="7715" y="14256"/>
                </a:cubicBezTo>
                <a:cubicBezTo>
                  <a:pt x="7680" y="14401"/>
                  <a:pt x="7635" y="14511"/>
                  <a:pt x="7556" y="14637"/>
                </a:cubicBezTo>
                <a:cubicBezTo>
                  <a:pt x="7506" y="14717"/>
                  <a:pt x="7399" y="14832"/>
                  <a:pt x="7302" y="14859"/>
                </a:cubicBezTo>
                <a:cubicBezTo>
                  <a:pt x="7211" y="14884"/>
                  <a:pt x="7067" y="14863"/>
                  <a:pt x="6985" y="14827"/>
                </a:cubicBezTo>
                <a:cubicBezTo>
                  <a:pt x="6905" y="14792"/>
                  <a:pt x="6828" y="14752"/>
                  <a:pt x="6794" y="14668"/>
                </a:cubicBezTo>
                <a:cubicBezTo>
                  <a:pt x="6759" y="14582"/>
                  <a:pt x="6794" y="14395"/>
                  <a:pt x="6826" y="14319"/>
                </a:cubicBezTo>
                <a:cubicBezTo>
                  <a:pt x="6859" y="14242"/>
                  <a:pt x="6897" y="14090"/>
                  <a:pt x="6953" y="14034"/>
                </a:cubicBezTo>
                <a:cubicBezTo>
                  <a:pt x="6993" y="13994"/>
                  <a:pt x="7122" y="13869"/>
                  <a:pt x="7176" y="13843"/>
                </a:cubicBezTo>
                <a:cubicBezTo>
                  <a:pt x="7251" y="13808"/>
                  <a:pt x="7351" y="13832"/>
                  <a:pt x="7430" y="13811"/>
                </a:cubicBezTo>
                <a:cubicBezTo>
                  <a:pt x="7521" y="13786"/>
                  <a:pt x="7586" y="13780"/>
                  <a:pt x="7684" y="13780"/>
                </a:cubicBezTo>
                <a:cubicBezTo>
                  <a:pt x="7735" y="13780"/>
                  <a:pt x="7808" y="13780"/>
                  <a:pt x="7842" y="13748"/>
                </a:cubicBezTo>
                <a:cubicBezTo>
                  <a:pt x="7881" y="13711"/>
                  <a:pt x="7892" y="13686"/>
                  <a:pt x="7906" y="13652"/>
                </a:cubicBezTo>
                <a:cubicBezTo>
                  <a:pt x="7906" y="13642"/>
                  <a:pt x="7906" y="13631"/>
                  <a:pt x="7906" y="13621"/>
                </a:cubicBezTo>
              </a:path>
              <a:path w="8860" h="2858">
                <a:moveTo>
                  <a:pt x="8255" y="12954"/>
                </a:moveTo>
                <a:cubicBezTo>
                  <a:pt x="8311" y="12912"/>
                  <a:pt x="8323" y="12943"/>
                  <a:pt x="8382" y="12922"/>
                </a:cubicBezTo>
                <a:cubicBezTo>
                  <a:pt x="8466" y="12892"/>
                  <a:pt x="8511" y="12890"/>
                  <a:pt x="8604" y="12890"/>
                </a:cubicBezTo>
                <a:cubicBezTo>
                  <a:pt x="8712" y="12890"/>
                  <a:pt x="8799" y="12892"/>
                  <a:pt x="8890" y="12922"/>
                </a:cubicBezTo>
                <a:cubicBezTo>
                  <a:pt x="8922" y="12922"/>
                  <a:pt x="8933" y="12922"/>
                  <a:pt x="8954" y="12922"/>
                </a:cubicBezTo>
              </a:path>
              <a:path w="8860" h="2858">
                <a:moveTo>
                  <a:pt x="8731" y="12319"/>
                </a:moveTo>
                <a:cubicBezTo>
                  <a:pt x="8731" y="12238"/>
                  <a:pt x="8701" y="12419"/>
                  <a:pt x="8700" y="12446"/>
                </a:cubicBezTo>
                <a:cubicBezTo>
                  <a:pt x="8694" y="12549"/>
                  <a:pt x="8659" y="12665"/>
                  <a:pt x="8636" y="12764"/>
                </a:cubicBezTo>
                <a:cubicBezTo>
                  <a:pt x="8604" y="12901"/>
                  <a:pt x="8556" y="13037"/>
                  <a:pt x="8541" y="13176"/>
                </a:cubicBezTo>
                <a:cubicBezTo>
                  <a:pt x="8527" y="13306"/>
                  <a:pt x="8509" y="13424"/>
                  <a:pt x="8509" y="13557"/>
                </a:cubicBezTo>
                <a:cubicBezTo>
                  <a:pt x="8509" y="13633"/>
                  <a:pt x="8526" y="13638"/>
                  <a:pt x="8541" y="13684"/>
                </a:cubicBezTo>
              </a:path>
              <a:path w="8860" h="2858">
                <a:moveTo>
                  <a:pt x="9334" y="12160"/>
                </a:moveTo>
                <a:cubicBezTo>
                  <a:pt x="9351" y="12247"/>
                  <a:pt x="9357" y="12292"/>
                  <a:pt x="9334" y="12382"/>
                </a:cubicBezTo>
                <a:cubicBezTo>
                  <a:pt x="9305" y="12494"/>
                  <a:pt x="9256" y="12618"/>
                  <a:pt x="9239" y="12732"/>
                </a:cubicBezTo>
                <a:cubicBezTo>
                  <a:pt x="9227" y="12811"/>
                  <a:pt x="9237" y="12944"/>
                  <a:pt x="9208" y="13018"/>
                </a:cubicBezTo>
                <a:cubicBezTo>
                  <a:pt x="9179" y="13046"/>
                  <a:pt x="9168" y="13052"/>
                  <a:pt x="9176" y="13081"/>
                </a:cubicBezTo>
                <a:cubicBezTo>
                  <a:pt x="9222" y="13081"/>
                  <a:pt x="9269" y="13072"/>
                  <a:pt x="9303" y="13049"/>
                </a:cubicBezTo>
                <a:cubicBezTo>
                  <a:pt x="9361" y="13010"/>
                  <a:pt x="9386" y="13018"/>
                  <a:pt x="9462" y="13018"/>
                </a:cubicBezTo>
                <a:cubicBezTo>
                  <a:pt x="9531" y="13018"/>
                  <a:pt x="9597" y="13070"/>
                  <a:pt x="9652" y="13081"/>
                </a:cubicBezTo>
                <a:cubicBezTo>
                  <a:pt x="9740" y="13099"/>
                  <a:pt x="9819" y="13091"/>
                  <a:pt x="9874" y="13018"/>
                </a:cubicBezTo>
                <a:cubicBezTo>
                  <a:pt x="9885" y="12997"/>
                  <a:pt x="9895" y="12975"/>
                  <a:pt x="9906" y="12954"/>
                </a:cubicBezTo>
              </a:path>
              <a:path w="8860" h="2858">
                <a:moveTo>
                  <a:pt x="9970" y="12160"/>
                </a:moveTo>
                <a:cubicBezTo>
                  <a:pt x="9923" y="12239"/>
                  <a:pt x="9900" y="12349"/>
                  <a:pt x="9874" y="12446"/>
                </a:cubicBezTo>
                <a:cubicBezTo>
                  <a:pt x="9816" y="12661"/>
                  <a:pt x="9804" y="12863"/>
                  <a:pt x="9779" y="13081"/>
                </a:cubicBezTo>
                <a:cubicBezTo>
                  <a:pt x="9750" y="13336"/>
                  <a:pt x="9717" y="13590"/>
                  <a:pt x="9684" y="13843"/>
                </a:cubicBezTo>
              </a:path>
              <a:path w="8860" h="2858">
                <a:moveTo>
                  <a:pt x="10382" y="12954"/>
                </a:moveTo>
                <a:cubicBezTo>
                  <a:pt x="10399" y="12902"/>
                  <a:pt x="10444" y="12922"/>
                  <a:pt x="10509" y="12922"/>
                </a:cubicBezTo>
                <a:cubicBezTo>
                  <a:pt x="10625" y="12922"/>
                  <a:pt x="10742" y="12922"/>
                  <a:pt x="10858" y="12922"/>
                </a:cubicBezTo>
              </a:path>
              <a:path w="8860" h="2858">
                <a:moveTo>
                  <a:pt x="10414" y="13240"/>
                </a:moveTo>
                <a:cubicBezTo>
                  <a:pt x="10505" y="13258"/>
                  <a:pt x="10568" y="13272"/>
                  <a:pt x="10668" y="13272"/>
                </a:cubicBezTo>
                <a:cubicBezTo>
                  <a:pt x="10710" y="13272"/>
                  <a:pt x="10753" y="13272"/>
                  <a:pt x="10795" y="13272"/>
                </a:cubicBezTo>
              </a:path>
              <a:path w="8860" h="2858">
                <a:moveTo>
                  <a:pt x="11049" y="12510"/>
                </a:moveTo>
                <a:cubicBezTo>
                  <a:pt x="11121" y="12510"/>
                  <a:pt x="11173" y="12530"/>
                  <a:pt x="11240" y="12541"/>
                </a:cubicBezTo>
                <a:cubicBezTo>
                  <a:pt x="11303" y="12541"/>
                  <a:pt x="11324" y="12541"/>
                  <a:pt x="11366" y="12541"/>
                </a:cubicBezTo>
              </a:path>
              <a:path w="8860" h="2858">
                <a:moveTo>
                  <a:pt x="11652" y="12256"/>
                </a:moveTo>
                <a:cubicBezTo>
                  <a:pt x="11652" y="12311"/>
                  <a:pt x="11637" y="12364"/>
                  <a:pt x="11620" y="12414"/>
                </a:cubicBezTo>
                <a:cubicBezTo>
                  <a:pt x="11587" y="12508"/>
                  <a:pt x="11510" y="12601"/>
                  <a:pt x="11494" y="12700"/>
                </a:cubicBezTo>
                <a:cubicBezTo>
                  <a:pt x="11479" y="12790"/>
                  <a:pt x="11487" y="12899"/>
                  <a:pt x="11462" y="12986"/>
                </a:cubicBezTo>
                <a:cubicBezTo>
                  <a:pt x="11444" y="13052"/>
                  <a:pt x="11430" y="13050"/>
                  <a:pt x="11430" y="13113"/>
                </a:cubicBezTo>
                <a:cubicBezTo>
                  <a:pt x="11514" y="13113"/>
                  <a:pt x="11582" y="13130"/>
                  <a:pt x="11652" y="13144"/>
                </a:cubicBezTo>
                <a:cubicBezTo>
                  <a:pt x="11778" y="13168"/>
                  <a:pt x="11828" y="13212"/>
                  <a:pt x="11938" y="13272"/>
                </a:cubicBezTo>
                <a:cubicBezTo>
                  <a:pt x="11962" y="13285"/>
                  <a:pt x="12098" y="13336"/>
                  <a:pt x="12128" y="13303"/>
                </a:cubicBezTo>
                <a:cubicBezTo>
                  <a:pt x="12139" y="13282"/>
                  <a:pt x="12149" y="13261"/>
                  <a:pt x="12160" y="13240"/>
                </a:cubicBezTo>
              </a:path>
              <a:path w="8860" h="2858">
                <a:moveTo>
                  <a:pt x="12128" y="12319"/>
                </a:moveTo>
                <a:cubicBezTo>
                  <a:pt x="12091" y="12432"/>
                  <a:pt x="12048" y="12579"/>
                  <a:pt x="12033" y="12700"/>
                </a:cubicBezTo>
                <a:cubicBezTo>
                  <a:pt x="12011" y="12878"/>
                  <a:pt x="12026" y="13063"/>
                  <a:pt x="12002" y="13240"/>
                </a:cubicBezTo>
                <a:cubicBezTo>
                  <a:pt x="11979" y="13408"/>
                  <a:pt x="11985" y="13585"/>
                  <a:pt x="11938" y="13748"/>
                </a:cubicBezTo>
                <a:cubicBezTo>
                  <a:pt x="11910" y="13844"/>
                  <a:pt x="11868" y="13949"/>
                  <a:pt x="11843" y="14034"/>
                </a:cubicBezTo>
                <a:cubicBezTo>
                  <a:pt x="11843" y="14044"/>
                  <a:pt x="11843" y="14055"/>
                  <a:pt x="11843" y="14065"/>
                </a:cubicBezTo>
              </a:path>
              <a:path w="8860" h="2858">
                <a:moveTo>
                  <a:pt x="13144" y="12002"/>
                </a:moveTo>
                <a:cubicBezTo>
                  <a:pt x="13099" y="12024"/>
                  <a:pt x="13058" y="12028"/>
                  <a:pt x="13018" y="12065"/>
                </a:cubicBezTo>
                <a:cubicBezTo>
                  <a:pt x="12912" y="12163"/>
                  <a:pt x="12814" y="12264"/>
                  <a:pt x="12732" y="12382"/>
                </a:cubicBezTo>
                <a:cubicBezTo>
                  <a:pt x="12629" y="12532"/>
                  <a:pt x="12585" y="12650"/>
                  <a:pt x="12541" y="12827"/>
                </a:cubicBezTo>
                <a:cubicBezTo>
                  <a:pt x="12498" y="13000"/>
                  <a:pt x="12482" y="13190"/>
                  <a:pt x="12478" y="13367"/>
                </a:cubicBezTo>
                <a:cubicBezTo>
                  <a:pt x="12474" y="13531"/>
                  <a:pt x="12509" y="13716"/>
                  <a:pt x="12541" y="13875"/>
                </a:cubicBezTo>
                <a:cubicBezTo>
                  <a:pt x="12562" y="13980"/>
                  <a:pt x="12622" y="14096"/>
                  <a:pt x="12668" y="14192"/>
                </a:cubicBezTo>
                <a:cubicBezTo>
                  <a:pt x="12692" y="14243"/>
                  <a:pt x="12705" y="14261"/>
                  <a:pt x="12732" y="14288"/>
                </a:cubicBezTo>
              </a:path>
              <a:path w="8860" h="2858">
                <a:moveTo>
                  <a:pt x="13081" y="12636"/>
                </a:moveTo>
                <a:cubicBezTo>
                  <a:pt x="13081" y="12738"/>
                  <a:pt x="13072" y="12828"/>
                  <a:pt x="13113" y="12922"/>
                </a:cubicBezTo>
                <a:cubicBezTo>
                  <a:pt x="13155" y="13018"/>
                  <a:pt x="13199" y="13112"/>
                  <a:pt x="13240" y="13208"/>
                </a:cubicBezTo>
                <a:cubicBezTo>
                  <a:pt x="13299" y="13345"/>
                  <a:pt x="13335" y="13502"/>
                  <a:pt x="13430" y="13621"/>
                </a:cubicBezTo>
                <a:cubicBezTo>
                  <a:pt x="13482" y="13686"/>
                  <a:pt x="13529" y="13752"/>
                  <a:pt x="13589" y="13811"/>
                </a:cubicBezTo>
              </a:path>
              <a:path w="8860" h="2858">
                <a:moveTo>
                  <a:pt x="13589" y="12732"/>
                </a:moveTo>
                <a:cubicBezTo>
                  <a:pt x="13509" y="12752"/>
                  <a:pt x="13505" y="12820"/>
                  <a:pt x="13462" y="12890"/>
                </a:cubicBezTo>
                <a:cubicBezTo>
                  <a:pt x="13343" y="13085"/>
                  <a:pt x="13218" y="13315"/>
                  <a:pt x="13081" y="13494"/>
                </a:cubicBezTo>
                <a:cubicBezTo>
                  <a:pt x="12984" y="13621"/>
                  <a:pt x="12881" y="13742"/>
                  <a:pt x="12795" y="13875"/>
                </a:cubicBezTo>
                <a:cubicBezTo>
                  <a:pt x="12785" y="13896"/>
                  <a:pt x="12774" y="13917"/>
                  <a:pt x="12764" y="13938"/>
                </a:cubicBezTo>
              </a:path>
              <a:path w="8860" h="2858">
                <a:moveTo>
                  <a:pt x="13875" y="13335"/>
                </a:moveTo>
                <a:cubicBezTo>
                  <a:pt x="13957" y="13335"/>
                  <a:pt x="14016" y="13355"/>
                  <a:pt x="14097" y="13367"/>
                </a:cubicBezTo>
                <a:cubicBezTo>
                  <a:pt x="14252" y="13389"/>
                  <a:pt x="14248" y="13467"/>
                  <a:pt x="14383" y="13367"/>
                </a:cubicBezTo>
              </a:path>
              <a:path w="8860" h="2858">
                <a:moveTo>
                  <a:pt x="14668" y="13081"/>
                </a:moveTo>
                <a:cubicBezTo>
                  <a:pt x="14680" y="13045"/>
                  <a:pt x="14712" y="13022"/>
                  <a:pt x="14764" y="13018"/>
                </a:cubicBezTo>
                <a:cubicBezTo>
                  <a:pt x="14821" y="13014"/>
                  <a:pt x="14899" y="13004"/>
                  <a:pt x="14954" y="12986"/>
                </a:cubicBezTo>
                <a:cubicBezTo>
                  <a:pt x="15023" y="12963"/>
                  <a:pt x="15042" y="12954"/>
                  <a:pt x="15113" y="12954"/>
                </a:cubicBezTo>
                <a:cubicBezTo>
                  <a:pt x="15113" y="13027"/>
                  <a:pt x="15086" y="13053"/>
                  <a:pt x="15050" y="13113"/>
                </a:cubicBezTo>
                <a:cubicBezTo>
                  <a:pt x="14995" y="13205"/>
                  <a:pt x="14908" y="13270"/>
                  <a:pt x="14859" y="13367"/>
                </a:cubicBezTo>
                <a:cubicBezTo>
                  <a:pt x="14812" y="13462"/>
                  <a:pt x="14754" y="13532"/>
                  <a:pt x="14700" y="13621"/>
                </a:cubicBezTo>
                <a:cubicBezTo>
                  <a:pt x="14661" y="13685"/>
                  <a:pt x="14670" y="13700"/>
                  <a:pt x="14605" y="13716"/>
                </a:cubicBezTo>
                <a:cubicBezTo>
                  <a:pt x="14659" y="13661"/>
                  <a:pt x="14696" y="13648"/>
                  <a:pt x="14764" y="13621"/>
                </a:cubicBezTo>
                <a:cubicBezTo>
                  <a:pt x="14846" y="13588"/>
                  <a:pt x="14885" y="13529"/>
                  <a:pt x="14986" y="13557"/>
                </a:cubicBezTo>
                <a:cubicBezTo>
                  <a:pt x="15061" y="13578"/>
                  <a:pt x="15173" y="13615"/>
                  <a:pt x="15240" y="13652"/>
                </a:cubicBezTo>
                <a:cubicBezTo>
                  <a:pt x="15276" y="13688"/>
                  <a:pt x="15293" y="13699"/>
                  <a:pt x="15335" y="13684"/>
                </a:cubicBezTo>
              </a:path>
              <a:path w="8860" h="2858">
                <a:moveTo>
                  <a:pt x="15526" y="12256"/>
                </a:moveTo>
                <a:cubicBezTo>
                  <a:pt x="15526" y="12198"/>
                  <a:pt x="15530" y="12181"/>
                  <a:pt x="15494" y="12160"/>
                </a:cubicBezTo>
                <a:cubicBezTo>
                  <a:pt x="15505" y="12244"/>
                  <a:pt x="15509" y="12331"/>
                  <a:pt x="15526" y="12414"/>
                </a:cubicBezTo>
                <a:cubicBezTo>
                  <a:pt x="15563" y="12594"/>
                  <a:pt x="15607" y="12770"/>
                  <a:pt x="15621" y="12954"/>
                </a:cubicBezTo>
                <a:cubicBezTo>
                  <a:pt x="15637" y="13165"/>
                  <a:pt x="15636" y="13349"/>
                  <a:pt x="15621" y="13557"/>
                </a:cubicBezTo>
                <a:cubicBezTo>
                  <a:pt x="15607" y="13757"/>
                  <a:pt x="15575" y="13934"/>
                  <a:pt x="15526" y="14129"/>
                </a:cubicBezTo>
                <a:cubicBezTo>
                  <a:pt x="15487" y="14283"/>
                  <a:pt x="15403" y="14446"/>
                  <a:pt x="15304" y="14573"/>
                </a:cubicBezTo>
                <a:cubicBezTo>
                  <a:pt x="15242" y="14653"/>
                  <a:pt x="15162" y="14710"/>
                  <a:pt x="1508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Ink 9"/>
          <p:cNvSpPr/>
          <p:nvPr/>
        </p:nvSpPr>
        <p:spPr>
          <a:xfrm>
            <a:off x="4160880" y="3532320"/>
            <a:ext cx="949320" cy="549000"/>
          </a:xfrm>
          <a:custGeom>
            <a:avLst/>
            <a:gdLst/>
            <a:ahLst/>
            <a:rect l="l" t="t" r="r" b="b"/>
            <a:pathLst>
              <a:path w="2636" h="1525">
                <a:moveTo>
                  <a:pt x="11716" y="9811"/>
                </a:moveTo>
                <a:cubicBezTo>
                  <a:pt x="11716" y="9915"/>
                  <a:pt x="11696" y="10001"/>
                  <a:pt x="11684" y="10096"/>
                </a:cubicBezTo>
                <a:cubicBezTo>
                  <a:pt x="11667" y="10226"/>
                  <a:pt x="11679" y="10351"/>
                  <a:pt x="11652" y="10478"/>
                </a:cubicBezTo>
                <a:cubicBezTo>
                  <a:pt x="11626" y="10603"/>
                  <a:pt x="11616" y="10734"/>
                  <a:pt x="11589" y="10858"/>
                </a:cubicBezTo>
                <a:cubicBezTo>
                  <a:pt x="11564" y="10970"/>
                  <a:pt x="11557" y="11061"/>
                  <a:pt x="11557" y="11176"/>
                </a:cubicBezTo>
                <a:cubicBezTo>
                  <a:pt x="11557" y="11263"/>
                  <a:pt x="11546" y="11307"/>
                  <a:pt x="11557" y="11303"/>
                </a:cubicBezTo>
                <a:cubicBezTo>
                  <a:pt x="11568" y="11303"/>
                  <a:pt x="11578" y="11303"/>
                  <a:pt x="11589" y="11303"/>
                </a:cubicBezTo>
              </a:path>
              <a:path w="2636" h="1525">
                <a:moveTo>
                  <a:pt x="12065" y="10604"/>
                </a:moveTo>
                <a:cubicBezTo>
                  <a:pt x="12124" y="10590"/>
                  <a:pt x="12193" y="10591"/>
                  <a:pt x="12256" y="10573"/>
                </a:cubicBezTo>
                <a:cubicBezTo>
                  <a:pt x="12351" y="10546"/>
                  <a:pt x="12445" y="10494"/>
                  <a:pt x="12541" y="10478"/>
                </a:cubicBezTo>
                <a:cubicBezTo>
                  <a:pt x="12562" y="10478"/>
                  <a:pt x="12584" y="10478"/>
                  <a:pt x="12605" y="10478"/>
                </a:cubicBezTo>
              </a:path>
              <a:path w="2636" h="1525">
                <a:moveTo>
                  <a:pt x="13176" y="10160"/>
                </a:moveTo>
                <a:cubicBezTo>
                  <a:pt x="13226" y="10074"/>
                  <a:pt x="13233" y="10074"/>
                  <a:pt x="13303" y="10033"/>
                </a:cubicBezTo>
                <a:cubicBezTo>
                  <a:pt x="13374" y="9992"/>
                  <a:pt x="13395" y="9883"/>
                  <a:pt x="13494" y="9906"/>
                </a:cubicBezTo>
                <a:cubicBezTo>
                  <a:pt x="13526" y="9914"/>
                  <a:pt x="13591" y="9961"/>
                  <a:pt x="13589" y="10001"/>
                </a:cubicBezTo>
                <a:cubicBezTo>
                  <a:pt x="13585" y="10074"/>
                  <a:pt x="13553" y="10185"/>
                  <a:pt x="13526" y="10255"/>
                </a:cubicBezTo>
                <a:cubicBezTo>
                  <a:pt x="13482" y="10371"/>
                  <a:pt x="13386" y="10462"/>
                  <a:pt x="13335" y="10573"/>
                </a:cubicBezTo>
                <a:cubicBezTo>
                  <a:pt x="13277" y="10699"/>
                  <a:pt x="13187" y="10770"/>
                  <a:pt x="13113" y="10890"/>
                </a:cubicBezTo>
                <a:cubicBezTo>
                  <a:pt x="13073" y="10954"/>
                  <a:pt x="13040" y="10995"/>
                  <a:pt x="12986" y="11049"/>
                </a:cubicBezTo>
                <a:cubicBezTo>
                  <a:pt x="13035" y="11000"/>
                  <a:pt x="13056" y="10992"/>
                  <a:pt x="13113" y="10954"/>
                </a:cubicBezTo>
                <a:cubicBezTo>
                  <a:pt x="13157" y="10924"/>
                  <a:pt x="13211" y="10886"/>
                  <a:pt x="13272" y="10890"/>
                </a:cubicBezTo>
                <a:cubicBezTo>
                  <a:pt x="13282" y="10891"/>
                  <a:pt x="13424" y="10978"/>
                  <a:pt x="13430" y="10986"/>
                </a:cubicBezTo>
                <a:cubicBezTo>
                  <a:pt x="13491" y="11064"/>
                  <a:pt x="13510" y="11084"/>
                  <a:pt x="13589" y="11144"/>
                </a:cubicBezTo>
                <a:cubicBezTo>
                  <a:pt x="13643" y="11185"/>
                  <a:pt x="13711" y="11204"/>
                  <a:pt x="13780" y="11208"/>
                </a:cubicBezTo>
                <a:cubicBezTo>
                  <a:pt x="13877" y="11214"/>
                  <a:pt x="13979" y="11152"/>
                  <a:pt x="14065" y="11112"/>
                </a:cubicBezTo>
                <a:cubicBezTo>
                  <a:pt x="14135" y="11078"/>
                  <a:pt x="14160" y="11064"/>
                  <a:pt x="14192" y="11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nk 10"/>
          <p:cNvSpPr/>
          <p:nvPr/>
        </p:nvSpPr>
        <p:spPr>
          <a:xfrm>
            <a:off x="5521320" y="2708280"/>
            <a:ext cx="2092320" cy="1281240"/>
          </a:xfrm>
          <a:custGeom>
            <a:avLst/>
            <a:gdLst/>
            <a:ahLst/>
            <a:rect l="l" t="t" r="r" b="b"/>
            <a:pathLst>
              <a:path w="5812" h="3557">
                <a:moveTo>
                  <a:pt x="15335" y="9557"/>
                </a:moveTo>
                <a:cubicBezTo>
                  <a:pt x="15348" y="9518"/>
                  <a:pt x="15438" y="9502"/>
                  <a:pt x="15494" y="9493"/>
                </a:cubicBezTo>
                <a:cubicBezTo>
                  <a:pt x="15607" y="9474"/>
                  <a:pt x="15740" y="9486"/>
                  <a:pt x="15843" y="9525"/>
                </a:cubicBezTo>
              </a:path>
              <a:path w="5812" h="3557">
                <a:moveTo>
                  <a:pt x="15335" y="9970"/>
                </a:moveTo>
                <a:cubicBezTo>
                  <a:pt x="15435" y="10019"/>
                  <a:pt x="15565" y="10030"/>
                  <a:pt x="15684" y="10033"/>
                </a:cubicBezTo>
                <a:cubicBezTo>
                  <a:pt x="15727" y="10033"/>
                  <a:pt x="15769" y="10033"/>
                  <a:pt x="15812" y="10033"/>
                </a:cubicBezTo>
              </a:path>
              <a:path w="5812" h="3557">
                <a:moveTo>
                  <a:pt x="17113" y="7525"/>
                </a:moveTo>
                <a:cubicBezTo>
                  <a:pt x="17113" y="7606"/>
                  <a:pt x="17123" y="7604"/>
                  <a:pt x="17113" y="7684"/>
                </a:cubicBezTo>
                <a:cubicBezTo>
                  <a:pt x="17094" y="7841"/>
                  <a:pt x="17099" y="8005"/>
                  <a:pt x="17082" y="8160"/>
                </a:cubicBezTo>
                <a:cubicBezTo>
                  <a:pt x="17070" y="8266"/>
                  <a:pt x="17042" y="8345"/>
                  <a:pt x="17018" y="8446"/>
                </a:cubicBezTo>
                <a:cubicBezTo>
                  <a:pt x="17009" y="8485"/>
                  <a:pt x="17004" y="8544"/>
                  <a:pt x="17018" y="8509"/>
                </a:cubicBezTo>
                <a:cubicBezTo>
                  <a:pt x="17030" y="8480"/>
                  <a:pt x="17070" y="8460"/>
                  <a:pt x="17113" y="8446"/>
                </a:cubicBezTo>
                <a:cubicBezTo>
                  <a:pt x="17179" y="8424"/>
                  <a:pt x="17254" y="8462"/>
                  <a:pt x="17304" y="8477"/>
                </a:cubicBezTo>
                <a:cubicBezTo>
                  <a:pt x="17359" y="8493"/>
                  <a:pt x="17413" y="8492"/>
                  <a:pt x="17462" y="8509"/>
                </a:cubicBezTo>
                <a:cubicBezTo>
                  <a:pt x="17486" y="8517"/>
                  <a:pt x="17578" y="8469"/>
                  <a:pt x="17590" y="8446"/>
                </a:cubicBezTo>
                <a:cubicBezTo>
                  <a:pt x="17604" y="8419"/>
                  <a:pt x="17609" y="8348"/>
                  <a:pt x="17621" y="8318"/>
                </a:cubicBezTo>
              </a:path>
              <a:path w="5812" h="3557">
                <a:moveTo>
                  <a:pt x="17494" y="7525"/>
                </a:moveTo>
                <a:cubicBezTo>
                  <a:pt x="17494" y="7700"/>
                  <a:pt x="17509" y="7862"/>
                  <a:pt x="17526" y="8033"/>
                </a:cubicBezTo>
                <a:cubicBezTo>
                  <a:pt x="17542" y="8191"/>
                  <a:pt x="17553" y="8352"/>
                  <a:pt x="17558" y="8509"/>
                </a:cubicBezTo>
                <a:cubicBezTo>
                  <a:pt x="17562" y="8641"/>
                  <a:pt x="17590" y="8757"/>
                  <a:pt x="17590" y="8890"/>
                </a:cubicBezTo>
                <a:cubicBezTo>
                  <a:pt x="17590" y="8954"/>
                  <a:pt x="17590" y="8975"/>
                  <a:pt x="17590" y="9017"/>
                </a:cubicBezTo>
              </a:path>
              <a:path w="5812" h="3557">
                <a:moveTo>
                  <a:pt x="16542" y="9144"/>
                </a:moveTo>
                <a:cubicBezTo>
                  <a:pt x="16591" y="9160"/>
                  <a:pt x="16568" y="9176"/>
                  <a:pt x="16637" y="9176"/>
                </a:cubicBezTo>
                <a:cubicBezTo>
                  <a:pt x="16832" y="9176"/>
                  <a:pt x="17018" y="9171"/>
                  <a:pt x="17208" y="9144"/>
                </a:cubicBezTo>
                <a:cubicBezTo>
                  <a:pt x="17331" y="9126"/>
                  <a:pt x="17426" y="9105"/>
                  <a:pt x="17526" y="9080"/>
                </a:cubicBezTo>
                <a:cubicBezTo>
                  <a:pt x="17712" y="9033"/>
                  <a:pt x="17965" y="9080"/>
                  <a:pt x="18161" y="9080"/>
                </a:cubicBezTo>
              </a:path>
              <a:path w="5812" h="3557">
                <a:moveTo>
                  <a:pt x="16351" y="10001"/>
                </a:moveTo>
                <a:cubicBezTo>
                  <a:pt x="16421" y="10001"/>
                  <a:pt x="16442" y="9986"/>
                  <a:pt x="16510" y="9970"/>
                </a:cubicBezTo>
                <a:cubicBezTo>
                  <a:pt x="16590" y="9951"/>
                  <a:pt x="16687" y="9959"/>
                  <a:pt x="16764" y="9938"/>
                </a:cubicBezTo>
                <a:cubicBezTo>
                  <a:pt x="16835" y="9903"/>
                  <a:pt x="16864" y="9892"/>
                  <a:pt x="16923" y="9906"/>
                </a:cubicBezTo>
              </a:path>
              <a:path w="5812" h="3557">
                <a:moveTo>
                  <a:pt x="17304" y="9493"/>
                </a:moveTo>
                <a:cubicBezTo>
                  <a:pt x="17304" y="9605"/>
                  <a:pt x="17282" y="9704"/>
                  <a:pt x="17272" y="9811"/>
                </a:cubicBezTo>
                <a:cubicBezTo>
                  <a:pt x="17255" y="9989"/>
                  <a:pt x="17245" y="10172"/>
                  <a:pt x="17240" y="10350"/>
                </a:cubicBezTo>
                <a:cubicBezTo>
                  <a:pt x="17237" y="10485"/>
                  <a:pt x="17247" y="10662"/>
                  <a:pt x="17272" y="10795"/>
                </a:cubicBezTo>
                <a:cubicBezTo>
                  <a:pt x="17290" y="10892"/>
                  <a:pt x="17302" y="10991"/>
                  <a:pt x="17336" y="11081"/>
                </a:cubicBezTo>
              </a:path>
              <a:path w="5812" h="3557">
                <a:moveTo>
                  <a:pt x="18447" y="9303"/>
                </a:moveTo>
                <a:cubicBezTo>
                  <a:pt x="18551" y="9303"/>
                  <a:pt x="18635" y="9287"/>
                  <a:pt x="18732" y="9271"/>
                </a:cubicBezTo>
                <a:cubicBezTo>
                  <a:pt x="18840" y="9253"/>
                  <a:pt x="18943" y="9237"/>
                  <a:pt x="19050" y="9208"/>
                </a:cubicBezTo>
              </a:path>
              <a:path w="5812" h="3557">
                <a:moveTo>
                  <a:pt x="18669" y="9747"/>
                </a:moveTo>
                <a:cubicBezTo>
                  <a:pt x="18728" y="9733"/>
                  <a:pt x="18802" y="9720"/>
                  <a:pt x="18860" y="9684"/>
                </a:cubicBezTo>
                <a:cubicBezTo>
                  <a:pt x="18928" y="9641"/>
                  <a:pt x="19002" y="9641"/>
                  <a:pt x="19082" y="9620"/>
                </a:cubicBezTo>
                <a:cubicBezTo>
                  <a:pt x="19114" y="9609"/>
                  <a:pt x="19145" y="9599"/>
                  <a:pt x="19177" y="9588"/>
                </a:cubicBezTo>
              </a:path>
              <a:path w="5812" h="3557">
                <a:moveTo>
                  <a:pt x="19526" y="8954"/>
                </a:moveTo>
                <a:cubicBezTo>
                  <a:pt x="19555" y="8925"/>
                  <a:pt x="19566" y="8919"/>
                  <a:pt x="19558" y="8890"/>
                </a:cubicBezTo>
                <a:cubicBezTo>
                  <a:pt x="19637" y="8874"/>
                  <a:pt x="19702" y="8812"/>
                  <a:pt x="19780" y="8795"/>
                </a:cubicBezTo>
                <a:cubicBezTo>
                  <a:pt x="19846" y="8795"/>
                  <a:pt x="19870" y="8794"/>
                  <a:pt x="19907" y="8763"/>
                </a:cubicBezTo>
              </a:path>
              <a:path w="5812" h="3557">
                <a:moveTo>
                  <a:pt x="20415" y="8223"/>
                </a:moveTo>
                <a:cubicBezTo>
                  <a:pt x="20468" y="8241"/>
                  <a:pt x="20447" y="8284"/>
                  <a:pt x="20447" y="8350"/>
                </a:cubicBezTo>
                <a:cubicBezTo>
                  <a:pt x="20447" y="8475"/>
                  <a:pt x="20435" y="8639"/>
                  <a:pt x="20415" y="8763"/>
                </a:cubicBezTo>
                <a:cubicBezTo>
                  <a:pt x="20394" y="8892"/>
                  <a:pt x="20357" y="9012"/>
                  <a:pt x="20352" y="9144"/>
                </a:cubicBezTo>
                <a:cubicBezTo>
                  <a:pt x="20349" y="9229"/>
                  <a:pt x="20330" y="9285"/>
                  <a:pt x="20320" y="9366"/>
                </a:cubicBezTo>
                <a:cubicBezTo>
                  <a:pt x="20368" y="9350"/>
                  <a:pt x="20358" y="9338"/>
                  <a:pt x="20384" y="9303"/>
                </a:cubicBezTo>
                <a:cubicBezTo>
                  <a:pt x="20408" y="9271"/>
                  <a:pt x="20504" y="9249"/>
                  <a:pt x="20542" y="9239"/>
                </a:cubicBezTo>
                <a:cubicBezTo>
                  <a:pt x="20556" y="9235"/>
                  <a:pt x="20714" y="9263"/>
                  <a:pt x="20733" y="9271"/>
                </a:cubicBezTo>
                <a:cubicBezTo>
                  <a:pt x="20800" y="9297"/>
                  <a:pt x="20846" y="9328"/>
                  <a:pt x="20923" y="9334"/>
                </a:cubicBezTo>
                <a:cubicBezTo>
                  <a:pt x="20960" y="9337"/>
                  <a:pt x="21068" y="9277"/>
                  <a:pt x="21082" y="9239"/>
                </a:cubicBezTo>
                <a:cubicBezTo>
                  <a:pt x="21116" y="9145"/>
                  <a:pt x="21137" y="9022"/>
                  <a:pt x="21146" y="8922"/>
                </a:cubicBezTo>
              </a:path>
              <a:path w="5812" h="3557">
                <a:moveTo>
                  <a:pt x="21018" y="8160"/>
                </a:moveTo>
                <a:cubicBezTo>
                  <a:pt x="21009" y="8246"/>
                  <a:pt x="20976" y="8326"/>
                  <a:pt x="20987" y="8414"/>
                </a:cubicBezTo>
                <a:cubicBezTo>
                  <a:pt x="21010" y="8602"/>
                  <a:pt x="21037" y="8795"/>
                  <a:pt x="21050" y="8985"/>
                </a:cubicBezTo>
                <a:cubicBezTo>
                  <a:pt x="21065" y="9208"/>
                  <a:pt x="21099" y="9430"/>
                  <a:pt x="21114" y="9652"/>
                </a:cubicBezTo>
                <a:cubicBezTo>
                  <a:pt x="21127" y="9842"/>
                  <a:pt x="21140" y="10034"/>
                  <a:pt x="21146" y="10224"/>
                </a:cubicBezTo>
                <a:cubicBezTo>
                  <a:pt x="21146" y="10321"/>
                  <a:pt x="21145" y="10354"/>
                  <a:pt x="21114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nk 11"/>
          <p:cNvSpPr/>
          <p:nvPr/>
        </p:nvSpPr>
        <p:spPr>
          <a:xfrm>
            <a:off x="1908000" y="4138560"/>
            <a:ext cx="4150080" cy="1314360"/>
          </a:xfrm>
          <a:custGeom>
            <a:avLst/>
            <a:gdLst/>
            <a:ahLst/>
            <a:rect l="l" t="t" r="r" b="b"/>
            <a:pathLst>
              <a:path w="11527" h="3652">
                <a:moveTo>
                  <a:pt x="7398" y="12097"/>
                </a:moveTo>
                <a:cubicBezTo>
                  <a:pt x="7266" y="12115"/>
                  <a:pt x="7146" y="12130"/>
                  <a:pt x="7017" y="12160"/>
                </a:cubicBezTo>
                <a:cubicBezTo>
                  <a:pt x="6899" y="12188"/>
                  <a:pt x="6789" y="12217"/>
                  <a:pt x="6668" y="12256"/>
                </a:cubicBezTo>
                <a:cubicBezTo>
                  <a:pt x="6465" y="12322"/>
                  <a:pt x="6279" y="12405"/>
                  <a:pt x="6096" y="12510"/>
                </a:cubicBezTo>
                <a:cubicBezTo>
                  <a:pt x="5961" y="12588"/>
                  <a:pt x="5854" y="12683"/>
                  <a:pt x="5747" y="12795"/>
                </a:cubicBezTo>
                <a:cubicBezTo>
                  <a:pt x="5634" y="12914"/>
                  <a:pt x="5523" y="13059"/>
                  <a:pt x="5461" y="13208"/>
                </a:cubicBezTo>
                <a:cubicBezTo>
                  <a:pt x="5415" y="13320"/>
                  <a:pt x="5401" y="13469"/>
                  <a:pt x="5398" y="13589"/>
                </a:cubicBezTo>
                <a:cubicBezTo>
                  <a:pt x="5395" y="13693"/>
                  <a:pt x="5421" y="13812"/>
                  <a:pt x="5461" y="13906"/>
                </a:cubicBezTo>
                <a:cubicBezTo>
                  <a:pt x="5500" y="13999"/>
                  <a:pt x="5617" y="14147"/>
                  <a:pt x="5683" y="14224"/>
                </a:cubicBezTo>
                <a:cubicBezTo>
                  <a:pt x="5747" y="14299"/>
                  <a:pt x="5791" y="14357"/>
                  <a:pt x="5874" y="14414"/>
                </a:cubicBezTo>
                <a:cubicBezTo>
                  <a:pt x="6017" y="14512"/>
                  <a:pt x="6189" y="14519"/>
                  <a:pt x="6350" y="14542"/>
                </a:cubicBezTo>
                <a:cubicBezTo>
                  <a:pt x="6467" y="14559"/>
                  <a:pt x="6581" y="14560"/>
                  <a:pt x="6699" y="14573"/>
                </a:cubicBezTo>
                <a:cubicBezTo>
                  <a:pt x="6821" y="14586"/>
                  <a:pt x="6930" y="14585"/>
                  <a:pt x="7048" y="14605"/>
                </a:cubicBezTo>
                <a:cubicBezTo>
                  <a:pt x="7175" y="14626"/>
                  <a:pt x="7304" y="14646"/>
                  <a:pt x="7430" y="14668"/>
                </a:cubicBezTo>
                <a:cubicBezTo>
                  <a:pt x="7568" y="14692"/>
                  <a:pt x="7703" y="14735"/>
                  <a:pt x="7842" y="14764"/>
                </a:cubicBezTo>
                <a:cubicBezTo>
                  <a:pt x="7980" y="14793"/>
                  <a:pt x="8117" y="14802"/>
                  <a:pt x="8255" y="14827"/>
                </a:cubicBezTo>
                <a:cubicBezTo>
                  <a:pt x="8407" y="14854"/>
                  <a:pt x="8546" y="14884"/>
                  <a:pt x="8700" y="14891"/>
                </a:cubicBezTo>
                <a:cubicBezTo>
                  <a:pt x="9325" y="14920"/>
                  <a:pt x="9963" y="14883"/>
                  <a:pt x="10573" y="14859"/>
                </a:cubicBezTo>
                <a:cubicBezTo>
                  <a:pt x="11300" y="14831"/>
                  <a:pt x="12050" y="14840"/>
                  <a:pt x="12764" y="14922"/>
                </a:cubicBezTo>
                <a:cubicBezTo>
                  <a:pt x="12924" y="14940"/>
                  <a:pt x="13082" y="14963"/>
                  <a:pt x="13240" y="14986"/>
                </a:cubicBezTo>
                <a:cubicBezTo>
                  <a:pt x="13397" y="15009"/>
                  <a:pt x="13558" y="15029"/>
                  <a:pt x="13716" y="15050"/>
                </a:cubicBezTo>
                <a:cubicBezTo>
                  <a:pt x="13863" y="15069"/>
                  <a:pt x="14013" y="15068"/>
                  <a:pt x="14160" y="15081"/>
                </a:cubicBezTo>
                <a:cubicBezTo>
                  <a:pt x="14318" y="15095"/>
                  <a:pt x="14480" y="15138"/>
                  <a:pt x="14637" y="15145"/>
                </a:cubicBezTo>
                <a:cubicBezTo>
                  <a:pt x="14850" y="15155"/>
                  <a:pt x="15062" y="15132"/>
                  <a:pt x="15272" y="15113"/>
                </a:cubicBezTo>
                <a:cubicBezTo>
                  <a:pt x="15415" y="15100"/>
                  <a:pt x="15546" y="15088"/>
                  <a:pt x="15684" y="15050"/>
                </a:cubicBezTo>
                <a:cubicBezTo>
                  <a:pt x="15794" y="15020"/>
                  <a:pt x="15932" y="14972"/>
                  <a:pt x="16034" y="14922"/>
                </a:cubicBezTo>
                <a:cubicBezTo>
                  <a:pt x="16143" y="14869"/>
                  <a:pt x="16256" y="14782"/>
                  <a:pt x="16351" y="14700"/>
                </a:cubicBezTo>
                <a:cubicBezTo>
                  <a:pt x="16443" y="14620"/>
                  <a:pt x="16545" y="14490"/>
                  <a:pt x="16605" y="14383"/>
                </a:cubicBezTo>
                <a:cubicBezTo>
                  <a:pt x="16696" y="14220"/>
                  <a:pt x="16766" y="14031"/>
                  <a:pt x="16796" y="13843"/>
                </a:cubicBezTo>
                <a:cubicBezTo>
                  <a:pt x="16826" y="13651"/>
                  <a:pt x="16852" y="13439"/>
                  <a:pt x="16828" y="13240"/>
                </a:cubicBezTo>
                <a:cubicBezTo>
                  <a:pt x="16811" y="13099"/>
                  <a:pt x="16784" y="12963"/>
                  <a:pt x="16732" y="12827"/>
                </a:cubicBezTo>
                <a:cubicBezTo>
                  <a:pt x="16686" y="12705"/>
                  <a:pt x="16621" y="12584"/>
                  <a:pt x="16542" y="12478"/>
                </a:cubicBezTo>
                <a:cubicBezTo>
                  <a:pt x="16397" y="12284"/>
                  <a:pt x="16199" y="12189"/>
                  <a:pt x="16002" y="12065"/>
                </a:cubicBezTo>
                <a:cubicBezTo>
                  <a:pt x="15886" y="11992"/>
                  <a:pt x="15775" y="11932"/>
                  <a:pt x="15653" y="11874"/>
                </a:cubicBezTo>
                <a:cubicBezTo>
                  <a:pt x="15527" y="11814"/>
                  <a:pt x="15404" y="11765"/>
                  <a:pt x="15272" y="11716"/>
                </a:cubicBezTo>
                <a:cubicBezTo>
                  <a:pt x="15098" y="11652"/>
                  <a:pt x="14913" y="11615"/>
                  <a:pt x="14732" y="11589"/>
                </a:cubicBezTo>
                <a:cubicBezTo>
                  <a:pt x="14579" y="11567"/>
                  <a:pt x="14411" y="11564"/>
                  <a:pt x="14256" y="11557"/>
                </a:cubicBezTo>
                <a:cubicBezTo>
                  <a:pt x="13917" y="11542"/>
                  <a:pt x="13577" y="11529"/>
                  <a:pt x="13240" y="11525"/>
                </a:cubicBezTo>
                <a:cubicBezTo>
                  <a:pt x="12519" y="11516"/>
                  <a:pt x="11799" y="11502"/>
                  <a:pt x="11081" y="11494"/>
                </a:cubicBezTo>
                <a:cubicBezTo>
                  <a:pt x="10541" y="11488"/>
                  <a:pt x="9998" y="11483"/>
                  <a:pt x="9462" y="11525"/>
                </a:cubicBezTo>
                <a:cubicBezTo>
                  <a:pt x="9290" y="11539"/>
                  <a:pt x="9128" y="11555"/>
                  <a:pt x="8954" y="11557"/>
                </a:cubicBezTo>
                <a:cubicBezTo>
                  <a:pt x="8696" y="11560"/>
                  <a:pt x="8446" y="11580"/>
                  <a:pt x="8192" y="11589"/>
                </a:cubicBezTo>
                <a:cubicBezTo>
                  <a:pt x="7843" y="11601"/>
                  <a:pt x="7487" y="11566"/>
                  <a:pt x="7144" y="11620"/>
                </a:cubicBezTo>
                <a:cubicBezTo>
                  <a:pt x="7010" y="11641"/>
                  <a:pt x="6894" y="11684"/>
                  <a:pt x="6763" y="11716"/>
                </a:cubicBezTo>
                <a:cubicBezTo>
                  <a:pt x="6665" y="11740"/>
                  <a:pt x="6575" y="11771"/>
                  <a:pt x="6477" y="11811"/>
                </a:cubicBezTo>
                <a:cubicBezTo>
                  <a:pt x="6081" y="11972"/>
                  <a:pt x="5754" y="12187"/>
                  <a:pt x="5556" y="12573"/>
                </a:cubicBezTo>
                <a:cubicBezTo>
                  <a:pt x="5466" y="12749"/>
                  <a:pt x="5373" y="12947"/>
                  <a:pt x="5334" y="13144"/>
                </a:cubicBezTo>
                <a:cubicBezTo>
                  <a:pt x="5295" y="13340"/>
                  <a:pt x="5286" y="13521"/>
                  <a:pt x="5334" y="13716"/>
                </a:cubicBezTo>
                <a:cubicBezTo>
                  <a:pt x="5355" y="13748"/>
                  <a:pt x="5377" y="13779"/>
                  <a:pt x="5398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of an undefined line through the point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nk 3"/>
          <p:cNvSpPr/>
          <p:nvPr/>
        </p:nvSpPr>
        <p:spPr>
          <a:xfrm>
            <a:off x="2697120" y="2857680"/>
            <a:ext cx="2024280" cy="960120"/>
          </a:xfrm>
          <a:custGeom>
            <a:avLst/>
            <a:gdLst/>
            <a:ahLst/>
            <a:rect l="l" t="t" r="r" b="b"/>
            <a:pathLst>
              <a:path w="5621" h="2667">
                <a:moveTo>
                  <a:pt x="8001" y="7969"/>
                </a:moveTo>
                <a:cubicBezTo>
                  <a:pt x="8033" y="8065"/>
                  <a:pt x="8039" y="8158"/>
                  <a:pt x="8064" y="8255"/>
                </a:cubicBezTo>
                <a:cubicBezTo>
                  <a:pt x="8095" y="8373"/>
                  <a:pt x="8126" y="8485"/>
                  <a:pt x="8160" y="8604"/>
                </a:cubicBezTo>
                <a:cubicBezTo>
                  <a:pt x="8205" y="8761"/>
                  <a:pt x="8246" y="8902"/>
                  <a:pt x="8318" y="9049"/>
                </a:cubicBezTo>
                <a:cubicBezTo>
                  <a:pt x="8395" y="9207"/>
                  <a:pt x="8439" y="9371"/>
                  <a:pt x="8509" y="9525"/>
                </a:cubicBezTo>
                <a:cubicBezTo>
                  <a:pt x="8572" y="9664"/>
                  <a:pt x="8647" y="9793"/>
                  <a:pt x="8700" y="9938"/>
                </a:cubicBezTo>
                <a:cubicBezTo>
                  <a:pt x="8737" y="10038"/>
                  <a:pt x="8779" y="10129"/>
                  <a:pt x="8826" y="10224"/>
                </a:cubicBezTo>
                <a:cubicBezTo>
                  <a:pt x="8869" y="10311"/>
                  <a:pt x="8864" y="10262"/>
                  <a:pt x="8890" y="10255"/>
                </a:cubicBezTo>
              </a:path>
              <a:path w="5621" h="2667">
                <a:moveTo>
                  <a:pt x="9144" y="8255"/>
                </a:moveTo>
                <a:cubicBezTo>
                  <a:pt x="9091" y="8338"/>
                  <a:pt x="9040" y="8425"/>
                  <a:pt x="8985" y="8509"/>
                </a:cubicBezTo>
                <a:cubicBezTo>
                  <a:pt x="8886" y="8661"/>
                  <a:pt x="8776" y="8806"/>
                  <a:pt x="8668" y="8954"/>
                </a:cubicBezTo>
                <a:cubicBezTo>
                  <a:pt x="8538" y="9133"/>
                  <a:pt x="8417" y="9315"/>
                  <a:pt x="8287" y="9493"/>
                </a:cubicBezTo>
                <a:cubicBezTo>
                  <a:pt x="8164" y="9662"/>
                  <a:pt x="8040" y="9841"/>
                  <a:pt x="7906" y="10001"/>
                </a:cubicBezTo>
                <a:cubicBezTo>
                  <a:pt x="7815" y="10109"/>
                  <a:pt x="7709" y="10213"/>
                  <a:pt x="7620" y="10319"/>
                </a:cubicBezTo>
                <a:cubicBezTo>
                  <a:pt x="7582" y="10365"/>
                  <a:pt x="7518" y="10421"/>
                  <a:pt x="7493" y="10446"/>
                </a:cubicBezTo>
              </a:path>
              <a:path w="5621" h="2667">
                <a:moveTo>
                  <a:pt x="9652" y="9049"/>
                </a:moveTo>
                <a:cubicBezTo>
                  <a:pt x="9662" y="9020"/>
                  <a:pt x="9706" y="8999"/>
                  <a:pt x="9747" y="8985"/>
                </a:cubicBezTo>
                <a:cubicBezTo>
                  <a:pt x="9813" y="8963"/>
                  <a:pt x="9903" y="8977"/>
                  <a:pt x="9970" y="8954"/>
                </a:cubicBezTo>
                <a:cubicBezTo>
                  <a:pt x="10075" y="8919"/>
                  <a:pt x="10175" y="8895"/>
                  <a:pt x="10287" y="8890"/>
                </a:cubicBezTo>
                <a:cubicBezTo>
                  <a:pt x="10350" y="8887"/>
                  <a:pt x="10483" y="8881"/>
                  <a:pt x="10541" y="8858"/>
                </a:cubicBezTo>
                <a:cubicBezTo>
                  <a:pt x="10592" y="8838"/>
                  <a:pt x="10576" y="8826"/>
                  <a:pt x="10636" y="8826"/>
                </a:cubicBezTo>
              </a:path>
              <a:path w="5621" h="2667">
                <a:moveTo>
                  <a:pt x="9716" y="9525"/>
                </a:moveTo>
                <a:cubicBezTo>
                  <a:pt x="9784" y="9525"/>
                  <a:pt x="9810" y="9504"/>
                  <a:pt x="9874" y="9493"/>
                </a:cubicBezTo>
                <a:cubicBezTo>
                  <a:pt x="9978" y="9475"/>
                  <a:pt x="10062" y="9427"/>
                  <a:pt x="10160" y="9398"/>
                </a:cubicBezTo>
                <a:cubicBezTo>
                  <a:pt x="10289" y="9360"/>
                  <a:pt x="10406" y="9366"/>
                  <a:pt x="10541" y="9366"/>
                </a:cubicBezTo>
                <a:cubicBezTo>
                  <a:pt x="10641" y="9366"/>
                  <a:pt x="10704" y="9367"/>
                  <a:pt x="10795" y="9398"/>
                </a:cubicBezTo>
              </a:path>
              <a:path w="5621" h="2667">
                <a:moveTo>
                  <a:pt x="11144" y="8572"/>
                </a:moveTo>
                <a:cubicBezTo>
                  <a:pt x="11133" y="8562"/>
                  <a:pt x="11123" y="8551"/>
                  <a:pt x="11112" y="8541"/>
                </a:cubicBezTo>
                <a:cubicBezTo>
                  <a:pt x="11193" y="8541"/>
                  <a:pt x="11230" y="8522"/>
                  <a:pt x="11303" y="8509"/>
                </a:cubicBezTo>
                <a:cubicBezTo>
                  <a:pt x="11443" y="8484"/>
                  <a:pt x="11575" y="8512"/>
                  <a:pt x="11716" y="8477"/>
                </a:cubicBezTo>
              </a:path>
              <a:path w="5621" h="2667">
                <a:moveTo>
                  <a:pt x="12224" y="8160"/>
                </a:moveTo>
                <a:cubicBezTo>
                  <a:pt x="12276" y="8245"/>
                  <a:pt x="12241" y="8219"/>
                  <a:pt x="12224" y="8318"/>
                </a:cubicBezTo>
                <a:cubicBezTo>
                  <a:pt x="12204" y="8436"/>
                  <a:pt x="12195" y="8552"/>
                  <a:pt x="12160" y="8668"/>
                </a:cubicBezTo>
                <a:cubicBezTo>
                  <a:pt x="12127" y="8779"/>
                  <a:pt x="12089" y="8905"/>
                  <a:pt x="12065" y="9017"/>
                </a:cubicBezTo>
                <a:cubicBezTo>
                  <a:pt x="12049" y="9093"/>
                  <a:pt x="12038" y="9160"/>
                  <a:pt x="12033" y="9239"/>
                </a:cubicBezTo>
                <a:cubicBezTo>
                  <a:pt x="12033" y="9250"/>
                  <a:pt x="12033" y="9260"/>
                  <a:pt x="12033" y="9271"/>
                </a:cubicBezTo>
                <a:cubicBezTo>
                  <a:pt x="12060" y="9244"/>
                  <a:pt x="12074" y="9230"/>
                  <a:pt x="12128" y="9208"/>
                </a:cubicBezTo>
                <a:cubicBezTo>
                  <a:pt x="12183" y="9186"/>
                  <a:pt x="12255" y="9165"/>
                  <a:pt x="12319" y="9176"/>
                </a:cubicBezTo>
                <a:cubicBezTo>
                  <a:pt x="12412" y="9192"/>
                  <a:pt x="12516" y="9216"/>
                  <a:pt x="12605" y="9239"/>
                </a:cubicBezTo>
                <a:cubicBezTo>
                  <a:pt x="12679" y="9258"/>
                  <a:pt x="12810" y="9302"/>
                  <a:pt x="12890" y="9271"/>
                </a:cubicBezTo>
                <a:cubicBezTo>
                  <a:pt x="12992" y="9232"/>
                  <a:pt x="13016" y="9145"/>
                  <a:pt x="13049" y="9049"/>
                </a:cubicBezTo>
                <a:cubicBezTo>
                  <a:pt x="13060" y="9017"/>
                  <a:pt x="13070" y="8986"/>
                  <a:pt x="13081" y="8954"/>
                </a:cubicBezTo>
              </a:path>
              <a:path w="5621" h="2667">
                <a:moveTo>
                  <a:pt x="13113" y="7938"/>
                </a:moveTo>
                <a:cubicBezTo>
                  <a:pt x="13113" y="8091"/>
                  <a:pt x="13092" y="8233"/>
                  <a:pt x="13081" y="8382"/>
                </a:cubicBezTo>
                <a:cubicBezTo>
                  <a:pt x="13065" y="8603"/>
                  <a:pt x="13043" y="8828"/>
                  <a:pt x="13018" y="9049"/>
                </a:cubicBezTo>
                <a:cubicBezTo>
                  <a:pt x="12990" y="9304"/>
                  <a:pt x="12907" y="9555"/>
                  <a:pt x="12890" y="9811"/>
                </a:cubicBezTo>
                <a:cubicBezTo>
                  <a:pt x="12872" y="10078"/>
                  <a:pt x="12861" y="10339"/>
                  <a:pt x="12827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nk 4"/>
          <p:cNvSpPr/>
          <p:nvPr/>
        </p:nvSpPr>
        <p:spPr>
          <a:xfrm>
            <a:off x="6411960" y="1852560"/>
            <a:ext cx="355680" cy="2879640"/>
          </a:xfrm>
          <a:custGeom>
            <a:avLst/>
            <a:gdLst/>
            <a:ahLst/>
            <a:rect l="l" t="t" r="r" b="b"/>
            <a:pathLst>
              <a:path w="985" h="8001">
                <a:moveTo>
                  <a:pt x="18510" y="5270"/>
                </a:moveTo>
                <a:cubicBezTo>
                  <a:pt x="18495" y="5356"/>
                  <a:pt x="18485" y="5407"/>
                  <a:pt x="18478" y="5493"/>
                </a:cubicBezTo>
                <a:cubicBezTo>
                  <a:pt x="18463" y="5671"/>
                  <a:pt x="18452" y="5856"/>
                  <a:pt x="18447" y="6032"/>
                </a:cubicBezTo>
                <a:cubicBezTo>
                  <a:pt x="18442" y="6224"/>
                  <a:pt x="18441" y="6415"/>
                  <a:pt x="18415" y="6604"/>
                </a:cubicBezTo>
                <a:cubicBezTo>
                  <a:pt x="18383" y="6836"/>
                  <a:pt x="18379" y="7070"/>
                  <a:pt x="18352" y="7302"/>
                </a:cubicBezTo>
                <a:cubicBezTo>
                  <a:pt x="18320" y="7570"/>
                  <a:pt x="18311" y="7828"/>
                  <a:pt x="18288" y="8096"/>
                </a:cubicBezTo>
                <a:cubicBezTo>
                  <a:pt x="18264" y="8382"/>
                  <a:pt x="18279" y="8669"/>
                  <a:pt x="18256" y="8954"/>
                </a:cubicBezTo>
                <a:cubicBezTo>
                  <a:pt x="18230" y="9271"/>
                  <a:pt x="18242" y="9558"/>
                  <a:pt x="18256" y="9874"/>
                </a:cubicBezTo>
                <a:cubicBezTo>
                  <a:pt x="18273" y="10255"/>
                  <a:pt x="18270" y="10637"/>
                  <a:pt x="18288" y="11017"/>
                </a:cubicBezTo>
                <a:cubicBezTo>
                  <a:pt x="18302" y="11313"/>
                  <a:pt x="18315" y="11610"/>
                  <a:pt x="18320" y="11906"/>
                </a:cubicBezTo>
                <a:cubicBezTo>
                  <a:pt x="18326" y="12255"/>
                  <a:pt x="18320" y="12605"/>
                  <a:pt x="18320" y="12954"/>
                </a:cubicBezTo>
              </a:path>
              <a:path w="985" h="8001">
                <a:moveTo>
                  <a:pt x="17812" y="11906"/>
                </a:moveTo>
                <a:cubicBezTo>
                  <a:pt x="17821" y="11972"/>
                  <a:pt x="17830" y="12005"/>
                  <a:pt x="17875" y="12065"/>
                </a:cubicBezTo>
                <a:cubicBezTo>
                  <a:pt x="17925" y="12131"/>
                  <a:pt x="17934" y="12235"/>
                  <a:pt x="17970" y="12319"/>
                </a:cubicBezTo>
                <a:cubicBezTo>
                  <a:pt x="18034" y="12469"/>
                  <a:pt x="18094" y="12617"/>
                  <a:pt x="18161" y="12764"/>
                </a:cubicBezTo>
                <a:cubicBezTo>
                  <a:pt x="18210" y="12872"/>
                  <a:pt x="18269" y="12974"/>
                  <a:pt x="18320" y="13081"/>
                </a:cubicBezTo>
                <a:cubicBezTo>
                  <a:pt x="18320" y="13117"/>
                  <a:pt x="18323" y="13131"/>
                  <a:pt x="18352" y="13144"/>
                </a:cubicBezTo>
                <a:cubicBezTo>
                  <a:pt x="18393" y="13074"/>
                  <a:pt x="18383" y="13008"/>
                  <a:pt x="18383" y="12922"/>
                </a:cubicBezTo>
                <a:cubicBezTo>
                  <a:pt x="18383" y="12784"/>
                  <a:pt x="18415" y="12643"/>
                  <a:pt x="18447" y="12510"/>
                </a:cubicBezTo>
                <a:cubicBezTo>
                  <a:pt x="18491" y="12327"/>
                  <a:pt x="18508" y="12154"/>
                  <a:pt x="18542" y="11970"/>
                </a:cubicBezTo>
                <a:cubicBezTo>
                  <a:pt x="18571" y="11811"/>
                  <a:pt x="18606" y="11653"/>
                  <a:pt x="18637" y="11494"/>
                </a:cubicBezTo>
              </a:path>
              <a:path w="985" h="8001">
                <a:moveTo>
                  <a:pt x="18129" y="5906"/>
                </a:moveTo>
                <a:cubicBezTo>
                  <a:pt x="18167" y="5893"/>
                  <a:pt x="18167" y="5856"/>
                  <a:pt x="18193" y="5810"/>
                </a:cubicBezTo>
                <a:cubicBezTo>
                  <a:pt x="18242" y="5723"/>
                  <a:pt x="18267" y="5604"/>
                  <a:pt x="18320" y="5524"/>
                </a:cubicBezTo>
                <a:cubicBezTo>
                  <a:pt x="18380" y="5433"/>
                  <a:pt x="18443" y="5328"/>
                  <a:pt x="18510" y="5239"/>
                </a:cubicBezTo>
                <a:cubicBezTo>
                  <a:pt x="18536" y="5205"/>
                  <a:pt x="18575" y="5174"/>
                  <a:pt x="18606" y="5144"/>
                </a:cubicBezTo>
                <a:cubicBezTo>
                  <a:pt x="18624" y="5237"/>
                  <a:pt x="18610" y="5271"/>
                  <a:pt x="18606" y="5366"/>
                </a:cubicBezTo>
                <a:cubicBezTo>
                  <a:pt x="18601" y="5482"/>
                  <a:pt x="18641" y="5602"/>
                  <a:pt x="18669" y="5715"/>
                </a:cubicBezTo>
                <a:cubicBezTo>
                  <a:pt x="18704" y="5855"/>
                  <a:pt x="18750" y="5991"/>
                  <a:pt x="18796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nk 5"/>
          <p:cNvSpPr/>
          <p:nvPr/>
        </p:nvSpPr>
        <p:spPr>
          <a:xfrm>
            <a:off x="5303880" y="3143160"/>
            <a:ext cx="239760" cy="263520"/>
          </a:xfrm>
          <a:custGeom>
            <a:avLst/>
            <a:gdLst/>
            <a:ahLst/>
            <a:rect l="l" t="t" r="r" b="b"/>
            <a:pathLst>
              <a:path w="668" h="732">
                <a:moveTo>
                  <a:pt x="14986" y="8731"/>
                </a:moveTo>
                <a:cubicBezTo>
                  <a:pt x="15023" y="8780"/>
                  <a:pt x="15018" y="8796"/>
                  <a:pt x="15018" y="8858"/>
                </a:cubicBezTo>
                <a:cubicBezTo>
                  <a:pt x="15018" y="8914"/>
                  <a:pt x="14983" y="9002"/>
                  <a:pt x="14954" y="9049"/>
                </a:cubicBezTo>
                <a:cubicBezTo>
                  <a:pt x="14919" y="9106"/>
                  <a:pt x="14876" y="9159"/>
                  <a:pt x="14827" y="9208"/>
                </a:cubicBezTo>
                <a:cubicBezTo>
                  <a:pt x="14790" y="9245"/>
                  <a:pt x="14779" y="9259"/>
                  <a:pt x="14732" y="9271"/>
                </a:cubicBezTo>
                <a:cubicBezTo>
                  <a:pt x="14804" y="9325"/>
                  <a:pt x="14867" y="9308"/>
                  <a:pt x="14954" y="9334"/>
                </a:cubicBezTo>
                <a:cubicBezTo>
                  <a:pt x="15046" y="9362"/>
                  <a:pt x="15147" y="9383"/>
                  <a:pt x="15240" y="9398"/>
                </a:cubicBezTo>
                <a:cubicBezTo>
                  <a:pt x="15321" y="9398"/>
                  <a:pt x="15356" y="9407"/>
                  <a:pt x="15399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Ink 6"/>
          <p:cNvSpPr/>
          <p:nvPr/>
        </p:nvSpPr>
        <p:spPr>
          <a:xfrm>
            <a:off x="7851600" y="3063960"/>
            <a:ext cx="263880" cy="296640"/>
          </a:xfrm>
          <a:custGeom>
            <a:avLst/>
            <a:gdLst/>
            <a:ahLst/>
            <a:rect l="l" t="t" r="r" b="b"/>
            <a:pathLst>
              <a:path w="731" h="826">
                <a:moveTo>
                  <a:pt x="21812" y="8509"/>
                </a:moveTo>
                <a:cubicBezTo>
                  <a:pt x="21824" y="8556"/>
                  <a:pt x="21859" y="8588"/>
                  <a:pt x="21908" y="8604"/>
                </a:cubicBezTo>
                <a:cubicBezTo>
                  <a:pt x="21966" y="8624"/>
                  <a:pt x="22032" y="8657"/>
                  <a:pt x="22098" y="8668"/>
                </a:cubicBezTo>
                <a:cubicBezTo>
                  <a:pt x="22181" y="8682"/>
                  <a:pt x="22270" y="8695"/>
                  <a:pt x="22352" y="8700"/>
                </a:cubicBezTo>
                <a:cubicBezTo>
                  <a:pt x="22402" y="8703"/>
                  <a:pt x="22516" y="8710"/>
                  <a:pt x="22542" y="8763"/>
                </a:cubicBezTo>
                <a:cubicBezTo>
                  <a:pt x="22566" y="8811"/>
                  <a:pt x="22515" y="8867"/>
                  <a:pt x="22479" y="8890"/>
                </a:cubicBezTo>
                <a:cubicBezTo>
                  <a:pt x="22394" y="8945"/>
                  <a:pt x="22307" y="8994"/>
                  <a:pt x="22225" y="9049"/>
                </a:cubicBezTo>
                <a:cubicBezTo>
                  <a:pt x="22155" y="9095"/>
                  <a:pt x="22027" y="9148"/>
                  <a:pt x="21971" y="9208"/>
                </a:cubicBezTo>
                <a:cubicBezTo>
                  <a:pt x="21936" y="9246"/>
                  <a:pt x="21894" y="9298"/>
                  <a:pt x="21876" y="9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nk 7"/>
          <p:cNvSpPr/>
          <p:nvPr/>
        </p:nvSpPr>
        <p:spPr>
          <a:xfrm>
            <a:off x="5954760" y="2149560"/>
            <a:ext cx="480960" cy="2011320"/>
          </a:xfrm>
          <a:custGeom>
            <a:avLst/>
            <a:gdLst/>
            <a:ahLst/>
            <a:rect l="l" t="t" r="r" b="b"/>
            <a:pathLst>
              <a:path w="1334" h="5589">
                <a:moveTo>
                  <a:pt x="16764" y="7906"/>
                </a:moveTo>
                <a:cubicBezTo>
                  <a:pt x="16749" y="7952"/>
                  <a:pt x="16732" y="7957"/>
                  <a:pt x="16732" y="8033"/>
                </a:cubicBezTo>
                <a:cubicBezTo>
                  <a:pt x="16732" y="8100"/>
                  <a:pt x="16730" y="8096"/>
                  <a:pt x="16796" y="8096"/>
                </a:cubicBezTo>
                <a:cubicBezTo>
                  <a:pt x="16863" y="8096"/>
                  <a:pt x="16859" y="8054"/>
                  <a:pt x="16859" y="8001"/>
                </a:cubicBezTo>
                <a:cubicBezTo>
                  <a:pt x="16859" y="7960"/>
                  <a:pt x="16837" y="7944"/>
                  <a:pt x="16828" y="7906"/>
                </a:cubicBezTo>
                <a:cubicBezTo>
                  <a:pt x="16747" y="7906"/>
                  <a:pt x="16764" y="7916"/>
                  <a:pt x="16764" y="8001"/>
                </a:cubicBezTo>
                <a:cubicBezTo>
                  <a:pt x="16764" y="8066"/>
                  <a:pt x="16765" y="8080"/>
                  <a:pt x="16828" y="8096"/>
                </a:cubicBezTo>
                <a:cubicBezTo>
                  <a:pt x="16828" y="8021"/>
                  <a:pt x="16844" y="7937"/>
                  <a:pt x="16796" y="7906"/>
                </a:cubicBezTo>
                <a:cubicBezTo>
                  <a:pt x="16783" y="7956"/>
                  <a:pt x="16764" y="7976"/>
                  <a:pt x="16764" y="8033"/>
                </a:cubicBezTo>
                <a:cubicBezTo>
                  <a:pt x="16764" y="8065"/>
                  <a:pt x="16764" y="8096"/>
                  <a:pt x="16764" y="8128"/>
                </a:cubicBezTo>
                <a:cubicBezTo>
                  <a:pt x="16827" y="8112"/>
                  <a:pt x="16828" y="8098"/>
                  <a:pt x="16828" y="8033"/>
                </a:cubicBezTo>
                <a:cubicBezTo>
                  <a:pt x="16828" y="7988"/>
                  <a:pt x="16896" y="7872"/>
                  <a:pt x="16796" y="7938"/>
                </a:cubicBezTo>
                <a:cubicBezTo>
                  <a:pt x="16763" y="7960"/>
                  <a:pt x="16736" y="8028"/>
                  <a:pt x="16732" y="8064"/>
                </a:cubicBezTo>
                <a:cubicBezTo>
                  <a:pt x="16727" y="8106"/>
                  <a:pt x="16758" y="8083"/>
                  <a:pt x="16796" y="8064"/>
                </a:cubicBezTo>
                <a:cubicBezTo>
                  <a:pt x="16807" y="8064"/>
                  <a:pt x="16817" y="8064"/>
                  <a:pt x="16828" y="8064"/>
                </a:cubicBezTo>
              </a:path>
              <a:path w="1334" h="5589">
                <a:moveTo>
                  <a:pt x="16828" y="6191"/>
                </a:moveTo>
                <a:lnTo>
                  <a:pt x="16828" y="6191"/>
                </a:lnTo>
              </a:path>
              <a:path w="1334" h="5589">
                <a:moveTo>
                  <a:pt x="16828" y="6191"/>
                </a:moveTo>
                <a:lnTo>
                  <a:pt x="16828" y="6191"/>
                </a:lnTo>
              </a:path>
              <a:path w="1334" h="5589">
                <a:moveTo>
                  <a:pt x="16828" y="6286"/>
                </a:moveTo>
                <a:cubicBezTo>
                  <a:pt x="16828" y="6491"/>
                  <a:pt x="16839" y="6704"/>
                  <a:pt x="16859" y="6890"/>
                </a:cubicBezTo>
                <a:cubicBezTo>
                  <a:pt x="16867" y="6963"/>
                  <a:pt x="16822" y="6992"/>
                  <a:pt x="16828" y="7048"/>
                </a:cubicBezTo>
                <a:cubicBezTo>
                  <a:pt x="16835" y="7117"/>
                  <a:pt x="16870" y="7163"/>
                  <a:pt x="16859" y="7239"/>
                </a:cubicBezTo>
                <a:cubicBezTo>
                  <a:pt x="16850" y="7303"/>
                  <a:pt x="16834" y="7332"/>
                  <a:pt x="16828" y="7398"/>
                </a:cubicBezTo>
                <a:cubicBezTo>
                  <a:pt x="16811" y="7585"/>
                  <a:pt x="16814" y="7799"/>
                  <a:pt x="16796" y="7969"/>
                </a:cubicBezTo>
                <a:cubicBezTo>
                  <a:pt x="16779" y="8122"/>
                  <a:pt x="16813" y="8281"/>
                  <a:pt x="16828" y="8414"/>
                </a:cubicBezTo>
                <a:cubicBezTo>
                  <a:pt x="16853" y="8633"/>
                  <a:pt x="16816" y="8882"/>
                  <a:pt x="16796" y="9080"/>
                </a:cubicBezTo>
                <a:cubicBezTo>
                  <a:pt x="16778" y="9256"/>
                  <a:pt x="16779" y="9451"/>
                  <a:pt x="16764" y="9620"/>
                </a:cubicBezTo>
                <a:cubicBezTo>
                  <a:pt x="16751" y="9767"/>
                  <a:pt x="16744" y="9926"/>
                  <a:pt x="16732" y="10065"/>
                </a:cubicBezTo>
                <a:cubicBezTo>
                  <a:pt x="16717" y="10241"/>
                  <a:pt x="16714" y="10446"/>
                  <a:pt x="16700" y="10604"/>
                </a:cubicBezTo>
                <a:cubicBezTo>
                  <a:pt x="16685" y="10773"/>
                  <a:pt x="16686" y="10950"/>
                  <a:pt x="16669" y="11112"/>
                </a:cubicBezTo>
                <a:cubicBezTo>
                  <a:pt x="16656" y="11236"/>
                  <a:pt x="16669" y="11369"/>
                  <a:pt x="16669" y="11494"/>
                </a:cubicBezTo>
              </a:path>
              <a:path w="1334" h="5589">
                <a:moveTo>
                  <a:pt x="16542" y="10986"/>
                </a:moveTo>
                <a:cubicBezTo>
                  <a:pt x="16542" y="11092"/>
                  <a:pt x="16557" y="11173"/>
                  <a:pt x="16574" y="11271"/>
                </a:cubicBezTo>
                <a:cubicBezTo>
                  <a:pt x="16587" y="11344"/>
                  <a:pt x="16588" y="11390"/>
                  <a:pt x="16605" y="11462"/>
                </a:cubicBezTo>
                <a:cubicBezTo>
                  <a:pt x="16620" y="11524"/>
                  <a:pt x="16621" y="11510"/>
                  <a:pt x="16637" y="11557"/>
                </a:cubicBezTo>
                <a:cubicBezTo>
                  <a:pt x="16671" y="11512"/>
                  <a:pt x="16685" y="11449"/>
                  <a:pt x="16700" y="11398"/>
                </a:cubicBezTo>
                <a:cubicBezTo>
                  <a:pt x="16717" y="11339"/>
                  <a:pt x="16739" y="11327"/>
                  <a:pt x="16764" y="11271"/>
                </a:cubicBezTo>
                <a:cubicBezTo>
                  <a:pt x="16785" y="11225"/>
                  <a:pt x="16792" y="11185"/>
                  <a:pt x="16828" y="11144"/>
                </a:cubicBezTo>
                <a:cubicBezTo>
                  <a:pt x="16861" y="11106"/>
                  <a:pt x="16861" y="11089"/>
                  <a:pt x="16891" y="11049"/>
                </a:cubicBezTo>
              </a:path>
              <a:path w="1334" h="5589">
                <a:moveTo>
                  <a:pt x="16669" y="6509"/>
                </a:moveTo>
                <a:cubicBezTo>
                  <a:pt x="16669" y="6441"/>
                  <a:pt x="16694" y="6419"/>
                  <a:pt x="16700" y="6350"/>
                </a:cubicBezTo>
                <a:cubicBezTo>
                  <a:pt x="16707" y="6265"/>
                  <a:pt x="16778" y="6238"/>
                  <a:pt x="16796" y="6160"/>
                </a:cubicBezTo>
                <a:cubicBezTo>
                  <a:pt x="16812" y="6094"/>
                  <a:pt x="16812" y="6004"/>
                  <a:pt x="16891" y="5969"/>
                </a:cubicBezTo>
                <a:cubicBezTo>
                  <a:pt x="16902" y="5969"/>
                  <a:pt x="16912" y="5969"/>
                  <a:pt x="16923" y="5969"/>
                </a:cubicBezTo>
                <a:cubicBezTo>
                  <a:pt x="16909" y="6026"/>
                  <a:pt x="16891" y="6059"/>
                  <a:pt x="16891" y="6128"/>
                </a:cubicBezTo>
                <a:cubicBezTo>
                  <a:pt x="16891" y="6304"/>
                  <a:pt x="16902" y="6469"/>
                  <a:pt x="16923" y="6636"/>
                </a:cubicBezTo>
                <a:cubicBezTo>
                  <a:pt x="16923" y="6720"/>
                  <a:pt x="16923" y="6741"/>
                  <a:pt x="16923" y="6794"/>
                </a:cubicBezTo>
              </a:path>
              <a:path w="1334" h="5589">
                <a:moveTo>
                  <a:pt x="17272" y="9842"/>
                </a:moveTo>
                <a:cubicBezTo>
                  <a:pt x="17220" y="9829"/>
                  <a:pt x="17221" y="9831"/>
                  <a:pt x="17208" y="9779"/>
                </a:cubicBezTo>
                <a:cubicBezTo>
                  <a:pt x="17194" y="9770"/>
                  <a:pt x="17131" y="9693"/>
                  <a:pt x="17113" y="9652"/>
                </a:cubicBezTo>
                <a:cubicBezTo>
                  <a:pt x="17090" y="9600"/>
                  <a:pt x="17063" y="9570"/>
                  <a:pt x="17018" y="9525"/>
                </a:cubicBezTo>
                <a:cubicBezTo>
                  <a:pt x="16968" y="9475"/>
                  <a:pt x="16941" y="9428"/>
                  <a:pt x="16923" y="9366"/>
                </a:cubicBezTo>
                <a:cubicBezTo>
                  <a:pt x="16923" y="9355"/>
                  <a:pt x="16923" y="9345"/>
                  <a:pt x="16923" y="9334"/>
                </a:cubicBezTo>
              </a:path>
              <a:path w="1334" h="5589">
                <a:moveTo>
                  <a:pt x="16923" y="9620"/>
                </a:moveTo>
                <a:cubicBezTo>
                  <a:pt x="16923" y="9514"/>
                  <a:pt x="16922" y="9424"/>
                  <a:pt x="16891" y="9334"/>
                </a:cubicBezTo>
                <a:cubicBezTo>
                  <a:pt x="16883" y="9310"/>
                  <a:pt x="16891" y="9265"/>
                  <a:pt x="16891" y="9239"/>
                </a:cubicBezTo>
                <a:cubicBezTo>
                  <a:pt x="16958" y="9256"/>
                  <a:pt x="16954" y="9287"/>
                  <a:pt x="16986" y="9334"/>
                </a:cubicBezTo>
                <a:cubicBezTo>
                  <a:pt x="17001" y="9357"/>
                  <a:pt x="17062" y="9444"/>
                  <a:pt x="17082" y="9462"/>
                </a:cubicBezTo>
                <a:cubicBezTo>
                  <a:pt x="17118" y="9462"/>
                  <a:pt x="17131" y="9465"/>
                  <a:pt x="17145" y="9493"/>
                </a:cubicBezTo>
              </a:path>
              <a:path w="1334" h="5589">
                <a:moveTo>
                  <a:pt x="17336" y="10128"/>
                </a:moveTo>
                <a:cubicBezTo>
                  <a:pt x="17336" y="10085"/>
                  <a:pt x="17392" y="10093"/>
                  <a:pt x="17431" y="10065"/>
                </a:cubicBezTo>
              </a:path>
              <a:path w="1334" h="5589">
                <a:moveTo>
                  <a:pt x="17621" y="9811"/>
                </a:moveTo>
                <a:cubicBezTo>
                  <a:pt x="17621" y="9910"/>
                  <a:pt x="17612" y="9974"/>
                  <a:pt x="17590" y="10065"/>
                </a:cubicBezTo>
                <a:cubicBezTo>
                  <a:pt x="17579" y="10111"/>
                  <a:pt x="17590" y="10176"/>
                  <a:pt x="17590" y="10224"/>
                </a:cubicBezTo>
                <a:cubicBezTo>
                  <a:pt x="17602" y="10187"/>
                  <a:pt x="17633" y="10166"/>
                  <a:pt x="17685" y="10160"/>
                </a:cubicBezTo>
                <a:cubicBezTo>
                  <a:pt x="17725" y="10155"/>
                  <a:pt x="17741" y="10138"/>
                  <a:pt x="17780" y="10128"/>
                </a:cubicBezTo>
                <a:cubicBezTo>
                  <a:pt x="17780" y="10096"/>
                  <a:pt x="17780" y="10085"/>
                  <a:pt x="17812" y="10096"/>
                </a:cubicBezTo>
              </a:path>
              <a:path w="1334" h="5589">
                <a:moveTo>
                  <a:pt x="17812" y="9557"/>
                </a:moveTo>
                <a:cubicBezTo>
                  <a:pt x="17812" y="9678"/>
                  <a:pt x="17833" y="9790"/>
                  <a:pt x="17844" y="9906"/>
                </a:cubicBezTo>
                <a:cubicBezTo>
                  <a:pt x="17859" y="10074"/>
                  <a:pt x="17860" y="10249"/>
                  <a:pt x="17875" y="10414"/>
                </a:cubicBezTo>
                <a:cubicBezTo>
                  <a:pt x="17875" y="10530"/>
                  <a:pt x="17875" y="10562"/>
                  <a:pt x="17875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Ink 8"/>
          <p:cNvSpPr/>
          <p:nvPr/>
        </p:nvSpPr>
        <p:spPr>
          <a:xfrm>
            <a:off x="5337000" y="3176640"/>
            <a:ext cx="2789280" cy="138240"/>
          </a:xfrm>
          <a:custGeom>
            <a:avLst/>
            <a:gdLst/>
            <a:ahLst/>
            <a:rect l="l" t="t" r="r" b="b"/>
            <a:pathLst>
              <a:path w="7748" h="383">
                <a:moveTo>
                  <a:pt x="14827" y="9208"/>
                </a:moveTo>
                <a:cubicBezTo>
                  <a:pt x="14874" y="9208"/>
                  <a:pt x="14875" y="9208"/>
                  <a:pt x="14922" y="9208"/>
                </a:cubicBezTo>
                <a:cubicBezTo>
                  <a:pt x="15311" y="9208"/>
                  <a:pt x="15684" y="9172"/>
                  <a:pt x="16066" y="9144"/>
                </a:cubicBezTo>
                <a:cubicBezTo>
                  <a:pt x="16297" y="9127"/>
                  <a:pt x="16492" y="9080"/>
                  <a:pt x="16732" y="9080"/>
                </a:cubicBezTo>
                <a:cubicBezTo>
                  <a:pt x="17032" y="9080"/>
                  <a:pt x="17324" y="9065"/>
                  <a:pt x="17621" y="9049"/>
                </a:cubicBezTo>
                <a:cubicBezTo>
                  <a:pt x="17938" y="9031"/>
                  <a:pt x="18258" y="9034"/>
                  <a:pt x="18574" y="9017"/>
                </a:cubicBezTo>
                <a:cubicBezTo>
                  <a:pt x="18829" y="9003"/>
                  <a:pt x="19082" y="8968"/>
                  <a:pt x="19336" y="8954"/>
                </a:cubicBezTo>
                <a:cubicBezTo>
                  <a:pt x="19580" y="8941"/>
                  <a:pt x="19823" y="8904"/>
                  <a:pt x="20066" y="8890"/>
                </a:cubicBezTo>
                <a:cubicBezTo>
                  <a:pt x="20310" y="8875"/>
                  <a:pt x="20552" y="8841"/>
                  <a:pt x="20796" y="8826"/>
                </a:cubicBezTo>
                <a:cubicBezTo>
                  <a:pt x="21115" y="8806"/>
                  <a:pt x="21435" y="8834"/>
                  <a:pt x="21749" y="8858"/>
                </a:cubicBezTo>
                <a:cubicBezTo>
                  <a:pt x="21899" y="8869"/>
                  <a:pt x="22046" y="8912"/>
                  <a:pt x="22193" y="8922"/>
                </a:cubicBezTo>
                <a:cubicBezTo>
                  <a:pt x="22319" y="8931"/>
                  <a:pt x="22448" y="8922"/>
                  <a:pt x="22574" y="8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e line for the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3y 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x – 2y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Ink 3"/>
          <p:cNvSpPr/>
          <p:nvPr/>
        </p:nvSpPr>
        <p:spPr>
          <a:xfrm>
            <a:off x="811080" y="3108240"/>
            <a:ext cx="698760" cy="412920"/>
          </a:xfrm>
          <a:custGeom>
            <a:avLst/>
            <a:gdLst/>
            <a:ahLst/>
            <a:rect l="l" t="t" r="r" b="b"/>
            <a:pathLst>
              <a:path w="1938" h="1144">
                <a:moveTo>
                  <a:pt x="2286" y="8954"/>
                </a:moveTo>
                <a:cubicBezTo>
                  <a:pt x="2275" y="8954"/>
                  <a:pt x="2265" y="8954"/>
                  <a:pt x="2254" y="8954"/>
                </a:cubicBezTo>
                <a:cubicBezTo>
                  <a:pt x="2455" y="8954"/>
                  <a:pt x="2657" y="8954"/>
                  <a:pt x="2858" y="8954"/>
                </a:cubicBezTo>
              </a:path>
              <a:path w="1938" h="1144">
                <a:moveTo>
                  <a:pt x="3270" y="8858"/>
                </a:moveTo>
                <a:cubicBezTo>
                  <a:pt x="3270" y="8788"/>
                  <a:pt x="3261" y="8761"/>
                  <a:pt x="3302" y="8731"/>
                </a:cubicBezTo>
                <a:cubicBezTo>
                  <a:pt x="3356" y="8692"/>
                  <a:pt x="3400" y="8648"/>
                  <a:pt x="3461" y="8636"/>
                </a:cubicBezTo>
                <a:cubicBezTo>
                  <a:pt x="3558" y="8616"/>
                  <a:pt x="3539" y="8646"/>
                  <a:pt x="3588" y="8700"/>
                </a:cubicBezTo>
                <a:cubicBezTo>
                  <a:pt x="3652" y="8771"/>
                  <a:pt x="3602" y="8808"/>
                  <a:pt x="3588" y="8890"/>
                </a:cubicBezTo>
                <a:cubicBezTo>
                  <a:pt x="3572" y="8986"/>
                  <a:pt x="3536" y="9054"/>
                  <a:pt x="3492" y="9144"/>
                </a:cubicBezTo>
                <a:cubicBezTo>
                  <a:pt x="3453" y="9223"/>
                  <a:pt x="3393" y="9301"/>
                  <a:pt x="3334" y="9366"/>
                </a:cubicBezTo>
                <a:cubicBezTo>
                  <a:pt x="3294" y="9411"/>
                  <a:pt x="3266" y="9499"/>
                  <a:pt x="3207" y="9525"/>
                </a:cubicBezTo>
                <a:cubicBezTo>
                  <a:pt x="3157" y="9547"/>
                  <a:pt x="3160" y="9560"/>
                  <a:pt x="3143" y="9525"/>
                </a:cubicBezTo>
                <a:cubicBezTo>
                  <a:pt x="3183" y="9495"/>
                  <a:pt x="3220" y="9467"/>
                  <a:pt x="3270" y="9462"/>
                </a:cubicBezTo>
                <a:cubicBezTo>
                  <a:pt x="3349" y="9453"/>
                  <a:pt x="3397" y="9472"/>
                  <a:pt x="3461" y="9493"/>
                </a:cubicBezTo>
                <a:cubicBezTo>
                  <a:pt x="3516" y="9511"/>
                  <a:pt x="3536" y="9565"/>
                  <a:pt x="3588" y="9588"/>
                </a:cubicBezTo>
                <a:cubicBezTo>
                  <a:pt x="3644" y="9612"/>
                  <a:pt x="3669" y="9564"/>
                  <a:pt x="3683" y="9557"/>
                </a:cubicBezTo>
                <a:cubicBezTo>
                  <a:pt x="3728" y="9557"/>
                  <a:pt x="3744" y="9545"/>
                  <a:pt x="3746" y="9493"/>
                </a:cubicBezTo>
              </a:path>
              <a:path w="1938" h="1144">
                <a:moveTo>
                  <a:pt x="3810" y="8922"/>
                </a:moveTo>
                <a:cubicBezTo>
                  <a:pt x="3823" y="8986"/>
                  <a:pt x="3852" y="9028"/>
                  <a:pt x="3874" y="9080"/>
                </a:cubicBezTo>
                <a:cubicBezTo>
                  <a:pt x="3919" y="9188"/>
                  <a:pt x="3987" y="9263"/>
                  <a:pt x="4032" y="9366"/>
                </a:cubicBezTo>
                <a:cubicBezTo>
                  <a:pt x="4068" y="9448"/>
                  <a:pt x="4094" y="9544"/>
                  <a:pt x="4128" y="9620"/>
                </a:cubicBezTo>
                <a:cubicBezTo>
                  <a:pt x="4159" y="9652"/>
                  <a:pt x="4170" y="9663"/>
                  <a:pt x="4191" y="9684"/>
                </a:cubicBezTo>
              </a:path>
              <a:path w="1938" h="1144">
                <a:moveTo>
                  <a:pt x="4159" y="9080"/>
                </a:moveTo>
                <a:cubicBezTo>
                  <a:pt x="4118" y="9164"/>
                  <a:pt x="4058" y="9304"/>
                  <a:pt x="4000" y="9366"/>
                </a:cubicBezTo>
                <a:cubicBezTo>
                  <a:pt x="3921" y="9451"/>
                  <a:pt x="3856" y="9557"/>
                  <a:pt x="3778" y="9652"/>
                </a:cubicBezTo>
                <a:cubicBezTo>
                  <a:pt x="3719" y="9711"/>
                  <a:pt x="3701" y="9727"/>
                  <a:pt x="3683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Ink 4"/>
          <p:cNvSpPr/>
          <p:nvPr/>
        </p:nvSpPr>
        <p:spPr>
          <a:xfrm>
            <a:off x="2754360" y="3132000"/>
            <a:ext cx="812880" cy="378000"/>
          </a:xfrm>
          <a:custGeom>
            <a:avLst/>
            <a:gdLst/>
            <a:ahLst/>
            <a:rect l="l" t="t" r="r" b="b"/>
            <a:pathLst>
              <a:path w="2255" h="1048">
                <a:moveTo>
                  <a:pt x="7652" y="9080"/>
                </a:moveTo>
                <a:cubicBezTo>
                  <a:pt x="7695" y="9080"/>
                  <a:pt x="7705" y="9091"/>
                  <a:pt x="7684" y="9144"/>
                </a:cubicBezTo>
                <a:cubicBezTo>
                  <a:pt x="7868" y="9144"/>
                  <a:pt x="8059" y="9143"/>
                  <a:pt x="8223" y="9176"/>
                </a:cubicBezTo>
                <a:cubicBezTo>
                  <a:pt x="8258" y="9183"/>
                  <a:pt x="8312" y="9176"/>
                  <a:pt x="8350" y="9176"/>
                </a:cubicBezTo>
              </a:path>
              <a:path w="2255" h="1048">
                <a:moveTo>
                  <a:pt x="8541" y="8890"/>
                </a:moveTo>
                <a:cubicBezTo>
                  <a:pt x="8555" y="8846"/>
                  <a:pt x="8590" y="8852"/>
                  <a:pt x="8604" y="8826"/>
                </a:cubicBezTo>
                <a:cubicBezTo>
                  <a:pt x="8619" y="8797"/>
                  <a:pt x="8683" y="8750"/>
                  <a:pt x="8731" y="8731"/>
                </a:cubicBezTo>
                <a:cubicBezTo>
                  <a:pt x="8784" y="8709"/>
                  <a:pt x="8825" y="8700"/>
                  <a:pt x="8890" y="8700"/>
                </a:cubicBezTo>
                <a:cubicBezTo>
                  <a:pt x="8930" y="8700"/>
                  <a:pt x="8947" y="8722"/>
                  <a:pt x="8985" y="8731"/>
                </a:cubicBezTo>
                <a:cubicBezTo>
                  <a:pt x="8971" y="8789"/>
                  <a:pt x="8950" y="8837"/>
                  <a:pt x="8922" y="8890"/>
                </a:cubicBezTo>
                <a:cubicBezTo>
                  <a:pt x="8879" y="8971"/>
                  <a:pt x="8819" y="9071"/>
                  <a:pt x="8763" y="9144"/>
                </a:cubicBezTo>
                <a:cubicBezTo>
                  <a:pt x="8711" y="9211"/>
                  <a:pt x="8609" y="9304"/>
                  <a:pt x="8572" y="9366"/>
                </a:cubicBezTo>
                <a:cubicBezTo>
                  <a:pt x="8545" y="9411"/>
                  <a:pt x="8468" y="9507"/>
                  <a:pt x="8446" y="9557"/>
                </a:cubicBezTo>
                <a:cubicBezTo>
                  <a:pt x="8436" y="9579"/>
                  <a:pt x="8438" y="9591"/>
                  <a:pt x="8477" y="9557"/>
                </a:cubicBezTo>
                <a:cubicBezTo>
                  <a:pt x="8531" y="9510"/>
                  <a:pt x="8554" y="9520"/>
                  <a:pt x="8604" y="9493"/>
                </a:cubicBezTo>
                <a:cubicBezTo>
                  <a:pt x="8675" y="9455"/>
                  <a:pt x="8661" y="9501"/>
                  <a:pt x="8731" y="9525"/>
                </a:cubicBezTo>
                <a:cubicBezTo>
                  <a:pt x="8797" y="9547"/>
                  <a:pt x="8782" y="9570"/>
                  <a:pt x="8826" y="9620"/>
                </a:cubicBezTo>
                <a:cubicBezTo>
                  <a:pt x="8854" y="9652"/>
                  <a:pt x="8913" y="9681"/>
                  <a:pt x="8954" y="9684"/>
                </a:cubicBezTo>
                <a:cubicBezTo>
                  <a:pt x="9017" y="9689"/>
                  <a:pt x="9068" y="9659"/>
                  <a:pt x="9112" y="9620"/>
                </a:cubicBezTo>
                <a:cubicBezTo>
                  <a:pt x="9144" y="9588"/>
                  <a:pt x="9154" y="9578"/>
                  <a:pt x="9176" y="9557"/>
                </a:cubicBezTo>
              </a:path>
              <a:path w="2255" h="1048">
                <a:moveTo>
                  <a:pt x="9271" y="8954"/>
                </a:moveTo>
                <a:cubicBezTo>
                  <a:pt x="9315" y="8968"/>
                  <a:pt x="9336" y="9023"/>
                  <a:pt x="9366" y="9080"/>
                </a:cubicBezTo>
                <a:cubicBezTo>
                  <a:pt x="9404" y="9152"/>
                  <a:pt x="9497" y="9278"/>
                  <a:pt x="9557" y="9334"/>
                </a:cubicBezTo>
                <a:cubicBezTo>
                  <a:pt x="9633" y="9405"/>
                  <a:pt x="9701" y="9520"/>
                  <a:pt x="9779" y="9588"/>
                </a:cubicBezTo>
                <a:cubicBezTo>
                  <a:pt x="9821" y="9624"/>
                  <a:pt x="9873" y="9696"/>
                  <a:pt x="9906" y="9652"/>
                </a:cubicBezTo>
                <a:cubicBezTo>
                  <a:pt x="9906" y="9641"/>
                  <a:pt x="9906" y="9631"/>
                  <a:pt x="9906" y="9620"/>
                </a:cubicBezTo>
              </a:path>
              <a:path w="2255" h="1048">
                <a:moveTo>
                  <a:pt x="9747" y="8985"/>
                </a:moveTo>
                <a:cubicBezTo>
                  <a:pt x="9672" y="9062"/>
                  <a:pt x="9654" y="9118"/>
                  <a:pt x="9588" y="9208"/>
                </a:cubicBezTo>
                <a:cubicBezTo>
                  <a:pt x="9512" y="9311"/>
                  <a:pt x="9408" y="9386"/>
                  <a:pt x="9334" y="9493"/>
                </a:cubicBezTo>
                <a:cubicBezTo>
                  <a:pt x="9273" y="9581"/>
                  <a:pt x="9207" y="9660"/>
                  <a:pt x="9144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nk 5"/>
          <p:cNvSpPr/>
          <p:nvPr/>
        </p:nvSpPr>
        <p:spPr>
          <a:xfrm>
            <a:off x="1463760" y="3714840"/>
            <a:ext cx="2376360" cy="811080"/>
          </a:xfrm>
          <a:custGeom>
            <a:avLst/>
            <a:gdLst/>
            <a:ahLst/>
            <a:rect l="l" t="t" r="r" b="b"/>
            <a:pathLst>
              <a:path w="6605" h="2255">
                <a:moveTo>
                  <a:pt x="4064" y="10986"/>
                </a:moveTo>
                <a:cubicBezTo>
                  <a:pt x="4075" y="10986"/>
                  <a:pt x="4085" y="10986"/>
                  <a:pt x="4096" y="10986"/>
                </a:cubicBezTo>
                <a:cubicBezTo>
                  <a:pt x="4113" y="11036"/>
                  <a:pt x="4159" y="11017"/>
                  <a:pt x="4223" y="11017"/>
                </a:cubicBezTo>
                <a:cubicBezTo>
                  <a:pt x="4290" y="11017"/>
                  <a:pt x="4326" y="11016"/>
                  <a:pt x="4382" y="11049"/>
                </a:cubicBezTo>
                <a:cubicBezTo>
                  <a:pt x="4467" y="10984"/>
                  <a:pt x="4408" y="11063"/>
                  <a:pt x="4477" y="11017"/>
                </a:cubicBezTo>
              </a:path>
              <a:path w="6605" h="2255">
                <a:moveTo>
                  <a:pt x="4731" y="10732"/>
                </a:moveTo>
                <a:cubicBezTo>
                  <a:pt x="4716" y="10709"/>
                  <a:pt x="4703" y="10666"/>
                  <a:pt x="4762" y="10636"/>
                </a:cubicBezTo>
                <a:cubicBezTo>
                  <a:pt x="4789" y="10622"/>
                  <a:pt x="4860" y="10579"/>
                  <a:pt x="4890" y="10573"/>
                </a:cubicBezTo>
                <a:cubicBezTo>
                  <a:pt x="4958" y="10559"/>
                  <a:pt x="5062" y="10560"/>
                  <a:pt x="5112" y="10604"/>
                </a:cubicBezTo>
                <a:cubicBezTo>
                  <a:pt x="5193" y="10675"/>
                  <a:pt x="5167" y="10669"/>
                  <a:pt x="5144" y="10763"/>
                </a:cubicBezTo>
                <a:cubicBezTo>
                  <a:pt x="5130" y="10820"/>
                  <a:pt x="5091" y="10875"/>
                  <a:pt x="5048" y="10922"/>
                </a:cubicBezTo>
                <a:cubicBezTo>
                  <a:pt x="5023" y="10950"/>
                  <a:pt x="4930" y="10999"/>
                  <a:pt x="4890" y="11017"/>
                </a:cubicBezTo>
                <a:cubicBezTo>
                  <a:pt x="4879" y="11017"/>
                  <a:pt x="4869" y="11017"/>
                  <a:pt x="4858" y="11017"/>
                </a:cubicBezTo>
                <a:cubicBezTo>
                  <a:pt x="4888" y="11007"/>
                  <a:pt x="4918" y="11006"/>
                  <a:pt x="4953" y="10986"/>
                </a:cubicBezTo>
                <a:cubicBezTo>
                  <a:pt x="5032" y="10942"/>
                  <a:pt x="5003" y="10960"/>
                  <a:pt x="5080" y="10986"/>
                </a:cubicBezTo>
                <a:cubicBezTo>
                  <a:pt x="5128" y="11002"/>
                  <a:pt x="5175" y="11032"/>
                  <a:pt x="5207" y="11081"/>
                </a:cubicBezTo>
                <a:cubicBezTo>
                  <a:pt x="5253" y="11152"/>
                  <a:pt x="5239" y="11222"/>
                  <a:pt x="5239" y="11303"/>
                </a:cubicBezTo>
                <a:cubicBezTo>
                  <a:pt x="5239" y="11376"/>
                  <a:pt x="5238" y="11464"/>
                  <a:pt x="5207" y="11525"/>
                </a:cubicBezTo>
                <a:cubicBezTo>
                  <a:pt x="5160" y="11618"/>
                  <a:pt x="5056" y="11648"/>
                  <a:pt x="4985" y="11684"/>
                </a:cubicBezTo>
                <a:cubicBezTo>
                  <a:pt x="4915" y="11719"/>
                  <a:pt x="4896" y="11714"/>
                  <a:pt x="4826" y="11684"/>
                </a:cubicBezTo>
                <a:cubicBezTo>
                  <a:pt x="4767" y="11659"/>
                  <a:pt x="4706" y="11622"/>
                  <a:pt x="4699" y="11557"/>
                </a:cubicBezTo>
                <a:cubicBezTo>
                  <a:pt x="4699" y="11525"/>
                  <a:pt x="4699" y="11514"/>
                  <a:pt x="4731" y="11525"/>
                </a:cubicBezTo>
              </a:path>
              <a:path w="6605" h="2255">
                <a:moveTo>
                  <a:pt x="5366" y="10858"/>
                </a:moveTo>
                <a:cubicBezTo>
                  <a:pt x="5360" y="10928"/>
                  <a:pt x="5342" y="10986"/>
                  <a:pt x="5334" y="11049"/>
                </a:cubicBezTo>
                <a:cubicBezTo>
                  <a:pt x="5317" y="11185"/>
                  <a:pt x="5313" y="11370"/>
                  <a:pt x="5366" y="11494"/>
                </a:cubicBezTo>
                <a:cubicBezTo>
                  <a:pt x="5378" y="11522"/>
                  <a:pt x="5418" y="11592"/>
                  <a:pt x="5461" y="11589"/>
                </a:cubicBezTo>
                <a:cubicBezTo>
                  <a:pt x="5506" y="11586"/>
                  <a:pt x="5555" y="11556"/>
                  <a:pt x="5588" y="11525"/>
                </a:cubicBezTo>
                <a:cubicBezTo>
                  <a:pt x="5666" y="11453"/>
                  <a:pt x="5700" y="11365"/>
                  <a:pt x="5747" y="11271"/>
                </a:cubicBezTo>
                <a:cubicBezTo>
                  <a:pt x="5788" y="11189"/>
                  <a:pt x="5805" y="11077"/>
                  <a:pt x="5810" y="10986"/>
                </a:cubicBezTo>
                <a:cubicBezTo>
                  <a:pt x="5815" y="10894"/>
                  <a:pt x="5833" y="10907"/>
                  <a:pt x="5810" y="10827"/>
                </a:cubicBezTo>
                <a:cubicBezTo>
                  <a:pt x="5810" y="10918"/>
                  <a:pt x="5789" y="10997"/>
                  <a:pt x="5778" y="11081"/>
                </a:cubicBezTo>
                <a:cubicBezTo>
                  <a:pt x="5729" y="11473"/>
                  <a:pt x="5883" y="11945"/>
                  <a:pt x="5747" y="12319"/>
                </a:cubicBezTo>
                <a:cubicBezTo>
                  <a:pt x="5719" y="12395"/>
                  <a:pt x="5673" y="12482"/>
                  <a:pt x="5620" y="12541"/>
                </a:cubicBezTo>
                <a:cubicBezTo>
                  <a:pt x="5566" y="12600"/>
                  <a:pt x="5491" y="12576"/>
                  <a:pt x="5429" y="12541"/>
                </a:cubicBezTo>
                <a:cubicBezTo>
                  <a:pt x="5370" y="12508"/>
                  <a:pt x="5346" y="12441"/>
                  <a:pt x="5334" y="12382"/>
                </a:cubicBezTo>
                <a:cubicBezTo>
                  <a:pt x="5313" y="12278"/>
                  <a:pt x="5329" y="12130"/>
                  <a:pt x="5366" y="12033"/>
                </a:cubicBezTo>
                <a:cubicBezTo>
                  <a:pt x="5410" y="11918"/>
                  <a:pt x="5474" y="11805"/>
                  <a:pt x="5556" y="11716"/>
                </a:cubicBezTo>
                <a:cubicBezTo>
                  <a:pt x="5612" y="11655"/>
                  <a:pt x="5645" y="11599"/>
                  <a:pt x="5715" y="11557"/>
                </a:cubicBezTo>
                <a:cubicBezTo>
                  <a:pt x="5769" y="11525"/>
                  <a:pt x="5779" y="11517"/>
                  <a:pt x="5810" y="11462"/>
                </a:cubicBezTo>
              </a:path>
              <a:path w="6605" h="2255">
                <a:moveTo>
                  <a:pt x="6255" y="10890"/>
                </a:moveTo>
                <a:cubicBezTo>
                  <a:pt x="6399" y="10890"/>
                  <a:pt x="6542" y="10896"/>
                  <a:pt x="6668" y="10922"/>
                </a:cubicBezTo>
                <a:cubicBezTo>
                  <a:pt x="6741" y="10937"/>
                  <a:pt x="6767" y="10905"/>
                  <a:pt x="6826" y="10890"/>
                </a:cubicBezTo>
              </a:path>
              <a:path w="6605" h="2255">
                <a:moveTo>
                  <a:pt x="6318" y="11240"/>
                </a:moveTo>
                <a:cubicBezTo>
                  <a:pt x="6459" y="11240"/>
                  <a:pt x="6717" y="11191"/>
                  <a:pt x="6826" y="11271"/>
                </a:cubicBezTo>
              </a:path>
              <a:path w="6605" h="2255">
                <a:moveTo>
                  <a:pt x="7017" y="10541"/>
                </a:moveTo>
                <a:cubicBezTo>
                  <a:pt x="7112" y="10541"/>
                  <a:pt x="7207" y="10541"/>
                  <a:pt x="7302" y="10541"/>
                </a:cubicBezTo>
              </a:path>
              <a:path w="6605" h="2255">
                <a:moveTo>
                  <a:pt x="7525" y="10636"/>
                </a:moveTo>
                <a:cubicBezTo>
                  <a:pt x="7533" y="10572"/>
                  <a:pt x="7527" y="10564"/>
                  <a:pt x="7556" y="10509"/>
                </a:cubicBezTo>
                <a:cubicBezTo>
                  <a:pt x="7580" y="10465"/>
                  <a:pt x="7583" y="10423"/>
                  <a:pt x="7620" y="10382"/>
                </a:cubicBezTo>
                <a:cubicBezTo>
                  <a:pt x="7652" y="10346"/>
                  <a:pt x="7703" y="10329"/>
                  <a:pt x="7747" y="10319"/>
                </a:cubicBezTo>
                <a:cubicBezTo>
                  <a:pt x="7792" y="10309"/>
                  <a:pt x="7845" y="10313"/>
                  <a:pt x="7874" y="10350"/>
                </a:cubicBezTo>
                <a:cubicBezTo>
                  <a:pt x="7926" y="10417"/>
                  <a:pt x="7887" y="10466"/>
                  <a:pt x="7874" y="10541"/>
                </a:cubicBezTo>
                <a:cubicBezTo>
                  <a:pt x="7858" y="10638"/>
                  <a:pt x="7815" y="10702"/>
                  <a:pt x="7779" y="10795"/>
                </a:cubicBezTo>
                <a:cubicBezTo>
                  <a:pt x="7738" y="10899"/>
                  <a:pt x="7709" y="11015"/>
                  <a:pt x="7652" y="11112"/>
                </a:cubicBezTo>
                <a:cubicBezTo>
                  <a:pt x="7605" y="11193"/>
                  <a:pt x="7556" y="11298"/>
                  <a:pt x="7493" y="11366"/>
                </a:cubicBezTo>
                <a:cubicBezTo>
                  <a:pt x="7437" y="11427"/>
                  <a:pt x="7394" y="11459"/>
                  <a:pt x="7334" y="11494"/>
                </a:cubicBezTo>
                <a:cubicBezTo>
                  <a:pt x="7285" y="11522"/>
                  <a:pt x="7340" y="11468"/>
                  <a:pt x="7366" y="11462"/>
                </a:cubicBezTo>
                <a:cubicBezTo>
                  <a:pt x="7451" y="11442"/>
                  <a:pt x="7553" y="11459"/>
                  <a:pt x="7620" y="11494"/>
                </a:cubicBezTo>
                <a:cubicBezTo>
                  <a:pt x="7665" y="11517"/>
                  <a:pt x="7706" y="11520"/>
                  <a:pt x="7747" y="11557"/>
                </a:cubicBezTo>
                <a:cubicBezTo>
                  <a:pt x="7794" y="11599"/>
                  <a:pt x="7832" y="11614"/>
                  <a:pt x="7874" y="11652"/>
                </a:cubicBezTo>
                <a:cubicBezTo>
                  <a:pt x="7910" y="11685"/>
                  <a:pt x="7949" y="11696"/>
                  <a:pt x="8001" y="11684"/>
                </a:cubicBezTo>
                <a:cubicBezTo>
                  <a:pt x="8078" y="11667"/>
                  <a:pt x="8093" y="11595"/>
                  <a:pt x="8128" y="11525"/>
                </a:cubicBezTo>
              </a:path>
              <a:path w="6605" h="2255">
                <a:moveTo>
                  <a:pt x="8160" y="10668"/>
                </a:moveTo>
                <a:cubicBezTo>
                  <a:pt x="8198" y="10681"/>
                  <a:pt x="8213" y="10722"/>
                  <a:pt x="8255" y="10763"/>
                </a:cubicBezTo>
                <a:cubicBezTo>
                  <a:pt x="8320" y="10828"/>
                  <a:pt x="8292" y="10963"/>
                  <a:pt x="8350" y="11049"/>
                </a:cubicBezTo>
                <a:cubicBezTo>
                  <a:pt x="8416" y="11147"/>
                  <a:pt x="8439" y="11271"/>
                  <a:pt x="8509" y="11366"/>
                </a:cubicBezTo>
                <a:cubicBezTo>
                  <a:pt x="8558" y="11434"/>
                  <a:pt x="8636" y="11511"/>
                  <a:pt x="8668" y="11589"/>
                </a:cubicBezTo>
                <a:cubicBezTo>
                  <a:pt x="8668" y="11620"/>
                  <a:pt x="8668" y="11631"/>
                  <a:pt x="8700" y="11620"/>
                </a:cubicBezTo>
              </a:path>
              <a:path w="6605" h="2255">
                <a:moveTo>
                  <a:pt x="8636" y="10795"/>
                </a:moveTo>
                <a:cubicBezTo>
                  <a:pt x="8565" y="10813"/>
                  <a:pt x="8559" y="10868"/>
                  <a:pt x="8509" y="10922"/>
                </a:cubicBezTo>
                <a:cubicBezTo>
                  <a:pt x="8411" y="11028"/>
                  <a:pt x="8366" y="11160"/>
                  <a:pt x="8287" y="11271"/>
                </a:cubicBezTo>
                <a:cubicBezTo>
                  <a:pt x="8231" y="11350"/>
                  <a:pt x="8166" y="11425"/>
                  <a:pt x="8096" y="11494"/>
                </a:cubicBezTo>
                <a:cubicBezTo>
                  <a:pt x="8061" y="11529"/>
                  <a:pt x="8062" y="11549"/>
                  <a:pt x="8033" y="11589"/>
                </a:cubicBezTo>
              </a:path>
              <a:path w="6605" h="2255">
                <a:moveTo>
                  <a:pt x="8826" y="11081"/>
                </a:moveTo>
                <a:cubicBezTo>
                  <a:pt x="8826" y="11070"/>
                  <a:pt x="8826" y="11060"/>
                  <a:pt x="8826" y="11049"/>
                </a:cubicBezTo>
                <a:cubicBezTo>
                  <a:pt x="8894" y="11049"/>
                  <a:pt x="8916" y="11023"/>
                  <a:pt x="8985" y="11017"/>
                </a:cubicBezTo>
                <a:cubicBezTo>
                  <a:pt x="9065" y="11010"/>
                  <a:pt x="9101" y="11043"/>
                  <a:pt x="9176" y="11049"/>
                </a:cubicBezTo>
                <a:cubicBezTo>
                  <a:pt x="9218" y="11052"/>
                  <a:pt x="9261" y="11049"/>
                  <a:pt x="9303" y="11049"/>
                </a:cubicBezTo>
              </a:path>
              <a:path w="6605" h="2255">
                <a:moveTo>
                  <a:pt x="9588" y="10509"/>
                </a:moveTo>
                <a:cubicBezTo>
                  <a:pt x="9588" y="10582"/>
                  <a:pt x="9568" y="10633"/>
                  <a:pt x="9557" y="10700"/>
                </a:cubicBezTo>
                <a:cubicBezTo>
                  <a:pt x="9540" y="10805"/>
                  <a:pt x="9542" y="10912"/>
                  <a:pt x="9525" y="11017"/>
                </a:cubicBezTo>
                <a:cubicBezTo>
                  <a:pt x="9503" y="11153"/>
                  <a:pt x="9517" y="11297"/>
                  <a:pt x="9493" y="11430"/>
                </a:cubicBezTo>
                <a:cubicBezTo>
                  <a:pt x="9474" y="11533"/>
                  <a:pt x="9462" y="11610"/>
                  <a:pt x="9462" y="11716"/>
                </a:cubicBezTo>
                <a:cubicBezTo>
                  <a:pt x="9462" y="11727"/>
                  <a:pt x="9462" y="11737"/>
                  <a:pt x="9462" y="11748"/>
                </a:cubicBezTo>
              </a:path>
              <a:path w="6605" h="2255">
                <a:moveTo>
                  <a:pt x="9811" y="10732"/>
                </a:moveTo>
                <a:cubicBezTo>
                  <a:pt x="9822" y="10639"/>
                  <a:pt x="9840" y="10607"/>
                  <a:pt x="9906" y="10541"/>
                </a:cubicBezTo>
                <a:cubicBezTo>
                  <a:pt x="9953" y="10494"/>
                  <a:pt x="9933" y="10466"/>
                  <a:pt x="10001" y="10446"/>
                </a:cubicBezTo>
                <a:cubicBezTo>
                  <a:pt x="10065" y="10427"/>
                  <a:pt x="10117" y="10479"/>
                  <a:pt x="10128" y="10541"/>
                </a:cubicBezTo>
                <a:cubicBezTo>
                  <a:pt x="10144" y="10626"/>
                  <a:pt x="10106" y="10688"/>
                  <a:pt x="10096" y="10763"/>
                </a:cubicBezTo>
                <a:cubicBezTo>
                  <a:pt x="10080" y="10885"/>
                  <a:pt x="10019" y="10990"/>
                  <a:pt x="10001" y="11112"/>
                </a:cubicBezTo>
                <a:cubicBezTo>
                  <a:pt x="9981" y="11246"/>
                  <a:pt x="9939" y="11307"/>
                  <a:pt x="9874" y="11430"/>
                </a:cubicBezTo>
                <a:cubicBezTo>
                  <a:pt x="9842" y="11490"/>
                  <a:pt x="9763" y="11592"/>
                  <a:pt x="9747" y="11652"/>
                </a:cubicBezTo>
                <a:cubicBezTo>
                  <a:pt x="9733" y="11706"/>
                  <a:pt x="9746" y="11696"/>
                  <a:pt x="9716" y="11748"/>
                </a:cubicBezTo>
                <a:cubicBezTo>
                  <a:pt x="9746" y="11718"/>
                  <a:pt x="9737" y="11681"/>
                  <a:pt x="9779" y="11684"/>
                </a:cubicBezTo>
                <a:cubicBezTo>
                  <a:pt x="9814" y="11687"/>
                  <a:pt x="9870" y="11703"/>
                  <a:pt x="9906" y="11716"/>
                </a:cubicBezTo>
                <a:cubicBezTo>
                  <a:pt x="9951" y="11732"/>
                  <a:pt x="10024" y="11758"/>
                  <a:pt x="10065" y="11779"/>
                </a:cubicBezTo>
                <a:cubicBezTo>
                  <a:pt x="10146" y="11820"/>
                  <a:pt x="10160" y="11838"/>
                  <a:pt x="10255" y="11843"/>
                </a:cubicBezTo>
                <a:cubicBezTo>
                  <a:pt x="10312" y="11846"/>
                  <a:pt x="10437" y="11792"/>
                  <a:pt x="10478" y="11748"/>
                </a:cubicBezTo>
                <a:cubicBezTo>
                  <a:pt x="10545" y="11676"/>
                  <a:pt x="10580" y="11575"/>
                  <a:pt x="10636" y="11494"/>
                </a:cubicBezTo>
                <a:cubicBezTo>
                  <a:pt x="10671" y="11444"/>
                  <a:pt x="10662" y="11427"/>
                  <a:pt x="10668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Ink 6"/>
          <p:cNvSpPr/>
          <p:nvPr/>
        </p:nvSpPr>
        <p:spPr>
          <a:xfrm>
            <a:off x="1395360" y="4218120"/>
            <a:ext cx="2400480" cy="457200"/>
          </a:xfrm>
          <a:custGeom>
            <a:avLst/>
            <a:gdLst/>
            <a:ahLst/>
            <a:rect l="l" t="t" r="r" b="b"/>
            <a:pathLst>
              <a:path w="6668" h="1271">
                <a:moveTo>
                  <a:pt x="3874" y="11811"/>
                </a:moveTo>
                <a:cubicBezTo>
                  <a:pt x="3894" y="11823"/>
                  <a:pt x="3931" y="11824"/>
                  <a:pt x="3969" y="11843"/>
                </a:cubicBezTo>
                <a:cubicBezTo>
                  <a:pt x="4028" y="11872"/>
                  <a:pt x="4053" y="11871"/>
                  <a:pt x="4128" y="11874"/>
                </a:cubicBezTo>
                <a:cubicBezTo>
                  <a:pt x="4521" y="11892"/>
                  <a:pt x="4915" y="11863"/>
                  <a:pt x="5302" y="11906"/>
                </a:cubicBezTo>
                <a:cubicBezTo>
                  <a:pt x="5617" y="11941"/>
                  <a:pt x="5958" y="11878"/>
                  <a:pt x="6255" y="11938"/>
                </a:cubicBezTo>
                <a:cubicBezTo>
                  <a:pt x="6300" y="11947"/>
                  <a:pt x="6351" y="11910"/>
                  <a:pt x="6350" y="11970"/>
                </a:cubicBezTo>
                <a:cubicBezTo>
                  <a:pt x="6339" y="11970"/>
                  <a:pt x="6329" y="11970"/>
                  <a:pt x="6318" y="11970"/>
                </a:cubicBezTo>
              </a:path>
              <a:path w="6668" h="1271">
                <a:moveTo>
                  <a:pt x="4382" y="12319"/>
                </a:moveTo>
                <a:cubicBezTo>
                  <a:pt x="4382" y="12330"/>
                  <a:pt x="4382" y="12340"/>
                  <a:pt x="4382" y="12351"/>
                </a:cubicBezTo>
                <a:cubicBezTo>
                  <a:pt x="4481" y="12351"/>
                  <a:pt x="4545" y="12342"/>
                  <a:pt x="4636" y="12319"/>
                </a:cubicBezTo>
                <a:cubicBezTo>
                  <a:pt x="4711" y="12300"/>
                  <a:pt x="4750" y="12320"/>
                  <a:pt x="4826" y="12287"/>
                </a:cubicBezTo>
              </a:path>
              <a:path w="6668" h="1271">
                <a:moveTo>
                  <a:pt x="5112" y="12192"/>
                </a:moveTo>
                <a:cubicBezTo>
                  <a:pt x="5152" y="12162"/>
                  <a:pt x="5189" y="12134"/>
                  <a:pt x="5239" y="12128"/>
                </a:cubicBezTo>
                <a:cubicBezTo>
                  <a:pt x="5286" y="12123"/>
                  <a:pt x="5403" y="12107"/>
                  <a:pt x="5429" y="12160"/>
                </a:cubicBezTo>
                <a:cubicBezTo>
                  <a:pt x="5452" y="12206"/>
                  <a:pt x="5426" y="12287"/>
                  <a:pt x="5398" y="12319"/>
                </a:cubicBezTo>
                <a:cubicBezTo>
                  <a:pt x="5348" y="12375"/>
                  <a:pt x="5294" y="12381"/>
                  <a:pt x="5239" y="12414"/>
                </a:cubicBezTo>
                <a:cubicBezTo>
                  <a:pt x="5206" y="12434"/>
                  <a:pt x="5119" y="12446"/>
                  <a:pt x="5175" y="12446"/>
                </a:cubicBezTo>
                <a:cubicBezTo>
                  <a:pt x="5244" y="12446"/>
                  <a:pt x="5283" y="12433"/>
                  <a:pt x="5334" y="12478"/>
                </a:cubicBezTo>
                <a:cubicBezTo>
                  <a:pt x="5362" y="12503"/>
                  <a:pt x="5451" y="12569"/>
                  <a:pt x="5461" y="12605"/>
                </a:cubicBezTo>
                <a:cubicBezTo>
                  <a:pt x="5479" y="12669"/>
                  <a:pt x="5498" y="12734"/>
                  <a:pt x="5461" y="12795"/>
                </a:cubicBezTo>
                <a:cubicBezTo>
                  <a:pt x="5429" y="12847"/>
                  <a:pt x="5349" y="12881"/>
                  <a:pt x="5302" y="12890"/>
                </a:cubicBezTo>
                <a:cubicBezTo>
                  <a:pt x="5234" y="12903"/>
                  <a:pt x="5106" y="12886"/>
                  <a:pt x="5048" y="12859"/>
                </a:cubicBezTo>
                <a:cubicBezTo>
                  <a:pt x="5006" y="12840"/>
                  <a:pt x="4958" y="12773"/>
                  <a:pt x="4953" y="12732"/>
                </a:cubicBezTo>
                <a:cubicBezTo>
                  <a:pt x="4948" y="12686"/>
                  <a:pt x="4986" y="12666"/>
                  <a:pt x="5016" y="12636"/>
                </a:cubicBezTo>
              </a:path>
              <a:path w="6668" h="1271">
                <a:moveTo>
                  <a:pt x="7080" y="11811"/>
                </a:moveTo>
                <a:cubicBezTo>
                  <a:pt x="7162" y="11799"/>
                  <a:pt x="7211" y="11779"/>
                  <a:pt x="7302" y="11779"/>
                </a:cubicBezTo>
                <a:cubicBezTo>
                  <a:pt x="7401" y="11779"/>
                  <a:pt x="7483" y="11748"/>
                  <a:pt x="7588" y="11748"/>
                </a:cubicBezTo>
                <a:cubicBezTo>
                  <a:pt x="7732" y="11748"/>
                  <a:pt x="7867" y="11733"/>
                  <a:pt x="8001" y="11716"/>
                </a:cubicBezTo>
                <a:cubicBezTo>
                  <a:pt x="8206" y="11690"/>
                  <a:pt x="8429" y="11716"/>
                  <a:pt x="8636" y="11716"/>
                </a:cubicBezTo>
              </a:path>
              <a:path w="6668" h="1271">
                <a:moveTo>
                  <a:pt x="7588" y="12160"/>
                </a:moveTo>
                <a:cubicBezTo>
                  <a:pt x="7577" y="12160"/>
                  <a:pt x="7567" y="12160"/>
                  <a:pt x="7556" y="12160"/>
                </a:cubicBezTo>
                <a:cubicBezTo>
                  <a:pt x="7659" y="12160"/>
                  <a:pt x="7755" y="12146"/>
                  <a:pt x="7842" y="12128"/>
                </a:cubicBezTo>
                <a:cubicBezTo>
                  <a:pt x="7878" y="12121"/>
                  <a:pt x="7931" y="12128"/>
                  <a:pt x="7969" y="12128"/>
                </a:cubicBezTo>
              </a:path>
              <a:path w="6668" h="1271">
                <a:moveTo>
                  <a:pt x="8128" y="12097"/>
                </a:moveTo>
                <a:cubicBezTo>
                  <a:pt x="8172" y="12064"/>
                  <a:pt x="8207" y="12053"/>
                  <a:pt x="8255" y="12033"/>
                </a:cubicBezTo>
                <a:cubicBezTo>
                  <a:pt x="8326" y="12003"/>
                  <a:pt x="8354" y="11981"/>
                  <a:pt x="8414" y="12033"/>
                </a:cubicBezTo>
                <a:cubicBezTo>
                  <a:pt x="8445" y="12061"/>
                  <a:pt x="8504" y="12109"/>
                  <a:pt x="8477" y="12160"/>
                </a:cubicBezTo>
                <a:cubicBezTo>
                  <a:pt x="8457" y="12198"/>
                  <a:pt x="8385" y="12244"/>
                  <a:pt x="8350" y="12256"/>
                </a:cubicBezTo>
                <a:cubicBezTo>
                  <a:pt x="8307" y="12270"/>
                  <a:pt x="8239" y="12256"/>
                  <a:pt x="8192" y="12256"/>
                </a:cubicBezTo>
                <a:cubicBezTo>
                  <a:pt x="8297" y="12235"/>
                  <a:pt x="8282" y="12238"/>
                  <a:pt x="8382" y="12256"/>
                </a:cubicBezTo>
                <a:cubicBezTo>
                  <a:pt x="8485" y="12274"/>
                  <a:pt x="8504" y="12301"/>
                  <a:pt x="8572" y="12382"/>
                </a:cubicBezTo>
                <a:cubicBezTo>
                  <a:pt x="8608" y="12426"/>
                  <a:pt x="8624" y="12513"/>
                  <a:pt x="8604" y="12573"/>
                </a:cubicBezTo>
                <a:cubicBezTo>
                  <a:pt x="8576" y="12656"/>
                  <a:pt x="8532" y="12663"/>
                  <a:pt x="8477" y="12700"/>
                </a:cubicBezTo>
                <a:cubicBezTo>
                  <a:pt x="8402" y="12751"/>
                  <a:pt x="8393" y="12715"/>
                  <a:pt x="8318" y="12700"/>
                </a:cubicBezTo>
                <a:cubicBezTo>
                  <a:pt x="8220" y="12680"/>
                  <a:pt x="8207" y="12677"/>
                  <a:pt x="8192" y="12573"/>
                </a:cubicBezTo>
              </a:path>
              <a:path w="6668" h="1271">
                <a:moveTo>
                  <a:pt x="9208" y="12128"/>
                </a:moveTo>
                <a:cubicBezTo>
                  <a:pt x="9231" y="12059"/>
                  <a:pt x="9237" y="12101"/>
                  <a:pt x="9303" y="12065"/>
                </a:cubicBezTo>
                <a:cubicBezTo>
                  <a:pt x="9359" y="12034"/>
                  <a:pt x="9456" y="12011"/>
                  <a:pt x="9525" y="12002"/>
                </a:cubicBezTo>
                <a:cubicBezTo>
                  <a:pt x="9625" y="11989"/>
                  <a:pt x="9813" y="11963"/>
                  <a:pt x="9906" y="11970"/>
                </a:cubicBezTo>
                <a:cubicBezTo>
                  <a:pt x="10032" y="11979"/>
                  <a:pt x="10156" y="12002"/>
                  <a:pt x="10287" y="12002"/>
                </a:cubicBezTo>
                <a:cubicBezTo>
                  <a:pt x="10361" y="12002"/>
                  <a:pt x="10520" y="12033"/>
                  <a:pt x="10541" y="11970"/>
                </a:cubicBezTo>
              </a:path>
              <a:path w="6668" h="1271">
                <a:moveTo>
                  <a:pt x="9525" y="12446"/>
                </a:moveTo>
                <a:cubicBezTo>
                  <a:pt x="9594" y="12446"/>
                  <a:pt x="9630" y="12426"/>
                  <a:pt x="9684" y="12414"/>
                </a:cubicBezTo>
                <a:cubicBezTo>
                  <a:pt x="9769" y="12396"/>
                  <a:pt x="9756" y="12419"/>
                  <a:pt x="9842" y="12382"/>
                </a:cubicBezTo>
              </a:path>
              <a:path w="6668" h="1271">
                <a:moveTo>
                  <a:pt x="10096" y="12287"/>
                </a:moveTo>
                <a:cubicBezTo>
                  <a:pt x="10192" y="12287"/>
                  <a:pt x="10269" y="12292"/>
                  <a:pt x="10350" y="12319"/>
                </a:cubicBezTo>
                <a:cubicBezTo>
                  <a:pt x="10412" y="12340"/>
                  <a:pt x="10393" y="12365"/>
                  <a:pt x="10382" y="12414"/>
                </a:cubicBezTo>
                <a:cubicBezTo>
                  <a:pt x="10361" y="12508"/>
                  <a:pt x="10386" y="12481"/>
                  <a:pt x="10319" y="12541"/>
                </a:cubicBezTo>
                <a:cubicBezTo>
                  <a:pt x="10277" y="12579"/>
                  <a:pt x="10210" y="12620"/>
                  <a:pt x="10160" y="12636"/>
                </a:cubicBezTo>
                <a:cubicBezTo>
                  <a:pt x="10092" y="12658"/>
                  <a:pt x="10196" y="12636"/>
                  <a:pt x="10224" y="12636"/>
                </a:cubicBezTo>
                <a:cubicBezTo>
                  <a:pt x="10290" y="12636"/>
                  <a:pt x="10329" y="12652"/>
                  <a:pt x="10382" y="12668"/>
                </a:cubicBezTo>
                <a:cubicBezTo>
                  <a:pt x="10481" y="12698"/>
                  <a:pt x="10412" y="12715"/>
                  <a:pt x="10446" y="12795"/>
                </a:cubicBezTo>
                <a:cubicBezTo>
                  <a:pt x="10471" y="12854"/>
                  <a:pt x="10488" y="12884"/>
                  <a:pt x="10446" y="12954"/>
                </a:cubicBezTo>
                <a:cubicBezTo>
                  <a:pt x="10415" y="13005"/>
                  <a:pt x="10337" y="12986"/>
                  <a:pt x="10287" y="12986"/>
                </a:cubicBezTo>
                <a:cubicBezTo>
                  <a:pt x="10204" y="12986"/>
                  <a:pt x="10172" y="12973"/>
                  <a:pt x="10096" y="12954"/>
                </a:cubicBezTo>
                <a:cubicBezTo>
                  <a:pt x="10044" y="12941"/>
                  <a:pt x="10015" y="12931"/>
                  <a:pt x="10001" y="12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Ink 7"/>
          <p:cNvSpPr/>
          <p:nvPr/>
        </p:nvSpPr>
        <p:spPr>
          <a:xfrm>
            <a:off x="1954080" y="4606920"/>
            <a:ext cx="1670040" cy="960480"/>
          </a:xfrm>
          <a:custGeom>
            <a:avLst/>
            <a:gdLst/>
            <a:ahLst/>
            <a:rect l="l" t="t" r="r" b="b"/>
            <a:pathLst>
              <a:path w="4637" h="2668">
                <a:moveTo>
                  <a:pt x="5683" y="13494"/>
                </a:moveTo>
                <a:cubicBezTo>
                  <a:pt x="5679" y="13504"/>
                  <a:pt x="5626" y="13607"/>
                  <a:pt x="5620" y="13652"/>
                </a:cubicBezTo>
                <a:cubicBezTo>
                  <a:pt x="5605" y="13771"/>
                  <a:pt x="5569" y="13883"/>
                  <a:pt x="5556" y="14002"/>
                </a:cubicBezTo>
                <a:cubicBezTo>
                  <a:pt x="5541" y="14132"/>
                  <a:pt x="5524" y="14250"/>
                  <a:pt x="5524" y="14383"/>
                </a:cubicBezTo>
                <a:cubicBezTo>
                  <a:pt x="5524" y="14470"/>
                  <a:pt x="5528" y="14459"/>
                  <a:pt x="5556" y="14542"/>
                </a:cubicBezTo>
                <a:cubicBezTo>
                  <a:pt x="5642" y="14532"/>
                  <a:pt x="5703" y="14537"/>
                  <a:pt x="5778" y="14478"/>
                </a:cubicBezTo>
                <a:cubicBezTo>
                  <a:pt x="5888" y="14392"/>
                  <a:pt x="5956" y="14274"/>
                  <a:pt x="6032" y="14160"/>
                </a:cubicBezTo>
                <a:cubicBezTo>
                  <a:pt x="6103" y="14053"/>
                  <a:pt x="6168" y="13940"/>
                  <a:pt x="6191" y="13811"/>
                </a:cubicBezTo>
                <a:cubicBezTo>
                  <a:pt x="6204" y="13736"/>
                  <a:pt x="6198" y="13686"/>
                  <a:pt x="6223" y="13621"/>
                </a:cubicBezTo>
                <a:cubicBezTo>
                  <a:pt x="6211" y="13713"/>
                  <a:pt x="6208" y="13813"/>
                  <a:pt x="6191" y="13906"/>
                </a:cubicBezTo>
                <a:cubicBezTo>
                  <a:pt x="6165" y="14044"/>
                  <a:pt x="6121" y="14182"/>
                  <a:pt x="6096" y="14319"/>
                </a:cubicBezTo>
                <a:cubicBezTo>
                  <a:pt x="6059" y="14523"/>
                  <a:pt x="5991" y="14723"/>
                  <a:pt x="5937" y="14922"/>
                </a:cubicBezTo>
                <a:cubicBezTo>
                  <a:pt x="5900" y="15060"/>
                  <a:pt x="5865" y="15202"/>
                  <a:pt x="5810" y="15335"/>
                </a:cubicBezTo>
                <a:cubicBezTo>
                  <a:pt x="5783" y="15400"/>
                  <a:pt x="5735" y="15482"/>
                  <a:pt x="5652" y="15462"/>
                </a:cubicBezTo>
                <a:cubicBezTo>
                  <a:pt x="5602" y="15450"/>
                  <a:pt x="5537" y="15400"/>
                  <a:pt x="5493" y="15367"/>
                </a:cubicBezTo>
                <a:cubicBezTo>
                  <a:pt x="5438" y="15326"/>
                  <a:pt x="5432" y="15207"/>
                  <a:pt x="5429" y="15145"/>
                </a:cubicBezTo>
                <a:cubicBezTo>
                  <a:pt x="5424" y="15051"/>
                  <a:pt x="5448" y="15030"/>
                  <a:pt x="5493" y="14954"/>
                </a:cubicBezTo>
                <a:cubicBezTo>
                  <a:pt x="5547" y="14863"/>
                  <a:pt x="5627" y="14764"/>
                  <a:pt x="5715" y="14700"/>
                </a:cubicBezTo>
                <a:cubicBezTo>
                  <a:pt x="5796" y="14641"/>
                  <a:pt x="5867" y="14566"/>
                  <a:pt x="5937" y="14510"/>
                </a:cubicBezTo>
                <a:cubicBezTo>
                  <a:pt x="5982" y="14474"/>
                  <a:pt x="6069" y="14443"/>
                  <a:pt x="6096" y="14383"/>
                </a:cubicBezTo>
                <a:cubicBezTo>
                  <a:pt x="6096" y="14372"/>
                  <a:pt x="6096" y="14362"/>
                  <a:pt x="6096" y="14351"/>
                </a:cubicBezTo>
              </a:path>
              <a:path w="4637" h="2668">
                <a:moveTo>
                  <a:pt x="6540" y="13780"/>
                </a:moveTo>
                <a:cubicBezTo>
                  <a:pt x="6602" y="13780"/>
                  <a:pt x="6651" y="13802"/>
                  <a:pt x="6699" y="13811"/>
                </a:cubicBezTo>
                <a:cubicBezTo>
                  <a:pt x="6787" y="13828"/>
                  <a:pt x="6895" y="13811"/>
                  <a:pt x="6985" y="13811"/>
                </a:cubicBezTo>
              </a:path>
              <a:path w="4637" h="2668">
                <a:moveTo>
                  <a:pt x="6509" y="14160"/>
                </a:moveTo>
                <a:cubicBezTo>
                  <a:pt x="6588" y="14180"/>
                  <a:pt x="6634" y="14192"/>
                  <a:pt x="6731" y="14192"/>
                </a:cubicBezTo>
                <a:cubicBezTo>
                  <a:pt x="6805" y="14192"/>
                  <a:pt x="6837" y="14192"/>
                  <a:pt x="6890" y="14192"/>
                </a:cubicBezTo>
              </a:path>
              <a:path w="4637" h="2668">
                <a:moveTo>
                  <a:pt x="7112" y="12954"/>
                </a:moveTo>
                <a:cubicBezTo>
                  <a:pt x="7133" y="12926"/>
                  <a:pt x="7163" y="12865"/>
                  <a:pt x="7176" y="12859"/>
                </a:cubicBezTo>
                <a:cubicBezTo>
                  <a:pt x="7210" y="12842"/>
                  <a:pt x="7270" y="12845"/>
                  <a:pt x="7302" y="12827"/>
                </a:cubicBezTo>
                <a:cubicBezTo>
                  <a:pt x="7385" y="12781"/>
                  <a:pt x="7388" y="12802"/>
                  <a:pt x="7461" y="12827"/>
                </a:cubicBezTo>
                <a:cubicBezTo>
                  <a:pt x="7522" y="12848"/>
                  <a:pt x="7525" y="12854"/>
                  <a:pt x="7525" y="12922"/>
                </a:cubicBezTo>
                <a:cubicBezTo>
                  <a:pt x="7525" y="12985"/>
                  <a:pt x="7531" y="13024"/>
                  <a:pt x="7493" y="13081"/>
                </a:cubicBezTo>
                <a:cubicBezTo>
                  <a:pt x="7457" y="13134"/>
                  <a:pt x="7438" y="13195"/>
                  <a:pt x="7398" y="13240"/>
                </a:cubicBezTo>
                <a:cubicBezTo>
                  <a:pt x="7358" y="13284"/>
                  <a:pt x="7313" y="13324"/>
                  <a:pt x="7271" y="13367"/>
                </a:cubicBezTo>
                <a:cubicBezTo>
                  <a:pt x="7439" y="13367"/>
                  <a:pt x="7567" y="13352"/>
                  <a:pt x="7684" y="13430"/>
                </a:cubicBezTo>
                <a:cubicBezTo>
                  <a:pt x="7763" y="13483"/>
                  <a:pt x="7766" y="13380"/>
                  <a:pt x="7779" y="13367"/>
                </a:cubicBezTo>
                <a:cubicBezTo>
                  <a:pt x="7789" y="13367"/>
                  <a:pt x="7800" y="13367"/>
                  <a:pt x="7810" y="13367"/>
                </a:cubicBezTo>
              </a:path>
              <a:path w="4637" h="2668">
                <a:moveTo>
                  <a:pt x="7144" y="13748"/>
                </a:moveTo>
                <a:cubicBezTo>
                  <a:pt x="7059" y="13748"/>
                  <a:pt x="7192" y="13748"/>
                  <a:pt x="7207" y="13748"/>
                </a:cubicBezTo>
                <a:cubicBezTo>
                  <a:pt x="7307" y="13748"/>
                  <a:pt x="7365" y="13730"/>
                  <a:pt x="7461" y="13716"/>
                </a:cubicBezTo>
                <a:cubicBezTo>
                  <a:pt x="7537" y="13705"/>
                  <a:pt x="7609" y="13763"/>
                  <a:pt x="7684" y="13780"/>
                </a:cubicBezTo>
                <a:cubicBezTo>
                  <a:pt x="7720" y="13780"/>
                  <a:pt x="7733" y="13783"/>
                  <a:pt x="7747" y="13811"/>
                </a:cubicBezTo>
              </a:path>
              <a:path w="4637" h="2668">
                <a:moveTo>
                  <a:pt x="7430" y="14002"/>
                </a:moveTo>
                <a:cubicBezTo>
                  <a:pt x="7494" y="14002"/>
                  <a:pt x="7505" y="13987"/>
                  <a:pt x="7556" y="13970"/>
                </a:cubicBezTo>
                <a:cubicBezTo>
                  <a:pt x="7613" y="13951"/>
                  <a:pt x="7675" y="13966"/>
                  <a:pt x="7715" y="14002"/>
                </a:cubicBezTo>
                <a:cubicBezTo>
                  <a:pt x="7741" y="14026"/>
                  <a:pt x="7769" y="14090"/>
                  <a:pt x="7747" y="14129"/>
                </a:cubicBezTo>
                <a:cubicBezTo>
                  <a:pt x="7727" y="14165"/>
                  <a:pt x="7622" y="14184"/>
                  <a:pt x="7588" y="14192"/>
                </a:cubicBezTo>
                <a:cubicBezTo>
                  <a:pt x="7631" y="14235"/>
                  <a:pt x="7657" y="14277"/>
                  <a:pt x="7684" y="14319"/>
                </a:cubicBezTo>
                <a:cubicBezTo>
                  <a:pt x="7734" y="14395"/>
                  <a:pt x="7747" y="14418"/>
                  <a:pt x="7747" y="14510"/>
                </a:cubicBezTo>
                <a:cubicBezTo>
                  <a:pt x="7747" y="14572"/>
                  <a:pt x="7746" y="14648"/>
                  <a:pt x="7715" y="14700"/>
                </a:cubicBezTo>
                <a:cubicBezTo>
                  <a:pt x="7689" y="14744"/>
                  <a:pt x="7634" y="14791"/>
                  <a:pt x="7588" y="14796"/>
                </a:cubicBezTo>
                <a:cubicBezTo>
                  <a:pt x="7555" y="14800"/>
                  <a:pt x="7508" y="14738"/>
                  <a:pt x="7493" y="14732"/>
                </a:cubicBezTo>
                <a:cubicBezTo>
                  <a:pt x="7445" y="14711"/>
                  <a:pt x="7444" y="14724"/>
                  <a:pt x="7430" y="14668"/>
                </a:cubicBezTo>
              </a:path>
              <a:path w="4637" h="2668">
                <a:moveTo>
                  <a:pt x="8128" y="13462"/>
                </a:moveTo>
                <a:cubicBezTo>
                  <a:pt x="8146" y="13550"/>
                  <a:pt x="8209" y="13624"/>
                  <a:pt x="8223" y="13716"/>
                </a:cubicBezTo>
                <a:cubicBezTo>
                  <a:pt x="8244" y="13857"/>
                  <a:pt x="8273" y="13989"/>
                  <a:pt x="8318" y="14129"/>
                </a:cubicBezTo>
                <a:cubicBezTo>
                  <a:pt x="8359" y="14258"/>
                  <a:pt x="8393" y="14386"/>
                  <a:pt x="8446" y="14510"/>
                </a:cubicBezTo>
                <a:cubicBezTo>
                  <a:pt x="8450" y="14519"/>
                  <a:pt x="8528" y="14672"/>
                  <a:pt x="8541" y="14668"/>
                </a:cubicBezTo>
                <a:cubicBezTo>
                  <a:pt x="8541" y="14637"/>
                  <a:pt x="8541" y="14626"/>
                  <a:pt x="8541" y="14605"/>
                </a:cubicBezTo>
              </a:path>
              <a:path w="4637" h="2668">
                <a:moveTo>
                  <a:pt x="8604" y="13684"/>
                </a:moveTo>
                <a:cubicBezTo>
                  <a:pt x="8585" y="13761"/>
                  <a:pt x="8516" y="13772"/>
                  <a:pt x="8477" y="13843"/>
                </a:cubicBezTo>
                <a:cubicBezTo>
                  <a:pt x="8413" y="13962"/>
                  <a:pt x="8337" y="14049"/>
                  <a:pt x="8255" y="14160"/>
                </a:cubicBezTo>
                <a:cubicBezTo>
                  <a:pt x="8178" y="14264"/>
                  <a:pt x="8087" y="14392"/>
                  <a:pt x="8033" y="14510"/>
                </a:cubicBezTo>
                <a:cubicBezTo>
                  <a:pt x="8004" y="14596"/>
                  <a:pt x="7998" y="14619"/>
                  <a:pt x="7969" y="14668"/>
                </a:cubicBezTo>
              </a:path>
              <a:path w="4637" h="2668">
                <a:moveTo>
                  <a:pt x="9049" y="13557"/>
                </a:moveTo>
                <a:cubicBezTo>
                  <a:pt x="9049" y="13700"/>
                  <a:pt x="9033" y="13832"/>
                  <a:pt x="9017" y="13970"/>
                </a:cubicBezTo>
                <a:cubicBezTo>
                  <a:pt x="9003" y="14089"/>
                  <a:pt x="9002" y="14202"/>
                  <a:pt x="8985" y="14319"/>
                </a:cubicBezTo>
                <a:cubicBezTo>
                  <a:pt x="8985" y="14383"/>
                  <a:pt x="8985" y="14404"/>
                  <a:pt x="8985" y="14446"/>
                </a:cubicBezTo>
              </a:path>
              <a:path w="4637" h="2668">
                <a:moveTo>
                  <a:pt x="8795" y="14097"/>
                </a:moveTo>
                <a:cubicBezTo>
                  <a:pt x="8795" y="14068"/>
                  <a:pt x="8805" y="14097"/>
                  <a:pt x="8890" y="14097"/>
                </a:cubicBezTo>
                <a:cubicBezTo>
                  <a:pt x="8971" y="14097"/>
                  <a:pt x="9099" y="14138"/>
                  <a:pt x="9176" y="14160"/>
                </a:cubicBezTo>
                <a:cubicBezTo>
                  <a:pt x="9228" y="14186"/>
                  <a:pt x="9236" y="14197"/>
                  <a:pt x="9271" y="14192"/>
                </a:cubicBezTo>
              </a:path>
              <a:path w="4637" h="2668">
                <a:moveTo>
                  <a:pt x="9620" y="13430"/>
                </a:moveTo>
                <a:cubicBezTo>
                  <a:pt x="9620" y="13553"/>
                  <a:pt x="9601" y="13661"/>
                  <a:pt x="9588" y="13780"/>
                </a:cubicBezTo>
                <a:cubicBezTo>
                  <a:pt x="9576" y="13886"/>
                  <a:pt x="9564" y="13992"/>
                  <a:pt x="9557" y="14097"/>
                </a:cubicBezTo>
                <a:cubicBezTo>
                  <a:pt x="9554" y="14139"/>
                  <a:pt x="9557" y="14182"/>
                  <a:pt x="9557" y="14224"/>
                </a:cubicBezTo>
                <a:cubicBezTo>
                  <a:pt x="9594" y="14211"/>
                  <a:pt x="9610" y="14197"/>
                  <a:pt x="9652" y="14160"/>
                </a:cubicBezTo>
                <a:cubicBezTo>
                  <a:pt x="9697" y="14121"/>
                  <a:pt x="9721" y="14129"/>
                  <a:pt x="9779" y="14129"/>
                </a:cubicBezTo>
                <a:cubicBezTo>
                  <a:pt x="9838" y="14129"/>
                  <a:pt x="9860" y="14150"/>
                  <a:pt x="9906" y="14160"/>
                </a:cubicBezTo>
                <a:cubicBezTo>
                  <a:pt x="9952" y="14170"/>
                  <a:pt x="10017" y="14160"/>
                  <a:pt x="10065" y="14160"/>
                </a:cubicBezTo>
              </a:path>
              <a:path w="4637" h="2668">
                <a:moveTo>
                  <a:pt x="10033" y="13462"/>
                </a:moveTo>
                <a:cubicBezTo>
                  <a:pt x="10015" y="13620"/>
                  <a:pt x="9948" y="13754"/>
                  <a:pt x="9906" y="13906"/>
                </a:cubicBezTo>
                <a:cubicBezTo>
                  <a:pt x="9834" y="14170"/>
                  <a:pt x="9787" y="14436"/>
                  <a:pt x="9716" y="14700"/>
                </a:cubicBezTo>
                <a:cubicBezTo>
                  <a:pt x="9695" y="14774"/>
                  <a:pt x="9673" y="14848"/>
                  <a:pt x="9652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8"/>
          <p:cNvSpPr/>
          <p:nvPr/>
        </p:nvSpPr>
        <p:spPr>
          <a:xfrm>
            <a:off x="1954080" y="5315040"/>
            <a:ext cx="1578240" cy="982440"/>
          </a:xfrm>
          <a:custGeom>
            <a:avLst/>
            <a:gdLst/>
            <a:ahLst/>
            <a:rect l="l" t="t" r="r" b="b"/>
            <a:pathLst>
              <a:path w="4383" h="2731">
                <a:moveTo>
                  <a:pt x="6255" y="15621"/>
                </a:moveTo>
                <a:cubicBezTo>
                  <a:pt x="6231" y="15684"/>
                  <a:pt x="6200" y="15767"/>
                  <a:pt x="6191" y="15843"/>
                </a:cubicBezTo>
                <a:cubicBezTo>
                  <a:pt x="6173" y="16002"/>
                  <a:pt x="6142" y="16167"/>
                  <a:pt x="6096" y="16320"/>
                </a:cubicBezTo>
                <a:cubicBezTo>
                  <a:pt x="6063" y="16430"/>
                  <a:pt x="6002" y="16530"/>
                  <a:pt x="5969" y="16637"/>
                </a:cubicBezTo>
                <a:cubicBezTo>
                  <a:pt x="5969" y="16648"/>
                  <a:pt x="5969" y="16658"/>
                  <a:pt x="5969" y="16669"/>
                </a:cubicBezTo>
                <a:cubicBezTo>
                  <a:pt x="5978" y="16594"/>
                  <a:pt x="5984" y="16519"/>
                  <a:pt x="6001" y="16446"/>
                </a:cubicBezTo>
                <a:cubicBezTo>
                  <a:pt x="6028" y="16326"/>
                  <a:pt x="6108" y="16147"/>
                  <a:pt x="6160" y="16034"/>
                </a:cubicBezTo>
                <a:cubicBezTo>
                  <a:pt x="6219" y="15906"/>
                  <a:pt x="6272" y="15789"/>
                  <a:pt x="6318" y="15653"/>
                </a:cubicBezTo>
                <a:cubicBezTo>
                  <a:pt x="6343" y="15578"/>
                  <a:pt x="6375" y="15449"/>
                  <a:pt x="6445" y="15399"/>
                </a:cubicBezTo>
                <a:cubicBezTo>
                  <a:pt x="6481" y="15399"/>
                  <a:pt x="6495" y="15396"/>
                  <a:pt x="6509" y="15367"/>
                </a:cubicBezTo>
                <a:cubicBezTo>
                  <a:pt x="6522" y="15383"/>
                  <a:pt x="6562" y="15428"/>
                  <a:pt x="6572" y="15462"/>
                </a:cubicBezTo>
                <a:cubicBezTo>
                  <a:pt x="6607" y="15584"/>
                  <a:pt x="6586" y="15828"/>
                  <a:pt x="6540" y="15938"/>
                </a:cubicBezTo>
                <a:cubicBezTo>
                  <a:pt x="6508" y="16016"/>
                  <a:pt x="6480" y="16095"/>
                  <a:pt x="6445" y="16161"/>
                </a:cubicBezTo>
                <a:cubicBezTo>
                  <a:pt x="6445" y="16197"/>
                  <a:pt x="6442" y="16210"/>
                  <a:pt x="6414" y="16224"/>
                </a:cubicBezTo>
                <a:cubicBezTo>
                  <a:pt x="6414" y="16167"/>
                  <a:pt x="6424" y="16182"/>
                  <a:pt x="6445" y="16129"/>
                </a:cubicBezTo>
                <a:cubicBezTo>
                  <a:pt x="6493" y="16009"/>
                  <a:pt x="6580" y="15923"/>
                  <a:pt x="6636" y="15812"/>
                </a:cubicBezTo>
                <a:cubicBezTo>
                  <a:pt x="6698" y="15689"/>
                  <a:pt x="6754" y="15576"/>
                  <a:pt x="6826" y="15462"/>
                </a:cubicBezTo>
                <a:cubicBezTo>
                  <a:pt x="6855" y="15416"/>
                  <a:pt x="6897" y="15329"/>
                  <a:pt x="6953" y="15304"/>
                </a:cubicBezTo>
                <a:cubicBezTo>
                  <a:pt x="6964" y="15304"/>
                  <a:pt x="6974" y="15304"/>
                  <a:pt x="6985" y="15304"/>
                </a:cubicBezTo>
                <a:cubicBezTo>
                  <a:pt x="7020" y="15361"/>
                  <a:pt x="7036" y="15414"/>
                  <a:pt x="7017" y="15494"/>
                </a:cubicBezTo>
                <a:cubicBezTo>
                  <a:pt x="6992" y="15598"/>
                  <a:pt x="6957" y="15706"/>
                  <a:pt x="6922" y="15812"/>
                </a:cubicBezTo>
                <a:cubicBezTo>
                  <a:pt x="6884" y="15926"/>
                  <a:pt x="6863" y="16042"/>
                  <a:pt x="6858" y="16161"/>
                </a:cubicBezTo>
                <a:cubicBezTo>
                  <a:pt x="6854" y="16248"/>
                  <a:pt x="6836" y="16349"/>
                  <a:pt x="6890" y="16415"/>
                </a:cubicBezTo>
                <a:cubicBezTo>
                  <a:pt x="6952" y="16491"/>
                  <a:pt x="7003" y="16484"/>
                  <a:pt x="7080" y="16446"/>
                </a:cubicBezTo>
                <a:cubicBezTo>
                  <a:pt x="7175" y="16399"/>
                  <a:pt x="7238" y="16267"/>
                  <a:pt x="7302" y="16192"/>
                </a:cubicBezTo>
                <a:cubicBezTo>
                  <a:pt x="7367" y="16116"/>
                  <a:pt x="7363" y="16094"/>
                  <a:pt x="7398" y="16002"/>
                </a:cubicBezTo>
              </a:path>
              <a:path w="4383" h="2731">
                <a:moveTo>
                  <a:pt x="7398" y="15875"/>
                </a:moveTo>
                <a:cubicBezTo>
                  <a:pt x="7465" y="15858"/>
                  <a:pt x="7507" y="15843"/>
                  <a:pt x="7588" y="15843"/>
                </a:cubicBezTo>
                <a:cubicBezTo>
                  <a:pt x="7670" y="15843"/>
                  <a:pt x="7746" y="15826"/>
                  <a:pt x="7810" y="15875"/>
                </a:cubicBezTo>
              </a:path>
              <a:path w="4383" h="2731">
                <a:moveTo>
                  <a:pt x="7493" y="16192"/>
                </a:moveTo>
                <a:cubicBezTo>
                  <a:pt x="7493" y="16140"/>
                  <a:pt x="7502" y="16227"/>
                  <a:pt x="7588" y="16192"/>
                </a:cubicBezTo>
                <a:cubicBezTo>
                  <a:pt x="7656" y="16164"/>
                  <a:pt x="7698" y="16161"/>
                  <a:pt x="7779" y="16161"/>
                </a:cubicBezTo>
                <a:cubicBezTo>
                  <a:pt x="7835" y="16161"/>
                  <a:pt x="7856" y="16180"/>
                  <a:pt x="7906" y="16192"/>
                </a:cubicBezTo>
              </a:path>
              <a:path w="4383" h="2731">
                <a:moveTo>
                  <a:pt x="8192" y="15304"/>
                </a:moveTo>
                <a:cubicBezTo>
                  <a:pt x="8248" y="15290"/>
                  <a:pt x="8288" y="15256"/>
                  <a:pt x="8350" y="15240"/>
                </a:cubicBezTo>
                <a:cubicBezTo>
                  <a:pt x="8393" y="15229"/>
                  <a:pt x="8516" y="15223"/>
                  <a:pt x="8541" y="15272"/>
                </a:cubicBezTo>
                <a:cubicBezTo>
                  <a:pt x="8564" y="15319"/>
                  <a:pt x="8500" y="15399"/>
                  <a:pt x="8477" y="15430"/>
                </a:cubicBezTo>
                <a:cubicBezTo>
                  <a:pt x="8408" y="15523"/>
                  <a:pt x="8305" y="15603"/>
                  <a:pt x="8223" y="15684"/>
                </a:cubicBezTo>
                <a:cubicBezTo>
                  <a:pt x="8240" y="15736"/>
                  <a:pt x="8249" y="15742"/>
                  <a:pt x="8318" y="15748"/>
                </a:cubicBezTo>
                <a:cubicBezTo>
                  <a:pt x="8401" y="15756"/>
                  <a:pt x="8489" y="15748"/>
                  <a:pt x="8572" y="15748"/>
                </a:cubicBezTo>
              </a:path>
              <a:path w="4383" h="2731">
                <a:moveTo>
                  <a:pt x="8954" y="15145"/>
                </a:moveTo>
                <a:cubicBezTo>
                  <a:pt x="8954" y="15236"/>
                  <a:pt x="8935" y="15317"/>
                  <a:pt x="8890" y="15399"/>
                </a:cubicBezTo>
                <a:cubicBezTo>
                  <a:pt x="8810" y="15546"/>
                  <a:pt x="8756" y="15696"/>
                  <a:pt x="8668" y="15843"/>
                </a:cubicBezTo>
                <a:cubicBezTo>
                  <a:pt x="8579" y="15991"/>
                  <a:pt x="8530" y="16154"/>
                  <a:pt x="8477" y="16320"/>
                </a:cubicBezTo>
                <a:cubicBezTo>
                  <a:pt x="8449" y="16408"/>
                  <a:pt x="8424" y="16527"/>
                  <a:pt x="8382" y="16605"/>
                </a:cubicBezTo>
                <a:cubicBezTo>
                  <a:pt x="8371" y="16616"/>
                  <a:pt x="8361" y="16626"/>
                  <a:pt x="8350" y="16637"/>
                </a:cubicBezTo>
              </a:path>
              <a:path w="4383" h="2731">
                <a:moveTo>
                  <a:pt x="8795" y="16066"/>
                </a:moveTo>
                <a:cubicBezTo>
                  <a:pt x="8829" y="16045"/>
                  <a:pt x="8906" y="16007"/>
                  <a:pt x="8954" y="16034"/>
                </a:cubicBezTo>
                <a:cubicBezTo>
                  <a:pt x="8972" y="16044"/>
                  <a:pt x="9083" y="16099"/>
                  <a:pt x="9080" y="16129"/>
                </a:cubicBezTo>
                <a:cubicBezTo>
                  <a:pt x="9076" y="16167"/>
                  <a:pt x="9034" y="16266"/>
                  <a:pt x="8985" y="16288"/>
                </a:cubicBezTo>
                <a:cubicBezTo>
                  <a:pt x="8942" y="16307"/>
                  <a:pt x="8811" y="16320"/>
                  <a:pt x="8858" y="16320"/>
                </a:cubicBezTo>
                <a:cubicBezTo>
                  <a:pt x="8930" y="16320"/>
                  <a:pt x="8986" y="16309"/>
                  <a:pt x="9049" y="16351"/>
                </a:cubicBezTo>
                <a:cubicBezTo>
                  <a:pt x="9096" y="16382"/>
                  <a:pt x="9108" y="16460"/>
                  <a:pt x="9112" y="16510"/>
                </a:cubicBezTo>
                <a:cubicBezTo>
                  <a:pt x="9117" y="16567"/>
                  <a:pt x="9117" y="16595"/>
                  <a:pt x="9080" y="16637"/>
                </a:cubicBezTo>
                <a:cubicBezTo>
                  <a:pt x="9024" y="16701"/>
                  <a:pt x="9006" y="16700"/>
                  <a:pt x="8922" y="16700"/>
                </a:cubicBezTo>
                <a:cubicBezTo>
                  <a:pt x="8863" y="16700"/>
                  <a:pt x="8780" y="16694"/>
                  <a:pt x="8731" y="16669"/>
                </a:cubicBezTo>
                <a:cubicBezTo>
                  <a:pt x="8700" y="16637"/>
                  <a:pt x="8689" y="16626"/>
                  <a:pt x="8668" y="16605"/>
                </a:cubicBezTo>
              </a:path>
              <a:path w="4383" h="2731">
                <a:moveTo>
                  <a:pt x="7334" y="16986"/>
                </a:moveTo>
                <a:cubicBezTo>
                  <a:pt x="7373" y="17012"/>
                  <a:pt x="7417" y="17048"/>
                  <a:pt x="7461" y="17082"/>
                </a:cubicBezTo>
                <a:cubicBezTo>
                  <a:pt x="7532" y="17136"/>
                  <a:pt x="7629" y="17182"/>
                  <a:pt x="7715" y="17208"/>
                </a:cubicBezTo>
                <a:cubicBezTo>
                  <a:pt x="7826" y="17241"/>
                  <a:pt x="7947" y="17280"/>
                  <a:pt x="8064" y="17304"/>
                </a:cubicBezTo>
                <a:cubicBezTo>
                  <a:pt x="8198" y="17332"/>
                  <a:pt x="8339" y="17333"/>
                  <a:pt x="8477" y="17336"/>
                </a:cubicBezTo>
                <a:cubicBezTo>
                  <a:pt x="8629" y="17340"/>
                  <a:pt x="8772" y="17298"/>
                  <a:pt x="8922" y="17272"/>
                </a:cubicBezTo>
                <a:cubicBezTo>
                  <a:pt x="9066" y="17247"/>
                  <a:pt x="9206" y="17224"/>
                  <a:pt x="9334" y="17145"/>
                </a:cubicBezTo>
                <a:cubicBezTo>
                  <a:pt x="9445" y="17077"/>
                  <a:pt x="9552" y="16971"/>
                  <a:pt x="9620" y="16859"/>
                </a:cubicBezTo>
                <a:cubicBezTo>
                  <a:pt x="9692" y="16740"/>
                  <a:pt x="9794" y="16596"/>
                  <a:pt x="9811" y="16446"/>
                </a:cubicBezTo>
                <a:cubicBezTo>
                  <a:pt x="9830" y="16271"/>
                  <a:pt x="9834" y="16040"/>
                  <a:pt x="9779" y="15875"/>
                </a:cubicBezTo>
                <a:cubicBezTo>
                  <a:pt x="9737" y="15750"/>
                  <a:pt x="9673" y="15655"/>
                  <a:pt x="9588" y="15558"/>
                </a:cubicBezTo>
                <a:cubicBezTo>
                  <a:pt x="9497" y="15455"/>
                  <a:pt x="9403" y="15410"/>
                  <a:pt x="9303" y="15335"/>
                </a:cubicBezTo>
                <a:cubicBezTo>
                  <a:pt x="9185" y="15247"/>
                  <a:pt x="9072" y="15159"/>
                  <a:pt x="8954" y="15081"/>
                </a:cubicBezTo>
                <a:cubicBezTo>
                  <a:pt x="8810" y="14985"/>
                  <a:pt x="8705" y="14941"/>
                  <a:pt x="8541" y="14891"/>
                </a:cubicBezTo>
                <a:cubicBezTo>
                  <a:pt x="8378" y="14842"/>
                  <a:pt x="8228" y="14823"/>
                  <a:pt x="8064" y="14796"/>
                </a:cubicBezTo>
                <a:cubicBezTo>
                  <a:pt x="7907" y="14770"/>
                  <a:pt x="7719" y="14774"/>
                  <a:pt x="7556" y="14796"/>
                </a:cubicBezTo>
                <a:cubicBezTo>
                  <a:pt x="7388" y="14819"/>
                  <a:pt x="7213" y="14855"/>
                  <a:pt x="7048" y="14891"/>
                </a:cubicBezTo>
                <a:cubicBezTo>
                  <a:pt x="6886" y="14927"/>
                  <a:pt x="6733" y="14950"/>
                  <a:pt x="6572" y="14986"/>
                </a:cubicBezTo>
                <a:cubicBezTo>
                  <a:pt x="6437" y="15016"/>
                  <a:pt x="6216" y="15042"/>
                  <a:pt x="6096" y="15113"/>
                </a:cubicBezTo>
                <a:cubicBezTo>
                  <a:pt x="5977" y="15183"/>
                  <a:pt x="5859" y="15280"/>
                  <a:pt x="5747" y="15367"/>
                </a:cubicBezTo>
                <a:cubicBezTo>
                  <a:pt x="5638" y="15453"/>
                  <a:pt x="5559" y="15529"/>
                  <a:pt x="5493" y="15653"/>
                </a:cubicBezTo>
                <a:cubicBezTo>
                  <a:pt x="5429" y="15775"/>
                  <a:pt x="5434" y="15868"/>
                  <a:pt x="5429" y="16002"/>
                </a:cubicBezTo>
                <a:cubicBezTo>
                  <a:pt x="5424" y="16143"/>
                  <a:pt x="5442" y="16251"/>
                  <a:pt x="5493" y="16383"/>
                </a:cubicBezTo>
                <a:cubicBezTo>
                  <a:pt x="5542" y="16508"/>
                  <a:pt x="5598" y="16658"/>
                  <a:pt x="5683" y="16764"/>
                </a:cubicBezTo>
                <a:cubicBezTo>
                  <a:pt x="5787" y="16894"/>
                  <a:pt x="5904" y="17006"/>
                  <a:pt x="6032" y="17113"/>
                </a:cubicBezTo>
                <a:cubicBezTo>
                  <a:pt x="6176" y="17234"/>
                  <a:pt x="6332" y="17332"/>
                  <a:pt x="6509" y="17399"/>
                </a:cubicBezTo>
                <a:cubicBezTo>
                  <a:pt x="6723" y="17481"/>
                  <a:pt x="6955" y="17518"/>
                  <a:pt x="7176" y="17462"/>
                </a:cubicBezTo>
                <a:cubicBezTo>
                  <a:pt x="7317" y="17426"/>
                  <a:pt x="7442" y="17354"/>
                  <a:pt x="7588" y="17336"/>
                </a:cubicBezTo>
                <a:cubicBezTo>
                  <a:pt x="7658" y="17327"/>
                  <a:pt x="7752" y="17341"/>
                  <a:pt x="7810" y="17367"/>
                </a:cubicBezTo>
                <a:cubicBezTo>
                  <a:pt x="7821" y="17378"/>
                  <a:pt x="7831" y="17388"/>
                  <a:pt x="7842" y="17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Ink 9"/>
          <p:cNvSpPr/>
          <p:nvPr/>
        </p:nvSpPr>
        <p:spPr>
          <a:xfrm>
            <a:off x="7029360" y="3121200"/>
            <a:ext cx="868320" cy="490320"/>
          </a:xfrm>
          <a:custGeom>
            <a:avLst/>
            <a:gdLst/>
            <a:ahLst/>
            <a:rect l="l" t="t" r="r" b="b"/>
            <a:pathLst>
              <a:path w="2414" h="1366">
                <a:moveTo>
                  <a:pt x="19526" y="9144"/>
                </a:moveTo>
                <a:cubicBezTo>
                  <a:pt x="19584" y="9158"/>
                  <a:pt x="19616" y="9176"/>
                  <a:pt x="19685" y="9176"/>
                </a:cubicBezTo>
                <a:cubicBezTo>
                  <a:pt x="19758" y="9176"/>
                  <a:pt x="19826" y="9208"/>
                  <a:pt x="19907" y="9208"/>
                </a:cubicBezTo>
                <a:cubicBezTo>
                  <a:pt x="20010" y="9208"/>
                  <a:pt x="20088" y="9176"/>
                  <a:pt x="20193" y="9176"/>
                </a:cubicBezTo>
                <a:cubicBezTo>
                  <a:pt x="20259" y="9176"/>
                  <a:pt x="20282" y="9175"/>
                  <a:pt x="20320" y="9144"/>
                </a:cubicBezTo>
              </a:path>
              <a:path w="2414" h="1366">
                <a:moveTo>
                  <a:pt x="20510" y="8700"/>
                </a:moveTo>
                <a:cubicBezTo>
                  <a:pt x="20510" y="8776"/>
                  <a:pt x="20498" y="8850"/>
                  <a:pt x="20479" y="8922"/>
                </a:cubicBezTo>
                <a:cubicBezTo>
                  <a:pt x="20443" y="9060"/>
                  <a:pt x="20421" y="9189"/>
                  <a:pt x="20415" y="9334"/>
                </a:cubicBezTo>
                <a:cubicBezTo>
                  <a:pt x="20410" y="9464"/>
                  <a:pt x="20384" y="9584"/>
                  <a:pt x="20384" y="9716"/>
                </a:cubicBezTo>
                <a:cubicBezTo>
                  <a:pt x="20384" y="9744"/>
                  <a:pt x="20384" y="9948"/>
                  <a:pt x="20384" y="9874"/>
                </a:cubicBezTo>
              </a:path>
              <a:path w="2414" h="1366">
                <a:moveTo>
                  <a:pt x="21114" y="8668"/>
                </a:moveTo>
                <a:cubicBezTo>
                  <a:pt x="21146" y="8668"/>
                  <a:pt x="21177" y="8668"/>
                  <a:pt x="21209" y="8668"/>
                </a:cubicBezTo>
                <a:cubicBezTo>
                  <a:pt x="21146" y="8731"/>
                  <a:pt x="21096" y="8785"/>
                  <a:pt x="21018" y="8826"/>
                </a:cubicBezTo>
                <a:cubicBezTo>
                  <a:pt x="20971" y="8851"/>
                  <a:pt x="20907" y="8885"/>
                  <a:pt x="20860" y="8890"/>
                </a:cubicBezTo>
                <a:cubicBezTo>
                  <a:pt x="20821" y="8894"/>
                  <a:pt x="20801" y="8867"/>
                  <a:pt x="20764" y="8858"/>
                </a:cubicBezTo>
                <a:cubicBezTo>
                  <a:pt x="20764" y="8978"/>
                  <a:pt x="20773" y="9092"/>
                  <a:pt x="20733" y="9208"/>
                </a:cubicBezTo>
                <a:cubicBezTo>
                  <a:pt x="20711" y="9271"/>
                  <a:pt x="20673" y="9338"/>
                  <a:pt x="20669" y="9398"/>
                </a:cubicBezTo>
                <a:cubicBezTo>
                  <a:pt x="20669" y="9419"/>
                  <a:pt x="20669" y="9441"/>
                  <a:pt x="20669" y="9462"/>
                </a:cubicBezTo>
                <a:cubicBezTo>
                  <a:pt x="20730" y="9432"/>
                  <a:pt x="20718" y="9383"/>
                  <a:pt x="20764" y="9334"/>
                </a:cubicBezTo>
                <a:cubicBezTo>
                  <a:pt x="20823" y="9271"/>
                  <a:pt x="20862" y="9205"/>
                  <a:pt x="20923" y="9144"/>
                </a:cubicBezTo>
                <a:cubicBezTo>
                  <a:pt x="20935" y="9132"/>
                  <a:pt x="21039" y="9032"/>
                  <a:pt x="21082" y="9080"/>
                </a:cubicBezTo>
                <a:cubicBezTo>
                  <a:pt x="21130" y="9133"/>
                  <a:pt x="21175" y="9239"/>
                  <a:pt x="21209" y="9303"/>
                </a:cubicBezTo>
                <a:cubicBezTo>
                  <a:pt x="21253" y="9386"/>
                  <a:pt x="21260" y="9495"/>
                  <a:pt x="21241" y="9588"/>
                </a:cubicBezTo>
                <a:cubicBezTo>
                  <a:pt x="21221" y="9688"/>
                  <a:pt x="21159" y="9783"/>
                  <a:pt x="21114" y="9874"/>
                </a:cubicBezTo>
                <a:cubicBezTo>
                  <a:pt x="21069" y="9964"/>
                  <a:pt x="21031" y="9953"/>
                  <a:pt x="20955" y="9938"/>
                </a:cubicBezTo>
                <a:cubicBezTo>
                  <a:pt x="20910" y="9929"/>
                  <a:pt x="20894" y="9834"/>
                  <a:pt x="20892" y="9779"/>
                </a:cubicBezTo>
                <a:cubicBezTo>
                  <a:pt x="20892" y="9747"/>
                  <a:pt x="20892" y="9716"/>
                  <a:pt x="20892" y="9684"/>
                </a:cubicBezTo>
              </a:path>
              <a:path w="2414" h="1366">
                <a:moveTo>
                  <a:pt x="21463" y="8954"/>
                </a:moveTo>
                <a:cubicBezTo>
                  <a:pt x="21520" y="9025"/>
                  <a:pt x="21531" y="9068"/>
                  <a:pt x="21558" y="9144"/>
                </a:cubicBezTo>
                <a:cubicBezTo>
                  <a:pt x="21584" y="9219"/>
                  <a:pt x="21640" y="9329"/>
                  <a:pt x="21654" y="9398"/>
                </a:cubicBezTo>
                <a:cubicBezTo>
                  <a:pt x="21676" y="9505"/>
                  <a:pt x="21683" y="9587"/>
                  <a:pt x="21749" y="9684"/>
                </a:cubicBezTo>
                <a:cubicBezTo>
                  <a:pt x="21791" y="9745"/>
                  <a:pt x="21785" y="9785"/>
                  <a:pt x="21844" y="9842"/>
                </a:cubicBezTo>
              </a:path>
              <a:path w="2414" h="1366">
                <a:moveTo>
                  <a:pt x="21939" y="8795"/>
                </a:moveTo>
                <a:cubicBezTo>
                  <a:pt x="21886" y="8813"/>
                  <a:pt x="21867" y="8919"/>
                  <a:pt x="21844" y="8985"/>
                </a:cubicBezTo>
                <a:cubicBezTo>
                  <a:pt x="21770" y="9196"/>
                  <a:pt x="21672" y="9382"/>
                  <a:pt x="21590" y="9588"/>
                </a:cubicBezTo>
                <a:cubicBezTo>
                  <a:pt x="21493" y="9815"/>
                  <a:pt x="21459" y="9893"/>
                  <a:pt x="21368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Ink 10"/>
          <p:cNvSpPr/>
          <p:nvPr/>
        </p:nvSpPr>
        <p:spPr>
          <a:xfrm>
            <a:off x="5178600" y="3143160"/>
            <a:ext cx="3108240" cy="1578240"/>
          </a:xfrm>
          <a:custGeom>
            <a:avLst/>
            <a:gdLst/>
            <a:ahLst/>
            <a:rect l="l" t="t" r="r" b="b"/>
            <a:pathLst>
              <a:path w="8637" h="4383">
                <a:moveTo>
                  <a:pt x="14383" y="9239"/>
                </a:moveTo>
                <a:cubicBezTo>
                  <a:pt x="14393" y="9239"/>
                  <a:pt x="14404" y="9239"/>
                  <a:pt x="14414" y="9239"/>
                </a:cubicBezTo>
                <a:cubicBezTo>
                  <a:pt x="14423" y="9211"/>
                  <a:pt x="14470" y="9189"/>
                  <a:pt x="14510" y="9176"/>
                </a:cubicBezTo>
                <a:cubicBezTo>
                  <a:pt x="14553" y="9162"/>
                  <a:pt x="14627" y="9147"/>
                  <a:pt x="14668" y="9144"/>
                </a:cubicBezTo>
                <a:cubicBezTo>
                  <a:pt x="14762" y="9137"/>
                  <a:pt x="14860" y="9144"/>
                  <a:pt x="14954" y="9144"/>
                </a:cubicBezTo>
              </a:path>
              <a:path w="8637" h="4383">
                <a:moveTo>
                  <a:pt x="15240" y="8731"/>
                </a:moveTo>
                <a:cubicBezTo>
                  <a:pt x="15240" y="8947"/>
                  <a:pt x="15231" y="9156"/>
                  <a:pt x="15208" y="9366"/>
                </a:cubicBezTo>
                <a:cubicBezTo>
                  <a:pt x="15194" y="9492"/>
                  <a:pt x="15182" y="9621"/>
                  <a:pt x="15176" y="9747"/>
                </a:cubicBezTo>
                <a:cubicBezTo>
                  <a:pt x="15175" y="9778"/>
                  <a:pt x="15138" y="9961"/>
                  <a:pt x="15145" y="9970"/>
                </a:cubicBezTo>
                <a:cubicBezTo>
                  <a:pt x="15155" y="9970"/>
                  <a:pt x="15166" y="9970"/>
                  <a:pt x="15176" y="9970"/>
                </a:cubicBezTo>
              </a:path>
              <a:path w="8637" h="4383">
                <a:moveTo>
                  <a:pt x="15780" y="8826"/>
                </a:moveTo>
                <a:cubicBezTo>
                  <a:pt x="15812" y="8795"/>
                  <a:pt x="15843" y="8763"/>
                  <a:pt x="15875" y="8731"/>
                </a:cubicBezTo>
                <a:cubicBezTo>
                  <a:pt x="15861" y="8787"/>
                  <a:pt x="15823" y="8815"/>
                  <a:pt x="15780" y="8858"/>
                </a:cubicBezTo>
                <a:cubicBezTo>
                  <a:pt x="15746" y="8892"/>
                  <a:pt x="15668" y="8919"/>
                  <a:pt x="15621" y="8922"/>
                </a:cubicBezTo>
                <a:cubicBezTo>
                  <a:pt x="15569" y="8926"/>
                  <a:pt x="15514" y="8922"/>
                  <a:pt x="15462" y="8922"/>
                </a:cubicBezTo>
                <a:cubicBezTo>
                  <a:pt x="15462" y="8987"/>
                  <a:pt x="15448" y="8997"/>
                  <a:pt x="15430" y="9049"/>
                </a:cubicBezTo>
                <a:cubicBezTo>
                  <a:pt x="15420" y="9078"/>
                  <a:pt x="15430" y="9367"/>
                  <a:pt x="15430" y="9303"/>
                </a:cubicBezTo>
                <a:cubicBezTo>
                  <a:pt x="15465" y="9256"/>
                  <a:pt x="15480" y="9222"/>
                  <a:pt x="15526" y="9176"/>
                </a:cubicBezTo>
                <a:cubicBezTo>
                  <a:pt x="15567" y="9135"/>
                  <a:pt x="15577" y="9102"/>
                  <a:pt x="15621" y="9080"/>
                </a:cubicBezTo>
                <a:cubicBezTo>
                  <a:pt x="15658" y="9099"/>
                  <a:pt x="15717" y="9160"/>
                  <a:pt x="15748" y="9208"/>
                </a:cubicBezTo>
                <a:cubicBezTo>
                  <a:pt x="15794" y="9279"/>
                  <a:pt x="15831" y="9379"/>
                  <a:pt x="15843" y="9462"/>
                </a:cubicBezTo>
                <a:cubicBezTo>
                  <a:pt x="15856" y="9549"/>
                  <a:pt x="15815" y="9670"/>
                  <a:pt x="15780" y="9747"/>
                </a:cubicBezTo>
                <a:cubicBezTo>
                  <a:pt x="15734" y="9850"/>
                  <a:pt x="15705" y="9875"/>
                  <a:pt x="15621" y="9938"/>
                </a:cubicBezTo>
                <a:cubicBezTo>
                  <a:pt x="15593" y="9959"/>
                  <a:pt x="15499" y="10007"/>
                  <a:pt x="15462" y="9970"/>
                </a:cubicBezTo>
                <a:cubicBezTo>
                  <a:pt x="15430" y="9938"/>
                  <a:pt x="15416" y="9829"/>
                  <a:pt x="15430" y="9779"/>
                </a:cubicBezTo>
                <a:cubicBezTo>
                  <a:pt x="15441" y="9758"/>
                  <a:pt x="15451" y="9737"/>
                  <a:pt x="15462" y="9716"/>
                </a:cubicBezTo>
              </a:path>
              <a:path w="8637" h="4383">
                <a:moveTo>
                  <a:pt x="15938" y="9080"/>
                </a:moveTo>
                <a:cubicBezTo>
                  <a:pt x="15975" y="9104"/>
                  <a:pt x="16000" y="9205"/>
                  <a:pt x="16034" y="9271"/>
                </a:cubicBezTo>
                <a:cubicBezTo>
                  <a:pt x="16077" y="9355"/>
                  <a:pt x="16122" y="9405"/>
                  <a:pt x="16161" y="9493"/>
                </a:cubicBezTo>
                <a:cubicBezTo>
                  <a:pt x="16206" y="9595"/>
                  <a:pt x="16245" y="9719"/>
                  <a:pt x="16288" y="9811"/>
                </a:cubicBezTo>
                <a:cubicBezTo>
                  <a:pt x="16311" y="9861"/>
                  <a:pt x="16320" y="9846"/>
                  <a:pt x="16320" y="9906"/>
                </a:cubicBezTo>
              </a:path>
              <a:path w="8637" h="4383">
                <a:moveTo>
                  <a:pt x="16383" y="8954"/>
                </a:moveTo>
                <a:cubicBezTo>
                  <a:pt x="16317" y="9062"/>
                  <a:pt x="16297" y="9090"/>
                  <a:pt x="16256" y="9239"/>
                </a:cubicBezTo>
                <a:cubicBezTo>
                  <a:pt x="16194" y="9460"/>
                  <a:pt x="16075" y="9658"/>
                  <a:pt x="16002" y="9874"/>
                </a:cubicBezTo>
                <a:cubicBezTo>
                  <a:pt x="15964" y="9988"/>
                  <a:pt x="15942" y="10109"/>
                  <a:pt x="15907" y="10224"/>
                </a:cubicBezTo>
              </a:path>
              <a:path w="8637" h="4383">
                <a:moveTo>
                  <a:pt x="16320" y="10890"/>
                </a:moveTo>
                <a:cubicBezTo>
                  <a:pt x="16291" y="10919"/>
                  <a:pt x="16285" y="10930"/>
                  <a:pt x="16256" y="10922"/>
                </a:cubicBezTo>
                <a:cubicBezTo>
                  <a:pt x="16279" y="10992"/>
                  <a:pt x="16278" y="10967"/>
                  <a:pt x="16351" y="10954"/>
                </a:cubicBezTo>
                <a:cubicBezTo>
                  <a:pt x="16424" y="10941"/>
                  <a:pt x="16504" y="10934"/>
                  <a:pt x="16574" y="10922"/>
                </a:cubicBezTo>
                <a:cubicBezTo>
                  <a:pt x="16618" y="10915"/>
                  <a:pt x="16687" y="10922"/>
                  <a:pt x="16732" y="10922"/>
                </a:cubicBezTo>
              </a:path>
              <a:path w="8637" h="4383">
                <a:moveTo>
                  <a:pt x="16954" y="10763"/>
                </a:moveTo>
                <a:cubicBezTo>
                  <a:pt x="16918" y="10690"/>
                  <a:pt x="16962" y="10718"/>
                  <a:pt x="17018" y="10668"/>
                </a:cubicBezTo>
                <a:cubicBezTo>
                  <a:pt x="17064" y="10627"/>
                  <a:pt x="17103" y="10610"/>
                  <a:pt x="17145" y="10573"/>
                </a:cubicBezTo>
                <a:cubicBezTo>
                  <a:pt x="17172" y="10549"/>
                  <a:pt x="17231" y="10518"/>
                  <a:pt x="17272" y="10541"/>
                </a:cubicBezTo>
                <a:cubicBezTo>
                  <a:pt x="17330" y="10573"/>
                  <a:pt x="17304" y="10678"/>
                  <a:pt x="17304" y="10732"/>
                </a:cubicBezTo>
                <a:cubicBezTo>
                  <a:pt x="17304" y="10861"/>
                  <a:pt x="17260" y="10993"/>
                  <a:pt x="17208" y="11112"/>
                </a:cubicBezTo>
                <a:cubicBezTo>
                  <a:pt x="17149" y="11247"/>
                  <a:pt x="17091" y="11367"/>
                  <a:pt x="17018" y="11494"/>
                </a:cubicBezTo>
                <a:cubicBezTo>
                  <a:pt x="16980" y="11561"/>
                  <a:pt x="16836" y="11738"/>
                  <a:pt x="16891" y="11684"/>
                </a:cubicBezTo>
                <a:cubicBezTo>
                  <a:pt x="16932" y="11644"/>
                  <a:pt x="16949" y="11637"/>
                  <a:pt x="16986" y="11620"/>
                </a:cubicBezTo>
                <a:cubicBezTo>
                  <a:pt x="17086" y="11575"/>
                  <a:pt x="17064" y="11594"/>
                  <a:pt x="17145" y="11620"/>
                </a:cubicBezTo>
                <a:cubicBezTo>
                  <a:pt x="17201" y="11638"/>
                  <a:pt x="17219" y="11660"/>
                  <a:pt x="17272" y="11684"/>
                </a:cubicBezTo>
                <a:cubicBezTo>
                  <a:pt x="17313" y="11702"/>
                  <a:pt x="17309" y="11733"/>
                  <a:pt x="17367" y="11748"/>
                </a:cubicBezTo>
              </a:path>
              <a:path w="8637" h="4383">
                <a:moveTo>
                  <a:pt x="17494" y="11017"/>
                </a:moveTo>
                <a:cubicBezTo>
                  <a:pt x="17534" y="11057"/>
                  <a:pt x="17523" y="11055"/>
                  <a:pt x="17526" y="11112"/>
                </a:cubicBezTo>
                <a:cubicBezTo>
                  <a:pt x="17537" y="11308"/>
                  <a:pt x="17528" y="11497"/>
                  <a:pt x="17558" y="11684"/>
                </a:cubicBezTo>
                <a:cubicBezTo>
                  <a:pt x="17570" y="11759"/>
                  <a:pt x="17573" y="11782"/>
                  <a:pt x="17621" y="11843"/>
                </a:cubicBezTo>
                <a:cubicBezTo>
                  <a:pt x="17707" y="11806"/>
                  <a:pt x="17658" y="11859"/>
                  <a:pt x="17716" y="11748"/>
                </a:cubicBezTo>
                <a:cubicBezTo>
                  <a:pt x="17768" y="11650"/>
                  <a:pt x="17775" y="11509"/>
                  <a:pt x="17780" y="11398"/>
                </a:cubicBezTo>
                <a:cubicBezTo>
                  <a:pt x="17784" y="11301"/>
                  <a:pt x="17805" y="11211"/>
                  <a:pt x="17812" y="11112"/>
                </a:cubicBezTo>
                <a:cubicBezTo>
                  <a:pt x="17816" y="11059"/>
                  <a:pt x="17812" y="11155"/>
                  <a:pt x="17812" y="11208"/>
                </a:cubicBezTo>
                <a:cubicBezTo>
                  <a:pt x="17812" y="11341"/>
                  <a:pt x="17830" y="11461"/>
                  <a:pt x="17844" y="11589"/>
                </a:cubicBezTo>
                <a:cubicBezTo>
                  <a:pt x="17860" y="11734"/>
                  <a:pt x="17871" y="11888"/>
                  <a:pt x="17875" y="12033"/>
                </a:cubicBezTo>
                <a:cubicBezTo>
                  <a:pt x="17882" y="12268"/>
                  <a:pt x="17881" y="12508"/>
                  <a:pt x="17844" y="12732"/>
                </a:cubicBezTo>
                <a:cubicBezTo>
                  <a:pt x="17834" y="12793"/>
                  <a:pt x="17790" y="12874"/>
                  <a:pt x="17716" y="12859"/>
                </a:cubicBezTo>
                <a:cubicBezTo>
                  <a:pt x="17655" y="12847"/>
                  <a:pt x="17590" y="12787"/>
                  <a:pt x="17558" y="12732"/>
                </a:cubicBezTo>
                <a:cubicBezTo>
                  <a:pt x="17510" y="12650"/>
                  <a:pt x="17455" y="12476"/>
                  <a:pt x="17462" y="12382"/>
                </a:cubicBezTo>
                <a:cubicBezTo>
                  <a:pt x="17468" y="12290"/>
                  <a:pt x="17491" y="12148"/>
                  <a:pt x="17526" y="12065"/>
                </a:cubicBezTo>
                <a:cubicBezTo>
                  <a:pt x="17560" y="11985"/>
                  <a:pt x="17597" y="11939"/>
                  <a:pt x="17653" y="11874"/>
                </a:cubicBezTo>
              </a:path>
              <a:path w="8637" h="4383">
                <a:moveTo>
                  <a:pt x="18224" y="11176"/>
                </a:moveTo>
                <a:cubicBezTo>
                  <a:pt x="18350" y="11176"/>
                  <a:pt x="18466" y="11180"/>
                  <a:pt x="18574" y="11144"/>
                </a:cubicBezTo>
                <a:cubicBezTo>
                  <a:pt x="18610" y="11144"/>
                  <a:pt x="18624" y="11141"/>
                  <a:pt x="18637" y="11112"/>
                </a:cubicBezTo>
              </a:path>
              <a:path w="8637" h="4383">
                <a:moveTo>
                  <a:pt x="18383" y="11430"/>
                </a:moveTo>
                <a:cubicBezTo>
                  <a:pt x="18373" y="11430"/>
                  <a:pt x="18362" y="11430"/>
                  <a:pt x="18352" y="11430"/>
                </a:cubicBezTo>
                <a:cubicBezTo>
                  <a:pt x="18409" y="11415"/>
                  <a:pt x="18441" y="11398"/>
                  <a:pt x="18510" y="11398"/>
                </a:cubicBezTo>
                <a:cubicBezTo>
                  <a:pt x="18578" y="11398"/>
                  <a:pt x="18604" y="11378"/>
                  <a:pt x="18669" y="11366"/>
                </a:cubicBezTo>
                <a:cubicBezTo>
                  <a:pt x="18690" y="11366"/>
                  <a:pt x="18711" y="11366"/>
                  <a:pt x="18732" y="11366"/>
                </a:cubicBezTo>
              </a:path>
              <a:path w="8637" h="4383">
                <a:moveTo>
                  <a:pt x="18891" y="10827"/>
                </a:moveTo>
                <a:cubicBezTo>
                  <a:pt x="18944" y="10787"/>
                  <a:pt x="19015" y="10769"/>
                  <a:pt x="19082" y="10763"/>
                </a:cubicBezTo>
                <a:cubicBezTo>
                  <a:pt x="19155" y="10757"/>
                  <a:pt x="19231" y="10763"/>
                  <a:pt x="19304" y="10763"/>
                </a:cubicBezTo>
              </a:path>
              <a:path w="8637" h="4383">
                <a:moveTo>
                  <a:pt x="19590" y="10446"/>
                </a:moveTo>
                <a:cubicBezTo>
                  <a:pt x="19590" y="10672"/>
                  <a:pt x="19577" y="10890"/>
                  <a:pt x="19558" y="11112"/>
                </a:cubicBezTo>
                <a:cubicBezTo>
                  <a:pt x="19536" y="11362"/>
                  <a:pt x="19558" y="11623"/>
                  <a:pt x="19558" y="11874"/>
                </a:cubicBezTo>
              </a:path>
              <a:path w="8637" h="4383">
                <a:moveTo>
                  <a:pt x="20161" y="10478"/>
                </a:moveTo>
                <a:cubicBezTo>
                  <a:pt x="20202" y="10448"/>
                  <a:pt x="20216" y="10445"/>
                  <a:pt x="20256" y="10414"/>
                </a:cubicBezTo>
                <a:cubicBezTo>
                  <a:pt x="20244" y="10452"/>
                  <a:pt x="20230" y="10467"/>
                  <a:pt x="20193" y="10509"/>
                </a:cubicBezTo>
                <a:cubicBezTo>
                  <a:pt x="20154" y="10552"/>
                  <a:pt x="20084" y="10604"/>
                  <a:pt x="20034" y="10636"/>
                </a:cubicBezTo>
                <a:cubicBezTo>
                  <a:pt x="19978" y="10672"/>
                  <a:pt x="19922" y="10674"/>
                  <a:pt x="19876" y="10700"/>
                </a:cubicBezTo>
                <a:cubicBezTo>
                  <a:pt x="19828" y="10727"/>
                  <a:pt x="19844" y="10781"/>
                  <a:pt x="19844" y="10827"/>
                </a:cubicBezTo>
                <a:cubicBezTo>
                  <a:pt x="19844" y="10892"/>
                  <a:pt x="19876" y="10946"/>
                  <a:pt x="19876" y="11017"/>
                </a:cubicBezTo>
                <a:cubicBezTo>
                  <a:pt x="19876" y="11085"/>
                  <a:pt x="19783" y="11238"/>
                  <a:pt x="19844" y="11208"/>
                </a:cubicBezTo>
                <a:cubicBezTo>
                  <a:pt x="19879" y="11190"/>
                  <a:pt x="19905" y="11114"/>
                  <a:pt x="19939" y="11081"/>
                </a:cubicBezTo>
                <a:cubicBezTo>
                  <a:pt x="20000" y="11021"/>
                  <a:pt x="20012" y="10993"/>
                  <a:pt x="20098" y="10986"/>
                </a:cubicBezTo>
                <a:cubicBezTo>
                  <a:pt x="20155" y="10981"/>
                  <a:pt x="20192" y="10998"/>
                  <a:pt x="20225" y="11049"/>
                </a:cubicBezTo>
                <a:cubicBezTo>
                  <a:pt x="20258" y="11100"/>
                  <a:pt x="20327" y="11211"/>
                  <a:pt x="20320" y="11271"/>
                </a:cubicBezTo>
                <a:cubicBezTo>
                  <a:pt x="20309" y="11367"/>
                  <a:pt x="20270" y="11467"/>
                  <a:pt x="20225" y="11557"/>
                </a:cubicBezTo>
                <a:cubicBezTo>
                  <a:pt x="20200" y="11608"/>
                  <a:pt x="20156" y="11759"/>
                  <a:pt x="20098" y="11779"/>
                </a:cubicBezTo>
                <a:cubicBezTo>
                  <a:pt x="20090" y="11782"/>
                  <a:pt x="19952" y="11828"/>
                  <a:pt x="19939" y="11811"/>
                </a:cubicBezTo>
                <a:cubicBezTo>
                  <a:pt x="19939" y="11775"/>
                  <a:pt x="19936" y="11761"/>
                  <a:pt x="19907" y="11748"/>
                </a:cubicBezTo>
              </a:path>
              <a:path w="8637" h="4383">
                <a:moveTo>
                  <a:pt x="20447" y="10858"/>
                </a:moveTo>
                <a:cubicBezTo>
                  <a:pt x="20466" y="10936"/>
                  <a:pt x="20540" y="11000"/>
                  <a:pt x="20574" y="11081"/>
                </a:cubicBezTo>
                <a:cubicBezTo>
                  <a:pt x="20623" y="11199"/>
                  <a:pt x="20678" y="11292"/>
                  <a:pt x="20733" y="11398"/>
                </a:cubicBezTo>
                <a:cubicBezTo>
                  <a:pt x="20774" y="11477"/>
                  <a:pt x="20833" y="11598"/>
                  <a:pt x="20860" y="11684"/>
                </a:cubicBezTo>
                <a:cubicBezTo>
                  <a:pt x="20871" y="11720"/>
                  <a:pt x="20883" y="11742"/>
                  <a:pt x="20892" y="11779"/>
                </a:cubicBezTo>
              </a:path>
              <a:path w="8637" h="4383">
                <a:moveTo>
                  <a:pt x="20923" y="10795"/>
                </a:moveTo>
                <a:cubicBezTo>
                  <a:pt x="20874" y="10878"/>
                  <a:pt x="20881" y="11010"/>
                  <a:pt x="20860" y="11112"/>
                </a:cubicBezTo>
                <a:cubicBezTo>
                  <a:pt x="20821" y="11304"/>
                  <a:pt x="20729" y="11466"/>
                  <a:pt x="20669" y="11652"/>
                </a:cubicBezTo>
                <a:cubicBezTo>
                  <a:pt x="20623" y="11795"/>
                  <a:pt x="20566" y="11925"/>
                  <a:pt x="20510" y="12065"/>
                </a:cubicBezTo>
              </a:path>
              <a:path w="8637" h="4383">
                <a:moveTo>
                  <a:pt x="21495" y="10732"/>
                </a:moveTo>
                <a:cubicBezTo>
                  <a:pt x="21495" y="10822"/>
                  <a:pt x="21523" y="10897"/>
                  <a:pt x="21526" y="10986"/>
                </a:cubicBezTo>
                <a:cubicBezTo>
                  <a:pt x="21530" y="11118"/>
                  <a:pt x="21495" y="11233"/>
                  <a:pt x="21495" y="11366"/>
                </a:cubicBezTo>
                <a:cubicBezTo>
                  <a:pt x="21495" y="11409"/>
                  <a:pt x="21495" y="11451"/>
                  <a:pt x="21495" y="11494"/>
                </a:cubicBezTo>
              </a:path>
              <a:path w="8637" h="4383">
                <a:moveTo>
                  <a:pt x="21241" y="11208"/>
                </a:moveTo>
                <a:cubicBezTo>
                  <a:pt x="21307" y="11168"/>
                  <a:pt x="21360" y="11169"/>
                  <a:pt x="21431" y="11144"/>
                </a:cubicBezTo>
                <a:cubicBezTo>
                  <a:pt x="21489" y="11124"/>
                  <a:pt x="21533" y="11105"/>
                  <a:pt x="21590" y="11081"/>
                </a:cubicBezTo>
              </a:path>
              <a:path w="8637" h="4383">
                <a:moveTo>
                  <a:pt x="21844" y="10858"/>
                </a:moveTo>
                <a:cubicBezTo>
                  <a:pt x="21844" y="10794"/>
                  <a:pt x="21859" y="10783"/>
                  <a:pt x="21876" y="10732"/>
                </a:cubicBezTo>
                <a:cubicBezTo>
                  <a:pt x="21907" y="10640"/>
                  <a:pt x="21931" y="10613"/>
                  <a:pt x="22003" y="10541"/>
                </a:cubicBezTo>
                <a:cubicBezTo>
                  <a:pt x="22040" y="10503"/>
                  <a:pt x="22077" y="10500"/>
                  <a:pt x="22130" y="10478"/>
                </a:cubicBezTo>
                <a:cubicBezTo>
                  <a:pt x="22171" y="10531"/>
                  <a:pt x="22189" y="10564"/>
                  <a:pt x="22193" y="10636"/>
                </a:cubicBezTo>
                <a:cubicBezTo>
                  <a:pt x="22199" y="10739"/>
                  <a:pt x="22152" y="10886"/>
                  <a:pt x="22130" y="10986"/>
                </a:cubicBezTo>
                <a:cubicBezTo>
                  <a:pt x="22104" y="11104"/>
                  <a:pt x="22024" y="11225"/>
                  <a:pt x="21971" y="11335"/>
                </a:cubicBezTo>
                <a:cubicBezTo>
                  <a:pt x="21950" y="11379"/>
                  <a:pt x="21920" y="11504"/>
                  <a:pt x="21876" y="11525"/>
                </a:cubicBezTo>
                <a:cubicBezTo>
                  <a:pt x="21865" y="11525"/>
                  <a:pt x="21855" y="11525"/>
                  <a:pt x="21844" y="11525"/>
                </a:cubicBezTo>
                <a:cubicBezTo>
                  <a:pt x="21884" y="11496"/>
                  <a:pt x="21922" y="11467"/>
                  <a:pt x="21971" y="11462"/>
                </a:cubicBezTo>
                <a:cubicBezTo>
                  <a:pt x="22057" y="11452"/>
                  <a:pt x="22096" y="11472"/>
                  <a:pt x="22162" y="11494"/>
                </a:cubicBezTo>
                <a:cubicBezTo>
                  <a:pt x="22220" y="11514"/>
                  <a:pt x="22263" y="11570"/>
                  <a:pt x="22320" y="11589"/>
                </a:cubicBezTo>
                <a:cubicBezTo>
                  <a:pt x="22362" y="11603"/>
                  <a:pt x="22391" y="11550"/>
                  <a:pt x="22416" y="11525"/>
                </a:cubicBezTo>
              </a:path>
              <a:path w="8637" h="4383">
                <a:moveTo>
                  <a:pt x="22638" y="10604"/>
                </a:moveTo>
                <a:cubicBezTo>
                  <a:pt x="22562" y="10604"/>
                  <a:pt x="22571" y="10620"/>
                  <a:pt x="22542" y="10700"/>
                </a:cubicBezTo>
                <a:cubicBezTo>
                  <a:pt x="22490" y="10844"/>
                  <a:pt x="22462" y="10993"/>
                  <a:pt x="22447" y="11144"/>
                </a:cubicBezTo>
                <a:cubicBezTo>
                  <a:pt x="22436" y="11253"/>
                  <a:pt x="22470" y="11396"/>
                  <a:pt x="22511" y="11494"/>
                </a:cubicBezTo>
                <a:cubicBezTo>
                  <a:pt x="22548" y="11582"/>
                  <a:pt x="22581" y="11613"/>
                  <a:pt x="22670" y="11620"/>
                </a:cubicBezTo>
                <a:cubicBezTo>
                  <a:pt x="22757" y="11627"/>
                  <a:pt x="22822" y="11559"/>
                  <a:pt x="22860" y="11494"/>
                </a:cubicBezTo>
                <a:cubicBezTo>
                  <a:pt x="22914" y="11402"/>
                  <a:pt x="22974" y="11250"/>
                  <a:pt x="22987" y="11144"/>
                </a:cubicBezTo>
                <a:cubicBezTo>
                  <a:pt x="23003" y="11017"/>
                  <a:pt x="22988" y="10875"/>
                  <a:pt x="22924" y="10763"/>
                </a:cubicBezTo>
                <a:cubicBezTo>
                  <a:pt x="22894" y="10710"/>
                  <a:pt x="22788" y="10672"/>
                  <a:pt x="22733" y="10668"/>
                </a:cubicBezTo>
                <a:cubicBezTo>
                  <a:pt x="22628" y="10661"/>
                  <a:pt x="22571" y="10685"/>
                  <a:pt x="22479" y="10732"/>
                </a:cubicBezTo>
              </a:path>
              <a:path w="8637" h="4383">
                <a:moveTo>
                  <a:pt x="16383" y="12224"/>
                </a:moveTo>
                <a:cubicBezTo>
                  <a:pt x="16351" y="12224"/>
                  <a:pt x="16341" y="12224"/>
                  <a:pt x="16320" y="12224"/>
                </a:cubicBezTo>
                <a:cubicBezTo>
                  <a:pt x="16395" y="12224"/>
                  <a:pt x="16441" y="12247"/>
                  <a:pt x="16510" y="12256"/>
                </a:cubicBezTo>
                <a:cubicBezTo>
                  <a:pt x="16615" y="12270"/>
                  <a:pt x="16701" y="12240"/>
                  <a:pt x="16796" y="12224"/>
                </a:cubicBezTo>
                <a:cubicBezTo>
                  <a:pt x="16904" y="12206"/>
                  <a:pt x="17001" y="12192"/>
                  <a:pt x="17113" y="12192"/>
                </a:cubicBezTo>
                <a:cubicBezTo>
                  <a:pt x="17247" y="12192"/>
                  <a:pt x="17363" y="12165"/>
                  <a:pt x="17494" y="12160"/>
                </a:cubicBezTo>
                <a:cubicBezTo>
                  <a:pt x="17605" y="12156"/>
                  <a:pt x="17739" y="12127"/>
                  <a:pt x="17844" y="12097"/>
                </a:cubicBezTo>
                <a:cubicBezTo>
                  <a:pt x="17937" y="12070"/>
                  <a:pt x="18031" y="12037"/>
                  <a:pt x="18129" y="12033"/>
                </a:cubicBezTo>
                <a:cubicBezTo>
                  <a:pt x="18207" y="12030"/>
                  <a:pt x="18225" y="12046"/>
                  <a:pt x="18256" y="12065"/>
                </a:cubicBezTo>
              </a:path>
              <a:path w="8637" h="4383">
                <a:moveTo>
                  <a:pt x="16669" y="12764"/>
                </a:moveTo>
                <a:cubicBezTo>
                  <a:pt x="16679" y="12764"/>
                  <a:pt x="16690" y="12764"/>
                  <a:pt x="16700" y="12764"/>
                </a:cubicBezTo>
                <a:cubicBezTo>
                  <a:pt x="16717" y="12712"/>
                  <a:pt x="16763" y="12732"/>
                  <a:pt x="16828" y="12732"/>
                </a:cubicBezTo>
                <a:cubicBezTo>
                  <a:pt x="16875" y="12732"/>
                  <a:pt x="16891" y="12700"/>
                  <a:pt x="16923" y="12668"/>
                </a:cubicBezTo>
              </a:path>
              <a:path w="8637" h="4383">
                <a:moveTo>
                  <a:pt x="17177" y="12541"/>
                </a:moveTo>
                <a:cubicBezTo>
                  <a:pt x="17185" y="12518"/>
                  <a:pt x="17233" y="12463"/>
                  <a:pt x="17272" y="12446"/>
                </a:cubicBezTo>
                <a:cubicBezTo>
                  <a:pt x="17319" y="12425"/>
                  <a:pt x="17355" y="12415"/>
                  <a:pt x="17399" y="12382"/>
                </a:cubicBezTo>
                <a:cubicBezTo>
                  <a:pt x="17452" y="12422"/>
                  <a:pt x="17479" y="12427"/>
                  <a:pt x="17494" y="12510"/>
                </a:cubicBezTo>
                <a:cubicBezTo>
                  <a:pt x="17514" y="12620"/>
                  <a:pt x="17476" y="12723"/>
                  <a:pt x="17462" y="12827"/>
                </a:cubicBezTo>
                <a:cubicBezTo>
                  <a:pt x="17451" y="12910"/>
                  <a:pt x="17420" y="12979"/>
                  <a:pt x="17399" y="13049"/>
                </a:cubicBezTo>
                <a:cubicBezTo>
                  <a:pt x="17382" y="13105"/>
                  <a:pt x="17348" y="13089"/>
                  <a:pt x="17367" y="13081"/>
                </a:cubicBezTo>
                <a:cubicBezTo>
                  <a:pt x="17401" y="13067"/>
                  <a:pt x="17461" y="13060"/>
                  <a:pt x="17494" y="13049"/>
                </a:cubicBezTo>
                <a:cubicBezTo>
                  <a:pt x="17540" y="13034"/>
                  <a:pt x="17612" y="13007"/>
                  <a:pt x="17653" y="12986"/>
                </a:cubicBezTo>
                <a:cubicBezTo>
                  <a:pt x="17718" y="12953"/>
                  <a:pt x="17780" y="12981"/>
                  <a:pt x="17844" y="12954"/>
                </a:cubicBezTo>
                <a:cubicBezTo>
                  <a:pt x="17888" y="12935"/>
                  <a:pt x="17962" y="12942"/>
                  <a:pt x="18002" y="12922"/>
                </a:cubicBezTo>
                <a:cubicBezTo>
                  <a:pt x="18013" y="12911"/>
                  <a:pt x="18023" y="12901"/>
                  <a:pt x="18034" y="12890"/>
                </a:cubicBezTo>
              </a:path>
              <a:path w="8637" h="4383">
                <a:moveTo>
                  <a:pt x="18923" y="12128"/>
                </a:moveTo>
                <a:cubicBezTo>
                  <a:pt x="18979" y="12117"/>
                  <a:pt x="19060" y="12113"/>
                  <a:pt x="19114" y="12097"/>
                </a:cubicBezTo>
                <a:cubicBezTo>
                  <a:pt x="19215" y="12067"/>
                  <a:pt x="19325" y="12039"/>
                  <a:pt x="19431" y="12033"/>
                </a:cubicBezTo>
                <a:cubicBezTo>
                  <a:pt x="19521" y="12028"/>
                  <a:pt x="19591" y="12002"/>
                  <a:pt x="19685" y="12002"/>
                </a:cubicBezTo>
                <a:cubicBezTo>
                  <a:pt x="19812" y="12002"/>
                  <a:pt x="19916" y="11990"/>
                  <a:pt x="20034" y="11970"/>
                </a:cubicBezTo>
                <a:cubicBezTo>
                  <a:pt x="20144" y="11952"/>
                  <a:pt x="20271" y="11970"/>
                  <a:pt x="20384" y="11970"/>
                </a:cubicBezTo>
              </a:path>
              <a:path w="8637" h="4383">
                <a:moveTo>
                  <a:pt x="19272" y="12510"/>
                </a:moveTo>
                <a:cubicBezTo>
                  <a:pt x="19251" y="12510"/>
                  <a:pt x="19230" y="12510"/>
                  <a:pt x="19209" y="12510"/>
                </a:cubicBezTo>
                <a:cubicBezTo>
                  <a:pt x="19225" y="12462"/>
                  <a:pt x="19247" y="12478"/>
                  <a:pt x="19304" y="12478"/>
                </a:cubicBezTo>
                <a:cubicBezTo>
                  <a:pt x="19355" y="12478"/>
                  <a:pt x="19374" y="12446"/>
                  <a:pt x="19431" y="12446"/>
                </a:cubicBezTo>
                <a:cubicBezTo>
                  <a:pt x="19472" y="12446"/>
                  <a:pt x="19488" y="12424"/>
                  <a:pt x="19526" y="12414"/>
                </a:cubicBezTo>
              </a:path>
              <a:path w="8637" h="4383">
                <a:moveTo>
                  <a:pt x="19844" y="12256"/>
                </a:moveTo>
                <a:cubicBezTo>
                  <a:pt x="19902" y="12256"/>
                  <a:pt x="19919" y="12230"/>
                  <a:pt x="19971" y="12224"/>
                </a:cubicBezTo>
                <a:cubicBezTo>
                  <a:pt x="20026" y="12218"/>
                  <a:pt x="20050" y="12176"/>
                  <a:pt x="20098" y="12160"/>
                </a:cubicBezTo>
                <a:cubicBezTo>
                  <a:pt x="20131" y="12149"/>
                  <a:pt x="20190" y="12160"/>
                  <a:pt x="20225" y="12160"/>
                </a:cubicBezTo>
                <a:cubicBezTo>
                  <a:pt x="20225" y="12257"/>
                  <a:pt x="20208" y="12325"/>
                  <a:pt x="20193" y="12414"/>
                </a:cubicBezTo>
                <a:cubicBezTo>
                  <a:pt x="20177" y="12507"/>
                  <a:pt x="20159" y="12613"/>
                  <a:pt x="20130" y="12700"/>
                </a:cubicBezTo>
                <a:cubicBezTo>
                  <a:pt x="20108" y="12767"/>
                  <a:pt x="19984" y="12809"/>
                  <a:pt x="20034" y="12859"/>
                </a:cubicBezTo>
                <a:cubicBezTo>
                  <a:pt x="20074" y="12899"/>
                  <a:pt x="20141" y="12815"/>
                  <a:pt x="20161" y="12795"/>
                </a:cubicBezTo>
                <a:cubicBezTo>
                  <a:pt x="20195" y="12761"/>
                  <a:pt x="20274" y="12735"/>
                  <a:pt x="20320" y="12732"/>
                </a:cubicBezTo>
                <a:cubicBezTo>
                  <a:pt x="20395" y="12727"/>
                  <a:pt x="20429" y="12700"/>
                  <a:pt x="20510" y="12700"/>
                </a:cubicBezTo>
                <a:cubicBezTo>
                  <a:pt x="20568" y="12700"/>
                  <a:pt x="20585" y="12704"/>
                  <a:pt x="20606" y="12668"/>
                </a:cubicBezTo>
              </a:path>
              <a:path w="8637" h="4383">
                <a:moveTo>
                  <a:pt x="21685" y="12033"/>
                </a:moveTo>
                <a:cubicBezTo>
                  <a:pt x="21764" y="12018"/>
                  <a:pt x="21823" y="12002"/>
                  <a:pt x="21908" y="12002"/>
                </a:cubicBezTo>
                <a:cubicBezTo>
                  <a:pt x="22041" y="12002"/>
                  <a:pt x="22165" y="11986"/>
                  <a:pt x="22288" y="11970"/>
                </a:cubicBezTo>
                <a:cubicBezTo>
                  <a:pt x="22401" y="11956"/>
                  <a:pt x="22526" y="11943"/>
                  <a:pt x="22638" y="11938"/>
                </a:cubicBezTo>
                <a:cubicBezTo>
                  <a:pt x="22742" y="11934"/>
                  <a:pt x="22818" y="11906"/>
                  <a:pt x="22924" y="11906"/>
                </a:cubicBezTo>
                <a:cubicBezTo>
                  <a:pt x="22981" y="11906"/>
                  <a:pt x="22998" y="11902"/>
                  <a:pt x="23019" y="11938"/>
                </a:cubicBezTo>
              </a:path>
              <a:path w="8637" h="4383">
                <a:moveTo>
                  <a:pt x="21876" y="12510"/>
                </a:moveTo>
                <a:cubicBezTo>
                  <a:pt x="21865" y="12510"/>
                  <a:pt x="21855" y="12510"/>
                  <a:pt x="21844" y="12510"/>
                </a:cubicBezTo>
                <a:cubicBezTo>
                  <a:pt x="21894" y="12522"/>
                  <a:pt x="21915" y="12541"/>
                  <a:pt x="21971" y="12541"/>
                </a:cubicBezTo>
                <a:cubicBezTo>
                  <a:pt x="22007" y="12541"/>
                  <a:pt x="22020" y="12538"/>
                  <a:pt x="22034" y="12510"/>
                </a:cubicBezTo>
              </a:path>
              <a:path w="8637" h="4383">
                <a:moveTo>
                  <a:pt x="22320" y="12287"/>
                </a:moveTo>
                <a:cubicBezTo>
                  <a:pt x="22364" y="12273"/>
                  <a:pt x="22360" y="12243"/>
                  <a:pt x="22416" y="12224"/>
                </a:cubicBezTo>
                <a:cubicBezTo>
                  <a:pt x="22454" y="12211"/>
                  <a:pt x="22505" y="12196"/>
                  <a:pt x="22542" y="12192"/>
                </a:cubicBezTo>
                <a:cubicBezTo>
                  <a:pt x="22553" y="12192"/>
                  <a:pt x="22563" y="12192"/>
                  <a:pt x="22574" y="12192"/>
                </a:cubicBezTo>
                <a:cubicBezTo>
                  <a:pt x="22574" y="12253"/>
                  <a:pt x="22552" y="12272"/>
                  <a:pt x="22542" y="12319"/>
                </a:cubicBezTo>
                <a:cubicBezTo>
                  <a:pt x="22528" y="12384"/>
                  <a:pt x="22507" y="12480"/>
                  <a:pt x="22479" y="12541"/>
                </a:cubicBezTo>
                <a:cubicBezTo>
                  <a:pt x="22457" y="12589"/>
                  <a:pt x="22395" y="12651"/>
                  <a:pt x="22384" y="12700"/>
                </a:cubicBezTo>
                <a:cubicBezTo>
                  <a:pt x="22370" y="12767"/>
                  <a:pt x="22357" y="12825"/>
                  <a:pt x="22352" y="12890"/>
                </a:cubicBezTo>
                <a:cubicBezTo>
                  <a:pt x="22347" y="12952"/>
                  <a:pt x="22338" y="12966"/>
                  <a:pt x="22320" y="13018"/>
                </a:cubicBezTo>
                <a:cubicBezTo>
                  <a:pt x="22307" y="13058"/>
                  <a:pt x="22314" y="13005"/>
                  <a:pt x="22352" y="12986"/>
                </a:cubicBezTo>
                <a:cubicBezTo>
                  <a:pt x="22436" y="12944"/>
                  <a:pt x="22631" y="12995"/>
                  <a:pt x="22701" y="13018"/>
                </a:cubicBezTo>
                <a:cubicBezTo>
                  <a:pt x="22741" y="13032"/>
                  <a:pt x="22840" y="13027"/>
                  <a:pt x="22860" y="12986"/>
                </a:cubicBezTo>
                <a:cubicBezTo>
                  <a:pt x="22860" y="12950"/>
                  <a:pt x="22857" y="12936"/>
                  <a:pt x="22828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nk 11"/>
          <p:cNvSpPr/>
          <p:nvPr/>
        </p:nvSpPr>
        <p:spPr>
          <a:xfrm>
            <a:off x="6321600" y="4835520"/>
            <a:ext cx="1839600" cy="914400"/>
          </a:xfrm>
          <a:custGeom>
            <a:avLst/>
            <a:gdLst/>
            <a:ahLst/>
            <a:rect l="l" t="t" r="r" b="b"/>
            <a:pathLst>
              <a:path w="5113" h="2541">
                <a:moveTo>
                  <a:pt x="17653" y="13906"/>
                </a:moveTo>
                <a:cubicBezTo>
                  <a:pt x="17642" y="13906"/>
                  <a:pt x="17632" y="13906"/>
                  <a:pt x="17621" y="13906"/>
                </a:cubicBezTo>
              </a:path>
              <a:path w="5113" h="2541">
                <a:moveTo>
                  <a:pt x="17653" y="13906"/>
                </a:moveTo>
                <a:lnTo>
                  <a:pt x="17653" y="13906"/>
                </a:lnTo>
              </a:path>
              <a:path w="5113" h="2541">
                <a:moveTo>
                  <a:pt x="17590" y="13906"/>
                </a:moveTo>
                <a:cubicBezTo>
                  <a:pt x="17590" y="13990"/>
                  <a:pt x="17571" y="14051"/>
                  <a:pt x="17558" y="14129"/>
                </a:cubicBezTo>
                <a:cubicBezTo>
                  <a:pt x="17523" y="14340"/>
                  <a:pt x="17556" y="14596"/>
                  <a:pt x="17590" y="14796"/>
                </a:cubicBezTo>
                <a:cubicBezTo>
                  <a:pt x="17602" y="14866"/>
                  <a:pt x="17585" y="14928"/>
                  <a:pt x="17621" y="14986"/>
                </a:cubicBezTo>
                <a:cubicBezTo>
                  <a:pt x="17669" y="15064"/>
                  <a:pt x="17689" y="15045"/>
                  <a:pt x="17748" y="15018"/>
                </a:cubicBezTo>
                <a:cubicBezTo>
                  <a:pt x="17806" y="14991"/>
                  <a:pt x="17838" y="14954"/>
                  <a:pt x="17875" y="14891"/>
                </a:cubicBezTo>
                <a:cubicBezTo>
                  <a:pt x="17917" y="14821"/>
                  <a:pt x="17953" y="14685"/>
                  <a:pt x="17970" y="14605"/>
                </a:cubicBezTo>
                <a:cubicBezTo>
                  <a:pt x="17990" y="14510"/>
                  <a:pt x="18002" y="14418"/>
                  <a:pt x="18002" y="14319"/>
                </a:cubicBezTo>
                <a:cubicBezTo>
                  <a:pt x="18002" y="14254"/>
                  <a:pt x="18025" y="14223"/>
                  <a:pt x="18034" y="14160"/>
                </a:cubicBezTo>
                <a:cubicBezTo>
                  <a:pt x="18002" y="14160"/>
                  <a:pt x="17991" y="14160"/>
                  <a:pt x="18034" y="14160"/>
                </a:cubicBezTo>
                <a:cubicBezTo>
                  <a:pt x="17999" y="14229"/>
                  <a:pt x="18024" y="14153"/>
                  <a:pt x="18034" y="14224"/>
                </a:cubicBezTo>
                <a:cubicBezTo>
                  <a:pt x="18048" y="14319"/>
                  <a:pt x="18052" y="14416"/>
                  <a:pt x="18066" y="14510"/>
                </a:cubicBezTo>
                <a:cubicBezTo>
                  <a:pt x="18082" y="14624"/>
                  <a:pt x="18093" y="14745"/>
                  <a:pt x="18098" y="14859"/>
                </a:cubicBezTo>
                <a:cubicBezTo>
                  <a:pt x="18104" y="14989"/>
                  <a:pt x="18129" y="15106"/>
                  <a:pt x="18129" y="15240"/>
                </a:cubicBezTo>
                <a:cubicBezTo>
                  <a:pt x="18129" y="15405"/>
                  <a:pt x="18123" y="15560"/>
                  <a:pt x="18098" y="15716"/>
                </a:cubicBezTo>
                <a:cubicBezTo>
                  <a:pt x="18083" y="15808"/>
                  <a:pt x="18068" y="15841"/>
                  <a:pt x="18002" y="15907"/>
                </a:cubicBezTo>
                <a:cubicBezTo>
                  <a:pt x="17961" y="15948"/>
                  <a:pt x="17949" y="15966"/>
                  <a:pt x="17875" y="15970"/>
                </a:cubicBezTo>
                <a:cubicBezTo>
                  <a:pt x="17806" y="15974"/>
                  <a:pt x="17810" y="15962"/>
                  <a:pt x="17780" y="15938"/>
                </a:cubicBezTo>
                <a:cubicBezTo>
                  <a:pt x="17711" y="15884"/>
                  <a:pt x="17721" y="15862"/>
                  <a:pt x="17716" y="15780"/>
                </a:cubicBezTo>
                <a:cubicBezTo>
                  <a:pt x="17711" y="15693"/>
                  <a:pt x="17735" y="15638"/>
                  <a:pt x="17748" y="15558"/>
                </a:cubicBezTo>
                <a:cubicBezTo>
                  <a:pt x="17761" y="15479"/>
                  <a:pt x="17769" y="15473"/>
                  <a:pt x="17812" y="15399"/>
                </a:cubicBezTo>
              </a:path>
              <a:path w="5113" h="2541">
                <a:moveTo>
                  <a:pt x="18415" y="14542"/>
                </a:moveTo>
                <a:cubicBezTo>
                  <a:pt x="18426" y="14542"/>
                  <a:pt x="18436" y="14542"/>
                  <a:pt x="18447" y="14542"/>
                </a:cubicBezTo>
                <a:cubicBezTo>
                  <a:pt x="18464" y="14488"/>
                  <a:pt x="18509" y="14510"/>
                  <a:pt x="18574" y="14510"/>
                </a:cubicBezTo>
                <a:cubicBezTo>
                  <a:pt x="18664" y="14510"/>
                  <a:pt x="18721" y="14501"/>
                  <a:pt x="18796" y="14478"/>
                </a:cubicBezTo>
                <a:cubicBezTo>
                  <a:pt x="18828" y="14478"/>
                  <a:pt x="18839" y="14478"/>
                  <a:pt x="18860" y="14478"/>
                </a:cubicBezTo>
              </a:path>
              <a:path w="5113" h="2541">
                <a:moveTo>
                  <a:pt x="18542" y="15018"/>
                </a:moveTo>
                <a:cubicBezTo>
                  <a:pt x="18531" y="15018"/>
                  <a:pt x="18521" y="15018"/>
                  <a:pt x="18510" y="15018"/>
                </a:cubicBezTo>
                <a:cubicBezTo>
                  <a:pt x="18667" y="15018"/>
                  <a:pt x="18841" y="14995"/>
                  <a:pt x="18986" y="15050"/>
                </a:cubicBezTo>
              </a:path>
              <a:path w="5113" h="2541">
                <a:moveTo>
                  <a:pt x="19304" y="13494"/>
                </a:moveTo>
                <a:cubicBezTo>
                  <a:pt x="19304" y="13759"/>
                  <a:pt x="19304" y="14023"/>
                  <a:pt x="19304" y="14288"/>
                </a:cubicBezTo>
              </a:path>
              <a:path w="5113" h="2541">
                <a:moveTo>
                  <a:pt x="19717" y="13430"/>
                </a:moveTo>
                <a:cubicBezTo>
                  <a:pt x="19773" y="13430"/>
                  <a:pt x="19686" y="13432"/>
                  <a:pt x="19653" y="13462"/>
                </a:cubicBezTo>
                <a:cubicBezTo>
                  <a:pt x="19624" y="13488"/>
                  <a:pt x="19566" y="13510"/>
                  <a:pt x="19558" y="13526"/>
                </a:cubicBezTo>
                <a:cubicBezTo>
                  <a:pt x="19541" y="13560"/>
                  <a:pt x="19549" y="13581"/>
                  <a:pt x="19526" y="13621"/>
                </a:cubicBezTo>
                <a:cubicBezTo>
                  <a:pt x="19501" y="13665"/>
                  <a:pt x="19499" y="13703"/>
                  <a:pt x="19463" y="13716"/>
                </a:cubicBezTo>
                <a:cubicBezTo>
                  <a:pt x="19464" y="13720"/>
                  <a:pt x="19490" y="13808"/>
                  <a:pt x="19494" y="13811"/>
                </a:cubicBezTo>
                <a:cubicBezTo>
                  <a:pt x="19533" y="13841"/>
                  <a:pt x="19540" y="13813"/>
                  <a:pt x="19494" y="13875"/>
                </a:cubicBezTo>
                <a:cubicBezTo>
                  <a:pt x="19510" y="13827"/>
                  <a:pt x="19567" y="13845"/>
                  <a:pt x="19590" y="13811"/>
                </a:cubicBezTo>
                <a:cubicBezTo>
                  <a:pt x="19590" y="13780"/>
                  <a:pt x="19590" y="13769"/>
                  <a:pt x="19622" y="13780"/>
                </a:cubicBezTo>
                <a:cubicBezTo>
                  <a:pt x="19654" y="13804"/>
                  <a:pt x="19699" y="13863"/>
                  <a:pt x="19717" y="13875"/>
                </a:cubicBezTo>
                <a:cubicBezTo>
                  <a:pt x="19738" y="13889"/>
                  <a:pt x="19774" y="13953"/>
                  <a:pt x="19748" y="14002"/>
                </a:cubicBezTo>
                <a:cubicBezTo>
                  <a:pt x="19714" y="14066"/>
                  <a:pt x="19709" y="14104"/>
                  <a:pt x="19653" y="14160"/>
                </a:cubicBezTo>
                <a:cubicBezTo>
                  <a:pt x="19616" y="14197"/>
                  <a:pt x="19572" y="14241"/>
                  <a:pt x="19526" y="14256"/>
                </a:cubicBezTo>
                <a:cubicBezTo>
                  <a:pt x="19460" y="14278"/>
                  <a:pt x="19463" y="14242"/>
                  <a:pt x="19463" y="14192"/>
                </a:cubicBezTo>
              </a:path>
              <a:path w="5113" h="2541">
                <a:moveTo>
                  <a:pt x="19050" y="14700"/>
                </a:moveTo>
                <a:cubicBezTo>
                  <a:pt x="18994" y="14700"/>
                  <a:pt x="19057" y="14679"/>
                  <a:pt x="19082" y="14668"/>
                </a:cubicBezTo>
                <a:cubicBezTo>
                  <a:pt x="19157" y="14634"/>
                  <a:pt x="19228" y="14610"/>
                  <a:pt x="19304" y="14573"/>
                </a:cubicBezTo>
                <a:cubicBezTo>
                  <a:pt x="19390" y="14530"/>
                  <a:pt x="19527" y="14515"/>
                  <a:pt x="19622" y="14510"/>
                </a:cubicBezTo>
                <a:cubicBezTo>
                  <a:pt x="19699" y="14506"/>
                  <a:pt x="19754" y="14499"/>
                  <a:pt x="19812" y="14542"/>
                </a:cubicBezTo>
              </a:path>
              <a:path w="5113" h="2541">
                <a:moveTo>
                  <a:pt x="19304" y="14859"/>
                </a:moveTo>
                <a:cubicBezTo>
                  <a:pt x="19272" y="14859"/>
                  <a:pt x="19261" y="14859"/>
                  <a:pt x="19240" y="14859"/>
                </a:cubicBezTo>
                <a:cubicBezTo>
                  <a:pt x="19248" y="14836"/>
                  <a:pt x="19296" y="14781"/>
                  <a:pt x="19336" y="14764"/>
                </a:cubicBezTo>
                <a:cubicBezTo>
                  <a:pt x="19362" y="14752"/>
                  <a:pt x="19427" y="14711"/>
                  <a:pt x="19463" y="14732"/>
                </a:cubicBezTo>
                <a:cubicBezTo>
                  <a:pt x="19513" y="14760"/>
                  <a:pt x="19494" y="14844"/>
                  <a:pt x="19494" y="14891"/>
                </a:cubicBezTo>
                <a:cubicBezTo>
                  <a:pt x="19494" y="14983"/>
                  <a:pt x="19455" y="15121"/>
                  <a:pt x="19431" y="15208"/>
                </a:cubicBezTo>
                <a:cubicBezTo>
                  <a:pt x="19411" y="15282"/>
                  <a:pt x="19331" y="15332"/>
                  <a:pt x="19304" y="15399"/>
                </a:cubicBezTo>
                <a:cubicBezTo>
                  <a:pt x="19274" y="15472"/>
                  <a:pt x="19282" y="15410"/>
                  <a:pt x="19304" y="15399"/>
                </a:cubicBezTo>
                <a:cubicBezTo>
                  <a:pt x="19337" y="15383"/>
                  <a:pt x="19375" y="15370"/>
                  <a:pt x="19399" y="15367"/>
                </a:cubicBezTo>
                <a:cubicBezTo>
                  <a:pt x="19415" y="15365"/>
                  <a:pt x="19508" y="15389"/>
                  <a:pt x="19526" y="15399"/>
                </a:cubicBezTo>
                <a:cubicBezTo>
                  <a:pt x="19572" y="15424"/>
                  <a:pt x="19611" y="15485"/>
                  <a:pt x="19653" y="15430"/>
                </a:cubicBezTo>
                <a:cubicBezTo>
                  <a:pt x="19664" y="15409"/>
                  <a:pt x="19674" y="15388"/>
                  <a:pt x="19685" y="15367"/>
                </a:cubicBezTo>
              </a:path>
              <a:path w="5113" h="2541">
                <a:moveTo>
                  <a:pt x="19844" y="14351"/>
                </a:moveTo>
                <a:cubicBezTo>
                  <a:pt x="19890" y="14363"/>
                  <a:pt x="19942" y="14400"/>
                  <a:pt x="19971" y="14446"/>
                </a:cubicBezTo>
                <a:cubicBezTo>
                  <a:pt x="20031" y="14540"/>
                  <a:pt x="20069" y="14639"/>
                  <a:pt x="20130" y="14732"/>
                </a:cubicBezTo>
                <a:cubicBezTo>
                  <a:pt x="20207" y="14849"/>
                  <a:pt x="20240" y="14998"/>
                  <a:pt x="20320" y="15113"/>
                </a:cubicBezTo>
                <a:cubicBezTo>
                  <a:pt x="20351" y="15157"/>
                  <a:pt x="20376" y="15188"/>
                  <a:pt x="20415" y="15208"/>
                </a:cubicBezTo>
              </a:path>
              <a:path w="5113" h="2541">
                <a:moveTo>
                  <a:pt x="20415" y="14097"/>
                </a:moveTo>
                <a:cubicBezTo>
                  <a:pt x="20415" y="14012"/>
                  <a:pt x="20415" y="14145"/>
                  <a:pt x="20415" y="14160"/>
                </a:cubicBezTo>
                <a:cubicBezTo>
                  <a:pt x="20415" y="14314"/>
                  <a:pt x="20386" y="14424"/>
                  <a:pt x="20352" y="14573"/>
                </a:cubicBezTo>
                <a:cubicBezTo>
                  <a:pt x="20310" y="14757"/>
                  <a:pt x="20243" y="14958"/>
                  <a:pt x="20225" y="15145"/>
                </a:cubicBezTo>
                <a:cubicBezTo>
                  <a:pt x="20211" y="15293"/>
                  <a:pt x="20205" y="15447"/>
                  <a:pt x="20161" y="15589"/>
                </a:cubicBezTo>
                <a:cubicBezTo>
                  <a:pt x="20151" y="15610"/>
                  <a:pt x="20140" y="15632"/>
                  <a:pt x="20130" y="15653"/>
                </a:cubicBezTo>
              </a:path>
              <a:path w="5113" h="2541">
                <a:moveTo>
                  <a:pt x="20796" y="14478"/>
                </a:moveTo>
                <a:cubicBezTo>
                  <a:pt x="20818" y="14413"/>
                  <a:pt x="20861" y="14444"/>
                  <a:pt x="20923" y="14414"/>
                </a:cubicBezTo>
                <a:cubicBezTo>
                  <a:pt x="20988" y="14382"/>
                  <a:pt x="21032" y="14356"/>
                  <a:pt x="21114" y="14351"/>
                </a:cubicBezTo>
                <a:cubicBezTo>
                  <a:pt x="21179" y="14347"/>
                  <a:pt x="21308" y="14341"/>
                  <a:pt x="21368" y="14319"/>
                </a:cubicBezTo>
                <a:cubicBezTo>
                  <a:pt x="21415" y="14301"/>
                  <a:pt x="21435" y="14288"/>
                  <a:pt x="21495" y="14288"/>
                </a:cubicBezTo>
              </a:path>
              <a:path w="5113" h="2541">
                <a:moveTo>
                  <a:pt x="21622" y="13557"/>
                </a:moveTo>
                <a:cubicBezTo>
                  <a:pt x="21633" y="13547"/>
                  <a:pt x="21643" y="13536"/>
                  <a:pt x="21654" y="13526"/>
                </a:cubicBezTo>
                <a:cubicBezTo>
                  <a:pt x="21694" y="13553"/>
                  <a:pt x="21714" y="13643"/>
                  <a:pt x="21717" y="13716"/>
                </a:cubicBezTo>
                <a:cubicBezTo>
                  <a:pt x="21723" y="13881"/>
                  <a:pt x="21690" y="14029"/>
                  <a:pt x="21685" y="14192"/>
                </a:cubicBezTo>
                <a:cubicBezTo>
                  <a:pt x="21680" y="14354"/>
                  <a:pt x="21659" y="14508"/>
                  <a:pt x="21654" y="14668"/>
                </a:cubicBezTo>
                <a:cubicBezTo>
                  <a:pt x="21652" y="14733"/>
                  <a:pt x="21654" y="15056"/>
                  <a:pt x="21654" y="15018"/>
                </a:cubicBezTo>
                <a:cubicBezTo>
                  <a:pt x="21654" y="14997"/>
                  <a:pt x="21654" y="14975"/>
                  <a:pt x="21654" y="14954"/>
                </a:cubicBezTo>
              </a:path>
              <a:path w="5113" h="2541">
                <a:moveTo>
                  <a:pt x="22003" y="13557"/>
                </a:moveTo>
                <a:cubicBezTo>
                  <a:pt x="22022" y="13636"/>
                  <a:pt x="22034" y="13684"/>
                  <a:pt x="22034" y="13780"/>
                </a:cubicBezTo>
                <a:cubicBezTo>
                  <a:pt x="22034" y="13946"/>
                  <a:pt x="22024" y="14096"/>
                  <a:pt x="22034" y="14256"/>
                </a:cubicBezTo>
                <a:cubicBezTo>
                  <a:pt x="22045" y="14429"/>
                  <a:pt x="22047" y="14564"/>
                  <a:pt x="22098" y="14732"/>
                </a:cubicBezTo>
                <a:cubicBezTo>
                  <a:pt x="22131" y="14842"/>
                  <a:pt x="22160" y="14928"/>
                  <a:pt x="22257" y="14986"/>
                </a:cubicBezTo>
                <a:cubicBezTo>
                  <a:pt x="22348" y="15040"/>
                  <a:pt x="22401" y="15013"/>
                  <a:pt x="22479" y="14954"/>
                </a:cubicBezTo>
                <a:cubicBezTo>
                  <a:pt x="22571" y="14884"/>
                  <a:pt x="22601" y="14805"/>
                  <a:pt x="22638" y="14700"/>
                </a:cubicBezTo>
                <a:cubicBezTo>
                  <a:pt x="22685" y="14566"/>
                  <a:pt x="22670" y="14429"/>
                  <a:pt x="22670" y="14288"/>
                </a:cubicBezTo>
                <a:cubicBezTo>
                  <a:pt x="22670" y="14162"/>
                  <a:pt x="22652" y="14025"/>
                  <a:pt x="22606" y="13906"/>
                </a:cubicBezTo>
                <a:cubicBezTo>
                  <a:pt x="22572" y="13817"/>
                  <a:pt x="22526" y="13764"/>
                  <a:pt x="22447" y="13716"/>
                </a:cubicBezTo>
                <a:cubicBezTo>
                  <a:pt x="22394" y="13684"/>
                  <a:pt x="22286" y="13660"/>
                  <a:pt x="22225" y="13684"/>
                </a:cubicBezTo>
                <a:cubicBezTo>
                  <a:pt x="22159" y="13710"/>
                  <a:pt x="22102" y="13784"/>
                  <a:pt x="22066" y="13843"/>
                </a:cubicBezTo>
                <a:cubicBezTo>
                  <a:pt x="22055" y="13864"/>
                  <a:pt x="22045" y="13885"/>
                  <a:pt x="22034" y="13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nk 12"/>
          <p:cNvSpPr/>
          <p:nvPr/>
        </p:nvSpPr>
        <p:spPr>
          <a:xfrm>
            <a:off x="7040520" y="5840280"/>
            <a:ext cx="606600" cy="481320"/>
          </a:xfrm>
          <a:custGeom>
            <a:avLst/>
            <a:gdLst/>
            <a:ahLst/>
            <a:rect l="l" t="t" r="r" b="b"/>
            <a:pathLst>
              <a:path w="1684" h="1335">
                <a:moveTo>
                  <a:pt x="19558" y="16320"/>
                </a:moveTo>
                <a:cubicBezTo>
                  <a:pt x="19566" y="16372"/>
                  <a:pt x="19582" y="16398"/>
                  <a:pt x="19590" y="16446"/>
                </a:cubicBezTo>
                <a:cubicBezTo>
                  <a:pt x="19609" y="16561"/>
                  <a:pt x="19611" y="16713"/>
                  <a:pt x="19622" y="16828"/>
                </a:cubicBezTo>
                <a:cubicBezTo>
                  <a:pt x="19638" y="16996"/>
                  <a:pt x="19676" y="17322"/>
                  <a:pt x="19590" y="17462"/>
                </a:cubicBezTo>
                <a:cubicBezTo>
                  <a:pt x="19590" y="17318"/>
                  <a:pt x="19574" y="17188"/>
                  <a:pt x="19558" y="17050"/>
                </a:cubicBezTo>
                <a:cubicBezTo>
                  <a:pt x="19547" y="16959"/>
                  <a:pt x="19573" y="16793"/>
                  <a:pt x="19590" y="16700"/>
                </a:cubicBezTo>
                <a:cubicBezTo>
                  <a:pt x="19608" y="16606"/>
                  <a:pt x="19629" y="16496"/>
                  <a:pt x="19685" y="16415"/>
                </a:cubicBezTo>
                <a:cubicBezTo>
                  <a:pt x="19709" y="16381"/>
                  <a:pt x="19750" y="16349"/>
                  <a:pt x="19780" y="16320"/>
                </a:cubicBezTo>
                <a:cubicBezTo>
                  <a:pt x="19873" y="16333"/>
                  <a:pt x="19846" y="16335"/>
                  <a:pt x="19907" y="16415"/>
                </a:cubicBezTo>
                <a:cubicBezTo>
                  <a:pt x="19962" y="16488"/>
                  <a:pt x="19939" y="16606"/>
                  <a:pt x="19939" y="16700"/>
                </a:cubicBezTo>
                <a:cubicBezTo>
                  <a:pt x="19939" y="16859"/>
                  <a:pt x="19939" y="17018"/>
                  <a:pt x="19939" y="17177"/>
                </a:cubicBezTo>
                <a:cubicBezTo>
                  <a:pt x="19939" y="17125"/>
                  <a:pt x="19928" y="17133"/>
                  <a:pt x="19939" y="17082"/>
                </a:cubicBezTo>
                <a:cubicBezTo>
                  <a:pt x="19970" y="16940"/>
                  <a:pt x="19971" y="16817"/>
                  <a:pt x="19971" y="16669"/>
                </a:cubicBezTo>
                <a:cubicBezTo>
                  <a:pt x="19971" y="16564"/>
                  <a:pt x="20002" y="16447"/>
                  <a:pt x="20034" y="16351"/>
                </a:cubicBezTo>
                <a:cubicBezTo>
                  <a:pt x="20061" y="16271"/>
                  <a:pt x="20104" y="16257"/>
                  <a:pt x="20161" y="16224"/>
                </a:cubicBezTo>
                <a:cubicBezTo>
                  <a:pt x="20240" y="16235"/>
                  <a:pt x="20251" y="16231"/>
                  <a:pt x="20288" y="16320"/>
                </a:cubicBezTo>
                <a:cubicBezTo>
                  <a:pt x="20337" y="16440"/>
                  <a:pt x="20332" y="16574"/>
                  <a:pt x="20352" y="16700"/>
                </a:cubicBezTo>
                <a:cubicBezTo>
                  <a:pt x="20379" y="16868"/>
                  <a:pt x="20399" y="17040"/>
                  <a:pt x="20415" y="17208"/>
                </a:cubicBezTo>
                <a:cubicBezTo>
                  <a:pt x="20424" y="17299"/>
                  <a:pt x="20408" y="17411"/>
                  <a:pt x="20447" y="17494"/>
                </a:cubicBezTo>
                <a:cubicBezTo>
                  <a:pt x="20479" y="17526"/>
                  <a:pt x="20489" y="17536"/>
                  <a:pt x="20510" y="17558"/>
                </a:cubicBezTo>
                <a:cubicBezTo>
                  <a:pt x="20556" y="17532"/>
                  <a:pt x="20593" y="17507"/>
                  <a:pt x="20638" y="17462"/>
                </a:cubicBezTo>
                <a:cubicBezTo>
                  <a:pt x="20698" y="17402"/>
                  <a:pt x="20727" y="17315"/>
                  <a:pt x="20764" y="17240"/>
                </a:cubicBezTo>
              </a:path>
              <a:path w="1684" h="1335">
                <a:moveTo>
                  <a:pt x="20764" y="16446"/>
                </a:moveTo>
                <a:cubicBezTo>
                  <a:pt x="20840" y="16446"/>
                  <a:pt x="20891" y="16434"/>
                  <a:pt x="20955" y="16415"/>
                </a:cubicBezTo>
                <a:cubicBezTo>
                  <a:pt x="20999" y="16402"/>
                  <a:pt x="21068" y="16415"/>
                  <a:pt x="21114" y="16415"/>
                </a:cubicBezTo>
              </a:path>
              <a:path w="1684" h="1335">
                <a:moveTo>
                  <a:pt x="20892" y="16986"/>
                </a:moveTo>
                <a:cubicBezTo>
                  <a:pt x="20892" y="16997"/>
                  <a:pt x="20892" y="17007"/>
                  <a:pt x="20892" y="17018"/>
                </a:cubicBezTo>
                <a:cubicBezTo>
                  <a:pt x="20950" y="17018"/>
                  <a:pt x="20967" y="17046"/>
                  <a:pt x="21018" y="17050"/>
                </a:cubicBezTo>
                <a:cubicBezTo>
                  <a:pt x="21099" y="17056"/>
                  <a:pt x="21131" y="17006"/>
                  <a:pt x="21209" y="16986"/>
                </a:cubicBezTo>
                <a:cubicBezTo>
                  <a:pt x="21220" y="16986"/>
                  <a:pt x="21230" y="16986"/>
                  <a:pt x="21241" y="16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nk 13"/>
          <p:cNvSpPr/>
          <p:nvPr/>
        </p:nvSpPr>
        <p:spPr>
          <a:xfrm>
            <a:off x="7783560" y="5543640"/>
            <a:ext cx="527040" cy="788760"/>
          </a:xfrm>
          <a:custGeom>
            <a:avLst/>
            <a:gdLst/>
            <a:ahLst/>
            <a:rect l="l" t="t" r="r" b="b"/>
            <a:pathLst>
              <a:path w="1461" h="2192">
                <a:moveTo>
                  <a:pt x="21622" y="15780"/>
                </a:moveTo>
                <a:cubicBezTo>
                  <a:pt x="21622" y="15886"/>
                  <a:pt x="21638" y="15968"/>
                  <a:pt x="21654" y="16066"/>
                </a:cubicBezTo>
                <a:cubicBezTo>
                  <a:pt x="21677" y="16205"/>
                  <a:pt x="21654" y="16367"/>
                  <a:pt x="21654" y="16510"/>
                </a:cubicBezTo>
              </a:path>
              <a:path w="1461" h="2192">
                <a:moveTo>
                  <a:pt x="22066" y="15558"/>
                </a:moveTo>
                <a:cubicBezTo>
                  <a:pt x="22117" y="15541"/>
                  <a:pt x="22079" y="15543"/>
                  <a:pt x="22130" y="15526"/>
                </a:cubicBezTo>
                <a:cubicBezTo>
                  <a:pt x="22115" y="15571"/>
                  <a:pt x="22097" y="15567"/>
                  <a:pt x="22066" y="15621"/>
                </a:cubicBezTo>
                <a:cubicBezTo>
                  <a:pt x="22036" y="15674"/>
                  <a:pt x="21962" y="15728"/>
                  <a:pt x="21939" y="15780"/>
                </a:cubicBezTo>
                <a:cubicBezTo>
                  <a:pt x="21923" y="15816"/>
                  <a:pt x="21887" y="15821"/>
                  <a:pt x="21876" y="15843"/>
                </a:cubicBezTo>
                <a:cubicBezTo>
                  <a:pt x="21864" y="15868"/>
                  <a:pt x="21908" y="15930"/>
                  <a:pt x="21908" y="15970"/>
                </a:cubicBezTo>
                <a:cubicBezTo>
                  <a:pt x="21908" y="16027"/>
                  <a:pt x="21889" y="16047"/>
                  <a:pt x="21876" y="16097"/>
                </a:cubicBezTo>
                <a:cubicBezTo>
                  <a:pt x="21920" y="16040"/>
                  <a:pt x="21912" y="15996"/>
                  <a:pt x="21971" y="15938"/>
                </a:cubicBezTo>
                <a:cubicBezTo>
                  <a:pt x="22004" y="15906"/>
                  <a:pt x="22072" y="15899"/>
                  <a:pt x="22098" y="15938"/>
                </a:cubicBezTo>
                <a:cubicBezTo>
                  <a:pt x="22110" y="15955"/>
                  <a:pt x="22157" y="16045"/>
                  <a:pt x="22162" y="16066"/>
                </a:cubicBezTo>
                <a:cubicBezTo>
                  <a:pt x="22177" y="16138"/>
                  <a:pt x="22155" y="16226"/>
                  <a:pt x="22130" y="16288"/>
                </a:cubicBezTo>
                <a:cubicBezTo>
                  <a:pt x="22111" y="16335"/>
                  <a:pt x="22048" y="16453"/>
                  <a:pt x="22003" y="16478"/>
                </a:cubicBezTo>
                <a:cubicBezTo>
                  <a:pt x="21928" y="16520"/>
                  <a:pt x="21911" y="16429"/>
                  <a:pt x="21908" y="16383"/>
                </a:cubicBezTo>
                <a:cubicBezTo>
                  <a:pt x="21908" y="16320"/>
                  <a:pt x="21908" y="16298"/>
                  <a:pt x="21908" y="16256"/>
                </a:cubicBezTo>
              </a:path>
              <a:path w="1461" h="2192">
                <a:moveTo>
                  <a:pt x="22352" y="15399"/>
                </a:moveTo>
                <a:cubicBezTo>
                  <a:pt x="22368" y="15422"/>
                  <a:pt x="22408" y="15463"/>
                  <a:pt x="22416" y="15526"/>
                </a:cubicBezTo>
                <a:cubicBezTo>
                  <a:pt x="22431" y="15640"/>
                  <a:pt x="22401" y="15823"/>
                  <a:pt x="22384" y="15938"/>
                </a:cubicBezTo>
                <a:cubicBezTo>
                  <a:pt x="22355" y="16130"/>
                  <a:pt x="22374" y="16318"/>
                  <a:pt x="22352" y="16510"/>
                </a:cubicBezTo>
                <a:cubicBezTo>
                  <a:pt x="22328" y="16724"/>
                  <a:pt x="22320" y="16928"/>
                  <a:pt x="22320" y="17145"/>
                </a:cubicBezTo>
                <a:cubicBezTo>
                  <a:pt x="22320" y="17278"/>
                  <a:pt x="22285" y="17479"/>
                  <a:pt x="22352" y="17590"/>
                </a:cubicBezTo>
              </a:path>
              <a:path w="1461" h="2192">
                <a:moveTo>
                  <a:pt x="22511" y="16510"/>
                </a:moveTo>
                <a:cubicBezTo>
                  <a:pt x="22523" y="16459"/>
                  <a:pt x="22574" y="16368"/>
                  <a:pt x="22606" y="16320"/>
                </a:cubicBezTo>
                <a:cubicBezTo>
                  <a:pt x="22641" y="16267"/>
                  <a:pt x="22668" y="16199"/>
                  <a:pt x="22733" y="16192"/>
                </a:cubicBezTo>
                <a:cubicBezTo>
                  <a:pt x="22765" y="16192"/>
                  <a:pt x="22775" y="16192"/>
                  <a:pt x="22796" y="16192"/>
                </a:cubicBezTo>
                <a:cubicBezTo>
                  <a:pt x="22796" y="16295"/>
                  <a:pt x="22779" y="16378"/>
                  <a:pt x="22765" y="16478"/>
                </a:cubicBezTo>
                <a:cubicBezTo>
                  <a:pt x="22754" y="16557"/>
                  <a:pt x="22714" y="16634"/>
                  <a:pt x="22701" y="16700"/>
                </a:cubicBezTo>
                <a:cubicBezTo>
                  <a:pt x="22692" y="16744"/>
                  <a:pt x="22685" y="16867"/>
                  <a:pt x="22733" y="16891"/>
                </a:cubicBezTo>
                <a:cubicBezTo>
                  <a:pt x="22784" y="16916"/>
                  <a:pt x="22825" y="16871"/>
                  <a:pt x="22860" y="16859"/>
                </a:cubicBezTo>
                <a:cubicBezTo>
                  <a:pt x="22894" y="16848"/>
                  <a:pt x="22941" y="16891"/>
                  <a:pt x="22987" y="16891"/>
                </a:cubicBezTo>
                <a:cubicBezTo>
                  <a:pt x="23019" y="16891"/>
                  <a:pt x="23050" y="16891"/>
                  <a:pt x="23082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nk 14"/>
          <p:cNvSpPr/>
          <p:nvPr/>
        </p:nvSpPr>
        <p:spPr>
          <a:xfrm>
            <a:off x="6823080" y="5407200"/>
            <a:ext cx="1841400" cy="1028520"/>
          </a:xfrm>
          <a:custGeom>
            <a:avLst/>
            <a:gdLst/>
            <a:ahLst/>
            <a:rect l="l" t="t" r="r" b="b"/>
            <a:pathLst>
              <a:path w="5112" h="2858">
                <a:moveTo>
                  <a:pt x="22003" y="17812"/>
                </a:moveTo>
                <a:cubicBezTo>
                  <a:pt x="22009" y="17813"/>
                  <a:pt x="22070" y="17852"/>
                  <a:pt x="22130" y="17844"/>
                </a:cubicBezTo>
                <a:cubicBezTo>
                  <a:pt x="22226" y="17832"/>
                  <a:pt x="22293" y="17764"/>
                  <a:pt x="22384" y="17748"/>
                </a:cubicBezTo>
                <a:cubicBezTo>
                  <a:pt x="22498" y="17728"/>
                  <a:pt x="22619" y="17735"/>
                  <a:pt x="22733" y="17716"/>
                </a:cubicBezTo>
                <a:cubicBezTo>
                  <a:pt x="22843" y="17698"/>
                  <a:pt x="22976" y="17670"/>
                  <a:pt x="23082" y="17621"/>
                </a:cubicBezTo>
                <a:cubicBezTo>
                  <a:pt x="23199" y="17567"/>
                  <a:pt x="23325" y="17511"/>
                  <a:pt x="23432" y="17431"/>
                </a:cubicBezTo>
                <a:cubicBezTo>
                  <a:pt x="23542" y="17349"/>
                  <a:pt x="23610" y="17223"/>
                  <a:pt x="23686" y="17113"/>
                </a:cubicBezTo>
                <a:cubicBezTo>
                  <a:pt x="23783" y="16973"/>
                  <a:pt x="23845" y="16853"/>
                  <a:pt x="23908" y="16700"/>
                </a:cubicBezTo>
                <a:cubicBezTo>
                  <a:pt x="23968" y="16555"/>
                  <a:pt x="24003" y="16440"/>
                  <a:pt x="24035" y="16288"/>
                </a:cubicBezTo>
                <a:cubicBezTo>
                  <a:pt x="24067" y="16136"/>
                  <a:pt x="24083" y="15969"/>
                  <a:pt x="24066" y="15812"/>
                </a:cubicBezTo>
                <a:cubicBezTo>
                  <a:pt x="24056" y="15721"/>
                  <a:pt x="24024" y="15604"/>
                  <a:pt x="23971" y="15526"/>
                </a:cubicBezTo>
                <a:cubicBezTo>
                  <a:pt x="23922" y="15454"/>
                  <a:pt x="23846" y="15382"/>
                  <a:pt x="23781" y="15335"/>
                </a:cubicBezTo>
                <a:cubicBezTo>
                  <a:pt x="23679" y="15261"/>
                  <a:pt x="23545" y="15163"/>
                  <a:pt x="23432" y="15113"/>
                </a:cubicBezTo>
                <a:cubicBezTo>
                  <a:pt x="23357" y="15080"/>
                  <a:pt x="23260" y="15093"/>
                  <a:pt x="23178" y="15081"/>
                </a:cubicBezTo>
                <a:cubicBezTo>
                  <a:pt x="23051" y="15063"/>
                  <a:pt x="22924" y="15067"/>
                  <a:pt x="22796" y="15050"/>
                </a:cubicBezTo>
                <a:cubicBezTo>
                  <a:pt x="22701" y="15038"/>
                  <a:pt x="22618" y="15008"/>
                  <a:pt x="22511" y="15018"/>
                </a:cubicBezTo>
                <a:cubicBezTo>
                  <a:pt x="22401" y="15028"/>
                  <a:pt x="22301" y="15059"/>
                  <a:pt x="22193" y="15081"/>
                </a:cubicBezTo>
                <a:cubicBezTo>
                  <a:pt x="22086" y="15102"/>
                  <a:pt x="21982" y="15112"/>
                  <a:pt x="21876" y="15145"/>
                </a:cubicBezTo>
                <a:cubicBezTo>
                  <a:pt x="21778" y="15175"/>
                  <a:pt x="21657" y="15207"/>
                  <a:pt x="21558" y="15240"/>
                </a:cubicBezTo>
                <a:cubicBezTo>
                  <a:pt x="21438" y="15280"/>
                  <a:pt x="21364" y="15287"/>
                  <a:pt x="21241" y="15304"/>
                </a:cubicBezTo>
                <a:cubicBezTo>
                  <a:pt x="21094" y="15324"/>
                  <a:pt x="20942" y="15342"/>
                  <a:pt x="20796" y="15367"/>
                </a:cubicBezTo>
                <a:cubicBezTo>
                  <a:pt x="20682" y="15386"/>
                  <a:pt x="20562" y="15425"/>
                  <a:pt x="20447" y="15462"/>
                </a:cubicBezTo>
                <a:cubicBezTo>
                  <a:pt x="20288" y="15513"/>
                  <a:pt x="20144" y="15595"/>
                  <a:pt x="20002" y="15653"/>
                </a:cubicBezTo>
                <a:cubicBezTo>
                  <a:pt x="19879" y="15704"/>
                  <a:pt x="19765" y="15737"/>
                  <a:pt x="19653" y="15812"/>
                </a:cubicBezTo>
                <a:cubicBezTo>
                  <a:pt x="19529" y="15895"/>
                  <a:pt x="19367" y="16014"/>
                  <a:pt x="19272" y="16129"/>
                </a:cubicBezTo>
                <a:cubicBezTo>
                  <a:pt x="19194" y="16223"/>
                  <a:pt x="19111" y="16336"/>
                  <a:pt x="19050" y="16446"/>
                </a:cubicBezTo>
                <a:cubicBezTo>
                  <a:pt x="18996" y="16543"/>
                  <a:pt x="18965" y="16689"/>
                  <a:pt x="18955" y="16796"/>
                </a:cubicBezTo>
                <a:cubicBezTo>
                  <a:pt x="18942" y="16930"/>
                  <a:pt x="18965" y="17049"/>
                  <a:pt x="18986" y="17177"/>
                </a:cubicBezTo>
                <a:cubicBezTo>
                  <a:pt x="19008" y="17311"/>
                  <a:pt x="19038" y="17355"/>
                  <a:pt x="19114" y="17462"/>
                </a:cubicBezTo>
                <a:cubicBezTo>
                  <a:pt x="19178" y="17551"/>
                  <a:pt x="19244" y="17648"/>
                  <a:pt x="19336" y="17716"/>
                </a:cubicBezTo>
                <a:cubicBezTo>
                  <a:pt x="19400" y="17763"/>
                  <a:pt x="19479" y="17823"/>
                  <a:pt x="19558" y="17844"/>
                </a:cubicBezTo>
                <a:cubicBezTo>
                  <a:pt x="19640" y="17866"/>
                  <a:pt x="19759" y="17869"/>
                  <a:pt x="19844" y="17875"/>
                </a:cubicBezTo>
                <a:cubicBezTo>
                  <a:pt x="19958" y="17883"/>
                  <a:pt x="20051" y="17850"/>
                  <a:pt x="20161" y="17844"/>
                </a:cubicBezTo>
                <a:cubicBezTo>
                  <a:pt x="20292" y="17836"/>
                  <a:pt x="20413" y="17819"/>
                  <a:pt x="20542" y="17812"/>
                </a:cubicBezTo>
                <a:cubicBezTo>
                  <a:pt x="21014" y="17786"/>
                  <a:pt x="21505" y="17805"/>
                  <a:pt x="21971" y="17844"/>
                </a:cubicBezTo>
                <a:cubicBezTo>
                  <a:pt x="22102" y="17855"/>
                  <a:pt x="22326" y="17889"/>
                  <a:pt x="22447" y="17875"/>
                </a:cubicBezTo>
                <a:cubicBezTo>
                  <a:pt x="22552" y="17841"/>
                  <a:pt x="22594" y="17828"/>
                  <a:pt x="22670" y="17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parallel and perpendicular lines, we must k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3"/>
          <p:cNvSpPr/>
          <p:nvPr/>
        </p:nvSpPr>
        <p:spPr>
          <a:xfrm>
            <a:off x="1246320" y="3486240"/>
            <a:ext cx="3268440" cy="1623960"/>
          </a:xfrm>
          <a:custGeom>
            <a:avLst/>
            <a:gdLst/>
            <a:ahLst/>
            <a:rect l="l" t="t" r="r" b="b"/>
            <a:pathLst>
              <a:path w="9081" h="4509">
                <a:moveTo>
                  <a:pt x="3842" y="9716"/>
                </a:moveTo>
                <a:cubicBezTo>
                  <a:pt x="3842" y="9758"/>
                  <a:pt x="3852" y="9738"/>
                  <a:pt x="3842" y="9779"/>
                </a:cubicBezTo>
                <a:cubicBezTo>
                  <a:pt x="3827" y="9843"/>
                  <a:pt x="3810" y="9891"/>
                  <a:pt x="3810" y="9970"/>
                </a:cubicBezTo>
                <a:cubicBezTo>
                  <a:pt x="3810" y="10146"/>
                  <a:pt x="3799" y="10312"/>
                  <a:pt x="3778" y="10478"/>
                </a:cubicBezTo>
                <a:cubicBezTo>
                  <a:pt x="3764" y="10587"/>
                  <a:pt x="3805" y="10638"/>
                  <a:pt x="3810" y="10732"/>
                </a:cubicBezTo>
                <a:cubicBezTo>
                  <a:pt x="3815" y="10835"/>
                  <a:pt x="3810" y="10846"/>
                  <a:pt x="3874" y="10922"/>
                </a:cubicBezTo>
                <a:cubicBezTo>
                  <a:pt x="3894" y="10946"/>
                  <a:pt x="3910" y="10990"/>
                  <a:pt x="3969" y="10986"/>
                </a:cubicBezTo>
                <a:cubicBezTo>
                  <a:pt x="4010" y="10984"/>
                  <a:pt x="4106" y="10887"/>
                  <a:pt x="4128" y="10858"/>
                </a:cubicBezTo>
                <a:cubicBezTo>
                  <a:pt x="4181" y="10788"/>
                  <a:pt x="4252" y="10683"/>
                  <a:pt x="4286" y="10604"/>
                </a:cubicBezTo>
                <a:cubicBezTo>
                  <a:pt x="4343" y="10474"/>
                  <a:pt x="4394" y="10332"/>
                  <a:pt x="4413" y="10192"/>
                </a:cubicBezTo>
                <a:cubicBezTo>
                  <a:pt x="4422" y="10124"/>
                  <a:pt x="4440" y="10070"/>
                  <a:pt x="4445" y="10001"/>
                </a:cubicBezTo>
                <a:cubicBezTo>
                  <a:pt x="4445" y="9991"/>
                  <a:pt x="4445" y="9980"/>
                  <a:pt x="4445" y="9970"/>
                </a:cubicBezTo>
                <a:cubicBezTo>
                  <a:pt x="4445" y="10023"/>
                  <a:pt x="4445" y="10012"/>
                  <a:pt x="4445" y="10065"/>
                </a:cubicBezTo>
                <a:cubicBezTo>
                  <a:pt x="4445" y="10171"/>
                  <a:pt x="4413" y="10269"/>
                  <a:pt x="4413" y="10382"/>
                </a:cubicBezTo>
                <a:cubicBezTo>
                  <a:pt x="4413" y="10526"/>
                  <a:pt x="4386" y="10653"/>
                  <a:pt x="4382" y="10795"/>
                </a:cubicBezTo>
                <a:cubicBezTo>
                  <a:pt x="4377" y="10975"/>
                  <a:pt x="4377" y="11158"/>
                  <a:pt x="4350" y="11335"/>
                </a:cubicBezTo>
                <a:cubicBezTo>
                  <a:pt x="4324" y="11504"/>
                  <a:pt x="4290" y="11677"/>
                  <a:pt x="4254" y="11843"/>
                </a:cubicBezTo>
                <a:cubicBezTo>
                  <a:pt x="4219" y="12000"/>
                  <a:pt x="4194" y="12110"/>
                  <a:pt x="4128" y="12256"/>
                </a:cubicBezTo>
                <a:cubicBezTo>
                  <a:pt x="4094" y="12332"/>
                  <a:pt x="3989" y="12395"/>
                  <a:pt x="3905" y="12414"/>
                </a:cubicBezTo>
                <a:cubicBezTo>
                  <a:pt x="3822" y="12433"/>
                  <a:pt x="3725" y="12415"/>
                  <a:pt x="3651" y="12382"/>
                </a:cubicBezTo>
                <a:cubicBezTo>
                  <a:pt x="3555" y="12340"/>
                  <a:pt x="3525" y="12304"/>
                  <a:pt x="3492" y="12224"/>
                </a:cubicBezTo>
                <a:cubicBezTo>
                  <a:pt x="3456" y="12136"/>
                  <a:pt x="3461" y="12066"/>
                  <a:pt x="3461" y="11970"/>
                </a:cubicBezTo>
              </a:path>
              <a:path w="9081" h="4509">
                <a:moveTo>
                  <a:pt x="4667" y="10795"/>
                </a:moveTo>
                <a:cubicBezTo>
                  <a:pt x="4682" y="10749"/>
                  <a:pt x="4714" y="10768"/>
                  <a:pt x="4762" y="10732"/>
                </a:cubicBezTo>
                <a:cubicBezTo>
                  <a:pt x="4794" y="10755"/>
                  <a:pt x="4857" y="10772"/>
                  <a:pt x="4826" y="10827"/>
                </a:cubicBezTo>
                <a:cubicBezTo>
                  <a:pt x="4796" y="10880"/>
                  <a:pt x="4752" y="10921"/>
                  <a:pt x="4731" y="10986"/>
                </a:cubicBezTo>
                <a:cubicBezTo>
                  <a:pt x="4716" y="11032"/>
                  <a:pt x="4682" y="11069"/>
                  <a:pt x="4667" y="11112"/>
                </a:cubicBezTo>
                <a:cubicBezTo>
                  <a:pt x="4655" y="11148"/>
                  <a:pt x="4653" y="11211"/>
                  <a:pt x="4667" y="11176"/>
                </a:cubicBezTo>
                <a:cubicBezTo>
                  <a:pt x="4680" y="11141"/>
                  <a:pt x="4689" y="11117"/>
                  <a:pt x="4731" y="11112"/>
                </a:cubicBezTo>
                <a:cubicBezTo>
                  <a:pt x="4784" y="11105"/>
                  <a:pt x="4814" y="11161"/>
                  <a:pt x="4858" y="11176"/>
                </a:cubicBezTo>
                <a:cubicBezTo>
                  <a:pt x="4890" y="11176"/>
                  <a:pt x="4901" y="11176"/>
                  <a:pt x="4890" y="11208"/>
                </a:cubicBezTo>
                <a:cubicBezTo>
                  <a:pt x="4936" y="11173"/>
                  <a:pt x="4939" y="11187"/>
                  <a:pt x="4953" y="11144"/>
                </a:cubicBezTo>
              </a:path>
              <a:path w="9081" h="4509">
                <a:moveTo>
                  <a:pt x="5302" y="10732"/>
                </a:moveTo>
                <a:cubicBezTo>
                  <a:pt x="5347" y="10698"/>
                  <a:pt x="5342" y="10700"/>
                  <a:pt x="5398" y="10700"/>
                </a:cubicBezTo>
                <a:cubicBezTo>
                  <a:pt x="5409" y="10664"/>
                  <a:pt x="5470" y="10650"/>
                  <a:pt x="5524" y="10636"/>
                </a:cubicBezTo>
                <a:cubicBezTo>
                  <a:pt x="5581" y="10622"/>
                  <a:pt x="5567" y="10643"/>
                  <a:pt x="5620" y="10604"/>
                </a:cubicBezTo>
              </a:path>
              <a:path w="9081" h="4509">
                <a:moveTo>
                  <a:pt x="5937" y="10128"/>
                </a:moveTo>
                <a:cubicBezTo>
                  <a:pt x="5937" y="10211"/>
                  <a:pt x="5919" y="10273"/>
                  <a:pt x="5906" y="10350"/>
                </a:cubicBezTo>
                <a:cubicBezTo>
                  <a:pt x="5889" y="10453"/>
                  <a:pt x="5889" y="10565"/>
                  <a:pt x="5874" y="10668"/>
                </a:cubicBezTo>
                <a:cubicBezTo>
                  <a:pt x="5866" y="10726"/>
                  <a:pt x="5884" y="10896"/>
                  <a:pt x="5906" y="10954"/>
                </a:cubicBezTo>
                <a:cubicBezTo>
                  <a:pt x="5929" y="11017"/>
                  <a:pt x="5948" y="11060"/>
                  <a:pt x="6001" y="11112"/>
                </a:cubicBezTo>
                <a:cubicBezTo>
                  <a:pt x="6025" y="11088"/>
                  <a:pt x="6073" y="11041"/>
                  <a:pt x="6096" y="10986"/>
                </a:cubicBezTo>
                <a:cubicBezTo>
                  <a:pt x="6143" y="10871"/>
                  <a:pt x="6183" y="10754"/>
                  <a:pt x="6223" y="10636"/>
                </a:cubicBezTo>
                <a:cubicBezTo>
                  <a:pt x="6271" y="10493"/>
                  <a:pt x="6342" y="10342"/>
                  <a:pt x="6350" y="10192"/>
                </a:cubicBezTo>
                <a:cubicBezTo>
                  <a:pt x="6353" y="10141"/>
                  <a:pt x="6319" y="10032"/>
                  <a:pt x="6382" y="10033"/>
                </a:cubicBezTo>
                <a:cubicBezTo>
                  <a:pt x="6382" y="10044"/>
                  <a:pt x="6382" y="10054"/>
                  <a:pt x="6382" y="10065"/>
                </a:cubicBezTo>
                <a:cubicBezTo>
                  <a:pt x="6372" y="10155"/>
                  <a:pt x="6354" y="10228"/>
                  <a:pt x="6350" y="10319"/>
                </a:cubicBezTo>
                <a:cubicBezTo>
                  <a:pt x="6340" y="10524"/>
                  <a:pt x="6338" y="10721"/>
                  <a:pt x="6318" y="10922"/>
                </a:cubicBezTo>
                <a:cubicBezTo>
                  <a:pt x="6302" y="11080"/>
                  <a:pt x="6301" y="11241"/>
                  <a:pt x="6286" y="11398"/>
                </a:cubicBezTo>
                <a:cubicBezTo>
                  <a:pt x="6275" y="11512"/>
                  <a:pt x="6270" y="11676"/>
                  <a:pt x="6223" y="11779"/>
                </a:cubicBezTo>
                <a:cubicBezTo>
                  <a:pt x="6175" y="11884"/>
                  <a:pt x="6112" y="11966"/>
                  <a:pt x="6032" y="12033"/>
                </a:cubicBezTo>
                <a:cubicBezTo>
                  <a:pt x="5993" y="12066"/>
                  <a:pt x="5898" y="12085"/>
                  <a:pt x="5842" y="12065"/>
                </a:cubicBezTo>
                <a:cubicBezTo>
                  <a:pt x="5784" y="12044"/>
                  <a:pt x="5701" y="11932"/>
                  <a:pt x="5715" y="11874"/>
                </a:cubicBezTo>
                <a:cubicBezTo>
                  <a:pt x="5746" y="11813"/>
                  <a:pt x="5757" y="11795"/>
                  <a:pt x="5747" y="11748"/>
                </a:cubicBezTo>
              </a:path>
              <a:path w="9081" h="4509">
                <a:moveTo>
                  <a:pt x="6699" y="10795"/>
                </a:moveTo>
                <a:cubicBezTo>
                  <a:pt x="6685" y="10852"/>
                  <a:pt x="6668" y="10886"/>
                  <a:pt x="6668" y="10954"/>
                </a:cubicBezTo>
                <a:cubicBezTo>
                  <a:pt x="6668" y="11028"/>
                  <a:pt x="6668" y="11102"/>
                  <a:pt x="6668" y="11176"/>
                </a:cubicBezTo>
              </a:path>
              <a:path w="9081" h="4509">
                <a:moveTo>
                  <a:pt x="3524" y="11906"/>
                </a:moveTo>
                <a:cubicBezTo>
                  <a:pt x="3597" y="11906"/>
                  <a:pt x="3648" y="11885"/>
                  <a:pt x="3715" y="11874"/>
                </a:cubicBezTo>
                <a:cubicBezTo>
                  <a:pt x="4700" y="11708"/>
                  <a:pt x="5787" y="11980"/>
                  <a:pt x="6763" y="11843"/>
                </a:cubicBezTo>
                <a:cubicBezTo>
                  <a:pt x="6794" y="11843"/>
                  <a:pt x="6805" y="11843"/>
                  <a:pt x="6826" y="11843"/>
                </a:cubicBezTo>
              </a:path>
              <a:path w="9081" h="4509">
                <a:moveTo>
                  <a:pt x="4191" y="12382"/>
                </a:moveTo>
                <a:cubicBezTo>
                  <a:pt x="4220" y="12421"/>
                  <a:pt x="4248" y="12499"/>
                  <a:pt x="4254" y="12541"/>
                </a:cubicBezTo>
                <a:cubicBezTo>
                  <a:pt x="4271" y="12656"/>
                  <a:pt x="4307" y="12774"/>
                  <a:pt x="4318" y="12890"/>
                </a:cubicBezTo>
                <a:cubicBezTo>
                  <a:pt x="4332" y="13043"/>
                  <a:pt x="4346" y="13185"/>
                  <a:pt x="4382" y="13335"/>
                </a:cubicBezTo>
                <a:cubicBezTo>
                  <a:pt x="4411" y="13458"/>
                  <a:pt x="4438" y="13591"/>
                  <a:pt x="4445" y="13716"/>
                </a:cubicBezTo>
                <a:cubicBezTo>
                  <a:pt x="4445" y="13769"/>
                  <a:pt x="4445" y="13779"/>
                  <a:pt x="4445" y="13811"/>
                </a:cubicBezTo>
              </a:path>
              <a:path w="9081" h="4509">
                <a:moveTo>
                  <a:pt x="4604" y="12510"/>
                </a:moveTo>
                <a:cubicBezTo>
                  <a:pt x="4557" y="12571"/>
                  <a:pt x="4543" y="12622"/>
                  <a:pt x="4508" y="12700"/>
                </a:cubicBezTo>
                <a:cubicBezTo>
                  <a:pt x="4453" y="12825"/>
                  <a:pt x="4361" y="12936"/>
                  <a:pt x="4286" y="13049"/>
                </a:cubicBezTo>
                <a:cubicBezTo>
                  <a:pt x="4192" y="13191"/>
                  <a:pt x="4111" y="13343"/>
                  <a:pt x="4032" y="13494"/>
                </a:cubicBezTo>
                <a:cubicBezTo>
                  <a:pt x="3989" y="13576"/>
                  <a:pt x="3929" y="13636"/>
                  <a:pt x="3905" y="13716"/>
                </a:cubicBezTo>
                <a:cubicBezTo>
                  <a:pt x="3905" y="13727"/>
                  <a:pt x="3905" y="13737"/>
                  <a:pt x="3905" y="13748"/>
                </a:cubicBezTo>
              </a:path>
              <a:path w="9081" h="4509">
                <a:moveTo>
                  <a:pt x="4636" y="13303"/>
                </a:moveTo>
                <a:cubicBezTo>
                  <a:pt x="4652" y="13256"/>
                  <a:pt x="4675" y="13272"/>
                  <a:pt x="4731" y="13272"/>
                </a:cubicBezTo>
                <a:cubicBezTo>
                  <a:pt x="4774" y="13272"/>
                  <a:pt x="4834" y="13255"/>
                  <a:pt x="4858" y="13303"/>
                </a:cubicBezTo>
                <a:cubicBezTo>
                  <a:pt x="4887" y="13360"/>
                  <a:pt x="4837" y="13445"/>
                  <a:pt x="4826" y="13494"/>
                </a:cubicBezTo>
                <a:cubicBezTo>
                  <a:pt x="4811" y="13561"/>
                  <a:pt x="4774" y="13627"/>
                  <a:pt x="4731" y="13684"/>
                </a:cubicBezTo>
                <a:cubicBezTo>
                  <a:pt x="4693" y="13735"/>
                  <a:pt x="4650" y="13737"/>
                  <a:pt x="4636" y="13780"/>
                </a:cubicBezTo>
                <a:cubicBezTo>
                  <a:pt x="4736" y="13780"/>
                  <a:pt x="4876" y="13806"/>
                  <a:pt x="4953" y="13748"/>
                </a:cubicBezTo>
              </a:path>
              <a:path w="9081" h="4509">
                <a:moveTo>
                  <a:pt x="5366" y="12954"/>
                </a:moveTo>
                <a:cubicBezTo>
                  <a:pt x="5405" y="12978"/>
                  <a:pt x="5481" y="13009"/>
                  <a:pt x="5524" y="13018"/>
                </a:cubicBezTo>
                <a:cubicBezTo>
                  <a:pt x="5582" y="13030"/>
                  <a:pt x="5655" y="13018"/>
                  <a:pt x="5715" y="13018"/>
                </a:cubicBezTo>
              </a:path>
              <a:path w="9081" h="4509">
                <a:moveTo>
                  <a:pt x="5937" y="12510"/>
                </a:moveTo>
                <a:cubicBezTo>
                  <a:pt x="5937" y="12613"/>
                  <a:pt x="5928" y="12664"/>
                  <a:pt x="5937" y="12764"/>
                </a:cubicBezTo>
                <a:cubicBezTo>
                  <a:pt x="5950" y="12901"/>
                  <a:pt x="5961" y="13008"/>
                  <a:pt x="6001" y="13144"/>
                </a:cubicBezTo>
                <a:cubicBezTo>
                  <a:pt x="6048" y="13302"/>
                  <a:pt x="6079" y="13464"/>
                  <a:pt x="6128" y="13621"/>
                </a:cubicBezTo>
                <a:cubicBezTo>
                  <a:pt x="6149" y="13688"/>
                  <a:pt x="6179" y="13809"/>
                  <a:pt x="6255" y="13843"/>
                </a:cubicBezTo>
                <a:cubicBezTo>
                  <a:pt x="6286" y="13843"/>
                  <a:pt x="6297" y="13843"/>
                  <a:pt x="6286" y="13811"/>
                </a:cubicBezTo>
              </a:path>
              <a:path w="9081" h="4509">
                <a:moveTo>
                  <a:pt x="6350" y="12541"/>
                </a:moveTo>
                <a:cubicBezTo>
                  <a:pt x="6316" y="12633"/>
                  <a:pt x="6274" y="12706"/>
                  <a:pt x="6223" y="12795"/>
                </a:cubicBezTo>
                <a:cubicBezTo>
                  <a:pt x="6150" y="12923"/>
                  <a:pt x="6073" y="13048"/>
                  <a:pt x="6001" y="13176"/>
                </a:cubicBezTo>
                <a:cubicBezTo>
                  <a:pt x="5913" y="13331"/>
                  <a:pt x="5795" y="13467"/>
                  <a:pt x="5715" y="13621"/>
                </a:cubicBezTo>
                <a:cubicBezTo>
                  <a:pt x="5662" y="13723"/>
                  <a:pt x="5623" y="13842"/>
                  <a:pt x="5556" y="13938"/>
                </a:cubicBezTo>
                <a:cubicBezTo>
                  <a:pt x="5527" y="13967"/>
                  <a:pt x="5516" y="13973"/>
                  <a:pt x="5524" y="14002"/>
                </a:cubicBezTo>
              </a:path>
              <a:path w="9081" h="4509">
                <a:moveTo>
                  <a:pt x="6477" y="13589"/>
                </a:moveTo>
                <a:cubicBezTo>
                  <a:pt x="6477" y="13764"/>
                  <a:pt x="6466" y="13932"/>
                  <a:pt x="6445" y="14097"/>
                </a:cubicBezTo>
                <a:cubicBezTo>
                  <a:pt x="6445" y="14129"/>
                  <a:pt x="6445" y="14160"/>
                  <a:pt x="6445" y="14192"/>
                </a:cubicBezTo>
              </a:path>
              <a:path w="9081" h="4509">
                <a:moveTo>
                  <a:pt x="8255" y="11430"/>
                </a:moveTo>
                <a:cubicBezTo>
                  <a:pt x="8197" y="11430"/>
                  <a:pt x="8109" y="11413"/>
                  <a:pt x="8064" y="11462"/>
                </a:cubicBezTo>
                <a:cubicBezTo>
                  <a:pt x="7984" y="11548"/>
                  <a:pt x="7935" y="11637"/>
                  <a:pt x="7874" y="11748"/>
                </a:cubicBezTo>
                <a:cubicBezTo>
                  <a:pt x="7819" y="11848"/>
                  <a:pt x="7786" y="11983"/>
                  <a:pt x="7810" y="12097"/>
                </a:cubicBezTo>
                <a:cubicBezTo>
                  <a:pt x="7833" y="12207"/>
                  <a:pt x="7894" y="12275"/>
                  <a:pt x="8001" y="12287"/>
                </a:cubicBezTo>
                <a:cubicBezTo>
                  <a:pt x="8086" y="12296"/>
                  <a:pt x="8211" y="12235"/>
                  <a:pt x="8255" y="12160"/>
                </a:cubicBezTo>
                <a:cubicBezTo>
                  <a:pt x="8315" y="12059"/>
                  <a:pt x="8339" y="11894"/>
                  <a:pt x="8318" y="11779"/>
                </a:cubicBezTo>
                <a:cubicBezTo>
                  <a:pt x="8301" y="11683"/>
                  <a:pt x="8280" y="11577"/>
                  <a:pt x="8223" y="11494"/>
                </a:cubicBezTo>
                <a:cubicBezTo>
                  <a:pt x="8191" y="11448"/>
                  <a:pt x="8192" y="11454"/>
                  <a:pt x="8192" y="11398"/>
                </a:cubicBezTo>
              </a:path>
              <a:path w="9081" h="4509">
                <a:moveTo>
                  <a:pt x="8414" y="11525"/>
                </a:moveTo>
                <a:cubicBezTo>
                  <a:pt x="8414" y="11789"/>
                  <a:pt x="8414" y="12520"/>
                  <a:pt x="8414" y="12256"/>
                </a:cubicBezTo>
                <a:cubicBezTo>
                  <a:pt x="8369" y="12137"/>
                  <a:pt x="8409" y="12065"/>
                  <a:pt x="8414" y="11938"/>
                </a:cubicBezTo>
                <a:cubicBezTo>
                  <a:pt x="8419" y="11807"/>
                  <a:pt x="8458" y="11680"/>
                  <a:pt x="8509" y="11557"/>
                </a:cubicBezTo>
                <a:cubicBezTo>
                  <a:pt x="8536" y="11491"/>
                  <a:pt x="8576" y="11377"/>
                  <a:pt x="8636" y="11335"/>
                </a:cubicBezTo>
                <a:cubicBezTo>
                  <a:pt x="8717" y="11278"/>
                  <a:pt x="8737" y="11307"/>
                  <a:pt x="8795" y="11366"/>
                </a:cubicBezTo>
                <a:cubicBezTo>
                  <a:pt x="8855" y="11426"/>
                  <a:pt x="8824" y="11518"/>
                  <a:pt x="8795" y="11589"/>
                </a:cubicBezTo>
                <a:cubicBezTo>
                  <a:pt x="8774" y="11641"/>
                  <a:pt x="8707" y="11775"/>
                  <a:pt x="8668" y="11811"/>
                </a:cubicBezTo>
                <a:cubicBezTo>
                  <a:pt x="8621" y="11855"/>
                  <a:pt x="8557" y="11870"/>
                  <a:pt x="8509" y="11906"/>
                </a:cubicBezTo>
                <a:cubicBezTo>
                  <a:pt x="8516" y="11886"/>
                  <a:pt x="8560" y="11824"/>
                  <a:pt x="8604" y="11843"/>
                </a:cubicBezTo>
                <a:cubicBezTo>
                  <a:pt x="8634" y="11856"/>
                  <a:pt x="8720" y="11899"/>
                  <a:pt x="8731" y="11938"/>
                </a:cubicBezTo>
                <a:cubicBezTo>
                  <a:pt x="8755" y="12025"/>
                  <a:pt x="8758" y="12107"/>
                  <a:pt x="8795" y="12192"/>
                </a:cubicBezTo>
                <a:cubicBezTo>
                  <a:pt x="8837" y="12287"/>
                  <a:pt x="8866" y="12362"/>
                  <a:pt x="8954" y="12414"/>
                </a:cubicBezTo>
                <a:cubicBezTo>
                  <a:pt x="9046" y="12468"/>
                  <a:pt x="9018" y="12473"/>
                  <a:pt x="9112" y="12446"/>
                </a:cubicBezTo>
              </a:path>
              <a:path w="9081" h="4509">
                <a:moveTo>
                  <a:pt x="10224" y="9684"/>
                </a:moveTo>
                <a:cubicBezTo>
                  <a:pt x="10184" y="9750"/>
                  <a:pt x="10182" y="9836"/>
                  <a:pt x="10128" y="9906"/>
                </a:cubicBezTo>
                <a:cubicBezTo>
                  <a:pt x="10057" y="9998"/>
                  <a:pt x="9988" y="10115"/>
                  <a:pt x="9938" y="10224"/>
                </a:cubicBezTo>
                <a:cubicBezTo>
                  <a:pt x="9885" y="10339"/>
                  <a:pt x="9828" y="10457"/>
                  <a:pt x="9779" y="10573"/>
                </a:cubicBezTo>
                <a:cubicBezTo>
                  <a:pt x="9731" y="10687"/>
                  <a:pt x="9692" y="10819"/>
                  <a:pt x="9620" y="10922"/>
                </a:cubicBezTo>
                <a:cubicBezTo>
                  <a:pt x="9590" y="10966"/>
                  <a:pt x="9545" y="10997"/>
                  <a:pt x="9525" y="11017"/>
                </a:cubicBezTo>
                <a:cubicBezTo>
                  <a:pt x="9525" y="11049"/>
                  <a:pt x="9525" y="11060"/>
                  <a:pt x="9493" y="11049"/>
                </a:cubicBezTo>
                <a:cubicBezTo>
                  <a:pt x="9519" y="11023"/>
                  <a:pt x="9529" y="11000"/>
                  <a:pt x="9588" y="10986"/>
                </a:cubicBezTo>
                <a:cubicBezTo>
                  <a:pt x="9640" y="10974"/>
                  <a:pt x="9695" y="10961"/>
                  <a:pt x="9747" y="10954"/>
                </a:cubicBezTo>
                <a:cubicBezTo>
                  <a:pt x="9864" y="10937"/>
                  <a:pt x="9983" y="10941"/>
                  <a:pt x="10096" y="10922"/>
                </a:cubicBezTo>
                <a:cubicBezTo>
                  <a:pt x="10277" y="10892"/>
                  <a:pt x="10506" y="10922"/>
                  <a:pt x="10668" y="10954"/>
                </a:cubicBezTo>
                <a:cubicBezTo>
                  <a:pt x="10715" y="10963"/>
                  <a:pt x="10778" y="10954"/>
                  <a:pt x="10827" y="10954"/>
                </a:cubicBezTo>
                <a:cubicBezTo>
                  <a:pt x="10804" y="10925"/>
                  <a:pt x="10793" y="10904"/>
                  <a:pt x="10763" y="10858"/>
                </a:cubicBezTo>
                <a:cubicBezTo>
                  <a:pt x="10736" y="10816"/>
                  <a:pt x="10725" y="10751"/>
                  <a:pt x="10700" y="10700"/>
                </a:cubicBezTo>
                <a:cubicBezTo>
                  <a:pt x="10655" y="10610"/>
                  <a:pt x="10645" y="10511"/>
                  <a:pt x="10604" y="10414"/>
                </a:cubicBezTo>
                <a:cubicBezTo>
                  <a:pt x="10557" y="10302"/>
                  <a:pt x="10467" y="10151"/>
                  <a:pt x="10446" y="10033"/>
                </a:cubicBezTo>
                <a:cubicBezTo>
                  <a:pt x="10429" y="9933"/>
                  <a:pt x="10413" y="9870"/>
                  <a:pt x="10350" y="9779"/>
                </a:cubicBezTo>
                <a:cubicBezTo>
                  <a:pt x="10319" y="9734"/>
                  <a:pt x="10311" y="9740"/>
                  <a:pt x="10287" y="9716"/>
                </a:cubicBezTo>
              </a:path>
              <a:path w="9081" h="4509">
                <a:moveTo>
                  <a:pt x="11303" y="9842"/>
                </a:moveTo>
                <a:cubicBezTo>
                  <a:pt x="11303" y="9926"/>
                  <a:pt x="11284" y="9987"/>
                  <a:pt x="11271" y="10065"/>
                </a:cubicBezTo>
                <a:cubicBezTo>
                  <a:pt x="11244" y="10225"/>
                  <a:pt x="11242" y="10492"/>
                  <a:pt x="11303" y="10636"/>
                </a:cubicBezTo>
                <a:cubicBezTo>
                  <a:pt x="11331" y="10702"/>
                  <a:pt x="11370" y="10815"/>
                  <a:pt x="11430" y="10858"/>
                </a:cubicBezTo>
                <a:cubicBezTo>
                  <a:pt x="11498" y="10906"/>
                  <a:pt x="11545" y="10935"/>
                  <a:pt x="11620" y="10890"/>
                </a:cubicBezTo>
                <a:cubicBezTo>
                  <a:pt x="11714" y="10834"/>
                  <a:pt x="11796" y="10730"/>
                  <a:pt x="11843" y="10636"/>
                </a:cubicBezTo>
                <a:cubicBezTo>
                  <a:pt x="11894" y="10534"/>
                  <a:pt x="11911" y="10425"/>
                  <a:pt x="11938" y="10319"/>
                </a:cubicBezTo>
                <a:cubicBezTo>
                  <a:pt x="11959" y="10235"/>
                  <a:pt x="11970" y="10180"/>
                  <a:pt x="11970" y="10096"/>
                </a:cubicBezTo>
                <a:cubicBezTo>
                  <a:pt x="11970" y="10086"/>
                  <a:pt x="11970" y="10075"/>
                  <a:pt x="11970" y="10065"/>
                </a:cubicBezTo>
                <a:cubicBezTo>
                  <a:pt x="11963" y="10144"/>
                  <a:pt x="11941" y="10209"/>
                  <a:pt x="11938" y="10287"/>
                </a:cubicBezTo>
                <a:cubicBezTo>
                  <a:pt x="11918" y="10743"/>
                  <a:pt x="11951" y="11200"/>
                  <a:pt x="11906" y="11652"/>
                </a:cubicBezTo>
                <a:cubicBezTo>
                  <a:pt x="11894" y="11775"/>
                  <a:pt x="11899" y="11825"/>
                  <a:pt x="11843" y="11938"/>
                </a:cubicBezTo>
                <a:cubicBezTo>
                  <a:pt x="11793" y="12039"/>
                  <a:pt x="11751" y="12028"/>
                  <a:pt x="11652" y="12033"/>
                </a:cubicBezTo>
                <a:cubicBezTo>
                  <a:pt x="11582" y="12037"/>
                  <a:pt x="11488" y="12031"/>
                  <a:pt x="11430" y="12002"/>
                </a:cubicBezTo>
                <a:cubicBezTo>
                  <a:pt x="11415" y="11994"/>
                  <a:pt x="11305" y="11909"/>
                  <a:pt x="11303" y="11906"/>
                </a:cubicBezTo>
                <a:cubicBezTo>
                  <a:pt x="11303" y="11895"/>
                  <a:pt x="11303" y="11885"/>
                  <a:pt x="11303" y="11874"/>
                </a:cubicBezTo>
              </a:path>
              <a:path w="9081" h="4509">
                <a:moveTo>
                  <a:pt x="9462" y="11779"/>
                </a:moveTo>
                <a:cubicBezTo>
                  <a:pt x="9462" y="11886"/>
                  <a:pt x="9462" y="11704"/>
                  <a:pt x="9462" y="11811"/>
                </a:cubicBezTo>
                <a:cubicBezTo>
                  <a:pt x="9565" y="11811"/>
                  <a:pt x="9654" y="11789"/>
                  <a:pt x="9747" y="11779"/>
                </a:cubicBezTo>
                <a:cubicBezTo>
                  <a:pt x="10091" y="11742"/>
                  <a:pt x="10455" y="11788"/>
                  <a:pt x="10795" y="11811"/>
                </a:cubicBezTo>
                <a:cubicBezTo>
                  <a:pt x="11144" y="11834"/>
                  <a:pt x="11496" y="11816"/>
                  <a:pt x="11843" y="11843"/>
                </a:cubicBezTo>
                <a:cubicBezTo>
                  <a:pt x="11995" y="11855"/>
                  <a:pt x="12139" y="11889"/>
                  <a:pt x="12287" y="11906"/>
                </a:cubicBezTo>
                <a:cubicBezTo>
                  <a:pt x="12369" y="11915"/>
                  <a:pt x="12458" y="11906"/>
                  <a:pt x="12541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4"/>
          <p:cNvSpPr/>
          <p:nvPr/>
        </p:nvSpPr>
        <p:spPr>
          <a:xfrm>
            <a:off x="3475080" y="4378320"/>
            <a:ext cx="868320" cy="662040"/>
          </a:xfrm>
          <a:custGeom>
            <a:avLst/>
            <a:gdLst/>
            <a:ahLst/>
            <a:rect l="l" t="t" r="r" b="b"/>
            <a:pathLst>
              <a:path w="2414" h="1843">
                <a:moveTo>
                  <a:pt x="10192" y="12160"/>
                </a:moveTo>
                <a:cubicBezTo>
                  <a:pt x="10192" y="12248"/>
                  <a:pt x="10199" y="12310"/>
                  <a:pt x="10160" y="12382"/>
                </a:cubicBezTo>
                <a:cubicBezTo>
                  <a:pt x="10106" y="12483"/>
                  <a:pt x="10086" y="12600"/>
                  <a:pt x="10033" y="12700"/>
                </a:cubicBezTo>
                <a:cubicBezTo>
                  <a:pt x="9974" y="12811"/>
                  <a:pt x="9908" y="12945"/>
                  <a:pt x="9842" y="13049"/>
                </a:cubicBezTo>
                <a:cubicBezTo>
                  <a:pt x="9780" y="13147"/>
                  <a:pt x="9727" y="13222"/>
                  <a:pt x="9684" y="13335"/>
                </a:cubicBezTo>
                <a:cubicBezTo>
                  <a:pt x="9676" y="13356"/>
                  <a:pt x="9620" y="13540"/>
                  <a:pt x="9652" y="13462"/>
                </a:cubicBezTo>
                <a:cubicBezTo>
                  <a:pt x="9680" y="13392"/>
                  <a:pt x="9718" y="13313"/>
                  <a:pt x="9747" y="13240"/>
                </a:cubicBezTo>
                <a:cubicBezTo>
                  <a:pt x="9788" y="13136"/>
                  <a:pt x="9817" y="13019"/>
                  <a:pt x="9874" y="12922"/>
                </a:cubicBezTo>
                <a:cubicBezTo>
                  <a:pt x="9942" y="12807"/>
                  <a:pt x="9980" y="12695"/>
                  <a:pt x="10033" y="12573"/>
                </a:cubicBezTo>
                <a:cubicBezTo>
                  <a:pt x="10072" y="12484"/>
                  <a:pt x="10090" y="12367"/>
                  <a:pt x="10128" y="12287"/>
                </a:cubicBezTo>
                <a:cubicBezTo>
                  <a:pt x="10157" y="12225"/>
                  <a:pt x="10182" y="12232"/>
                  <a:pt x="10192" y="12160"/>
                </a:cubicBezTo>
                <a:cubicBezTo>
                  <a:pt x="10214" y="12203"/>
                  <a:pt x="10195" y="12229"/>
                  <a:pt x="10224" y="12287"/>
                </a:cubicBezTo>
                <a:cubicBezTo>
                  <a:pt x="10259" y="12359"/>
                  <a:pt x="10251" y="12430"/>
                  <a:pt x="10287" y="12510"/>
                </a:cubicBezTo>
                <a:cubicBezTo>
                  <a:pt x="10334" y="12614"/>
                  <a:pt x="10376" y="12719"/>
                  <a:pt x="10414" y="12827"/>
                </a:cubicBezTo>
                <a:cubicBezTo>
                  <a:pt x="10461" y="12962"/>
                  <a:pt x="10517" y="13080"/>
                  <a:pt x="10573" y="13208"/>
                </a:cubicBezTo>
                <a:cubicBezTo>
                  <a:pt x="10621" y="13316"/>
                  <a:pt x="10677" y="13472"/>
                  <a:pt x="10700" y="13589"/>
                </a:cubicBezTo>
                <a:cubicBezTo>
                  <a:pt x="10713" y="13655"/>
                  <a:pt x="10724" y="13713"/>
                  <a:pt x="10732" y="13780"/>
                </a:cubicBezTo>
                <a:cubicBezTo>
                  <a:pt x="10701" y="13755"/>
                  <a:pt x="10678" y="13758"/>
                  <a:pt x="10636" y="13716"/>
                </a:cubicBezTo>
                <a:cubicBezTo>
                  <a:pt x="10577" y="13657"/>
                  <a:pt x="10516" y="13597"/>
                  <a:pt x="10446" y="13557"/>
                </a:cubicBezTo>
                <a:cubicBezTo>
                  <a:pt x="10350" y="13501"/>
                  <a:pt x="10238" y="13436"/>
                  <a:pt x="10128" y="13430"/>
                </a:cubicBezTo>
                <a:cubicBezTo>
                  <a:pt x="10028" y="13424"/>
                  <a:pt x="9923" y="13418"/>
                  <a:pt x="9842" y="13462"/>
                </a:cubicBezTo>
                <a:cubicBezTo>
                  <a:pt x="9818" y="13475"/>
                  <a:pt x="9743" y="13514"/>
                  <a:pt x="9747" y="13557"/>
                </a:cubicBezTo>
                <a:cubicBezTo>
                  <a:pt x="9779" y="13557"/>
                  <a:pt x="9790" y="13557"/>
                  <a:pt x="9779" y="13589"/>
                </a:cubicBezTo>
              </a:path>
              <a:path w="2414" h="1843">
                <a:moveTo>
                  <a:pt x="11398" y="12510"/>
                </a:moveTo>
                <a:cubicBezTo>
                  <a:pt x="11398" y="12587"/>
                  <a:pt x="11434" y="12628"/>
                  <a:pt x="11462" y="12700"/>
                </a:cubicBezTo>
                <a:cubicBezTo>
                  <a:pt x="11511" y="12823"/>
                  <a:pt x="11549" y="12936"/>
                  <a:pt x="11620" y="13049"/>
                </a:cubicBezTo>
                <a:cubicBezTo>
                  <a:pt x="11710" y="13191"/>
                  <a:pt x="11807" y="13339"/>
                  <a:pt x="11874" y="13494"/>
                </a:cubicBezTo>
                <a:cubicBezTo>
                  <a:pt x="11914" y="13587"/>
                  <a:pt x="11998" y="13657"/>
                  <a:pt x="12033" y="13748"/>
                </a:cubicBezTo>
                <a:cubicBezTo>
                  <a:pt x="12033" y="13780"/>
                  <a:pt x="12033" y="13791"/>
                  <a:pt x="12065" y="13780"/>
                </a:cubicBezTo>
              </a:path>
              <a:path w="2414" h="1843">
                <a:moveTo>
                  <a:pt x="11938" y="12764"/>
                </a:moveTo>
                <a:cubicBezTo>
                  <a:pt x="11882" y="12810"/>
                  <a:pt x="11859" y="12843"/>
                  <a:pt x="11811" y="12922"/>
                </a:cubicBezTo>
                <a:cubicBezTo>
                  <a:pt x="11740" y="13038"/>
                  <a:pt x="11652" y="13141"/>
                  <a:pt x="11557" y="13240"/>
                </a:cubicBezTo>
                <a:cubicBezTo>
                  <a:pt x="11428" y="13374"/>
                  <a:pt x="11329" y="13536"/>
                  <a:pt x="11208" y="13684"/>
                </a:cubicBezTo>
                <a:cubicBezTo>
                  <a:pt x="11117" y="13796"/>
                  <a:pt x="11025" y="13899"/>
                  <a:pt x="10922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4686480" y="4206960"/>
            <a:ext cx="411120" cy="342720"/>
          </a:xfrm>
          <a:custGeom>
            <a:avLst/>
            <a:gdLst/>
            <a:ahLst/>
            <a:rect l="l" t="t" r="r" b="b"/>
            <a:pathLst>
              <a:path w="1143" h="953">
                <a:moveTo>
                  <a:pt x="13494" y="11811"/>
                </a:moveTo>
                <a:cubicBezTo>
                  <a:pt x="13445" y="11795"/>
                  <a:pt x="13445" y="11782"/>
                  <a:pt x="13367" y="11811"/>
                </a:cubicBezTo>
                <a:cubicBezTo>
                  <a:pt x="13293" y="11838"/>
                  <a:pt x="13191" y="11967"/>
                  <a:pt x="13144" y="12033"/>
                </a:cubicBezTo>
                <a:cubicBezTo>
                  <a:pt x="13104" y="12089"/>
                  <a:pt x="13015" y="12255"/>
                  <a:pt x="13018" y="12319"/>
                </a:cubicBezTo>
                <a:cubicBezTo>
                  <a:pt x="13022" y="12408"/>
                  <a:pt x="13071" y="12467"/>
                  <a:pt x="13144" y="12510"/>
                </a:cubicBezTo>
                <a:cubicBezTo>
                  <a:pt x="13232" y="12562"/>
                  <a:pt x="13319" y="12540"/>
                  <a:pt x="13398" y="12478"/>
                </a:cubicBezTo>
                <a:cubicBezTo>
                  <a:pt x="13492" y="12405"/>
                  <a:pt x="13521" y="12273"/>
                  <a:pt x="13526" y="12160"/>
                </a:cubicBezTo>
                <a:cubicBezTo>
                  <a:pt x="13532" y="12026"/>
                  <a:pt x="13520" y="11932"/>
                  <a:pt x="13462" y="11811"/>
                </a:cubicBezTo>
                <a:cubicBezTo>
                  <a:pt x="13433" y="11751"/>
                  <a:pt x="13434" y="11732"/>
                  <a:pt x="13398" y="11684"/>
                </a:cubicBezTo>
                <a:cubicBezTo>
                  <a:pt x="13445" y="11696"/>
                  <a:pt x="13497" y="11733"/>
                  <a:pt x="13526" y="11779"/>
                </a:cubicBezTo>
                <a:cubicBezTo>
                  <a:pt x="13550" y="11817"/>
                  <a:pt x="13611" y="11934"/>
                  <a:pt x="13621" y="11970"/>
                </a:cubicBezTo>
                <a:cubicBezTo>
                  <a:pt x="13646" y="12063"/>
                  <a:pt x="13652" y="12156"/>
                  <a:pt x="13652" y="12256"/>
                </a:cubicBezTo>
                <a:cubicBezTo>
                  <a:pt x="13652" y="12341"/>
                  <a:pt x="13652" y="12425"/>
                  <a:pt x="13652" y="12510"/>
                </a:cubicBezTo>
                <a:cubicBezTo>
                  <a:pt x="13652" y="12436"/>
                  <a:pt x="13652" y="12425"/>
                  <a:pt x="13652" y="12351"/>
                </a:cubicBezTo>
                <a:cubicBezTo>
                  <a:pt x="13652" y="12252"/>
                  <a:pt x="13680" y="12126"/>
                  <a:pt x="13716" y="12033"/>
                </a:cubicBezTo>
                <a:cubicBezTo>
                  <a:pt x="13755" y="11931"/>
                  <a:pt x="13799" y="11875"/>
                  <a:pt x="13875" y="11811"/>
                </a:cubicBezTo>
                <a:cubicBezTo>
                  <a:pt x="13948" y="11750"/>
                  <a:pt x="13968" y="11789"/>
                  <a:pt x="14034" y="11811"/>
                </a:cubicBezTo>
                <a:cubicBezTo>
                  <a:pt x="14044" y="11811"/>
                  <a:pt x="14055" y="11811"/>
                  <a:pt x="14065" y="11811"/>
                </a:cubicBezTo>
                <a:cubicBezTo>
                  <a:pt x="14065" y="11882"/>
                  <a:pt x="14068" y="11927"/>
                  <a:pt x="14002" y="11970"/>
                </a:cubicBezTo>
                <a:cubicBezTo>
                  <a:pt x="13943" y="12008"/>
                  <a:pt x="13853" y="12069"/>
                  <a:pt x="13811" y="12128"/>
                </a:cubicBezTo>
                <a:cubicBezTo>
                  <a:pt x="13792" y="12154"/>
                  <a:pt x="13677" y="12257"/>
                  <a:pt x="13684" y="12287"/>
                </a:cubicBezTo>
                <a:cubicBezTo>
                  <a:pt x="13695" y="12335"/>
                  <a:pt x="13728" y="12412"/>
                  <a:pt x="13780" y="12446"/>
                </a:cubicBezTo>
                <a:cubicBezTo>
                  <a:pt x="13866" y="12502"/>
                  <a:pt x="13940" y="12558"/>
                  <a:pt x="14034" y="12605"/>
                </a:cubicBezTo>
                <a:cubicBezTo>
                  <a:pt x="14095" y="12635"/>
                  <a:pt x="14113" y="12645"/>
                  <a:pt x="14160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5818320" y="3521160"/>
            <a:ext cx="1074600" cy="650880"/>
          </a:xfrm>
          <a:custGeom>
            <a:avLst/>
            <a:gdLst/>
            <a:ahLst/>
            <a:rect l="l" t="t" r="r" b="b"/>
            <a:pathLst>
              <a:path w="2985" h="1811">
                <a:moveTo>
                  <a:pt x="16256" y="10033"/>
                </a:moveTo>
                <a:cubicBezTo>
                  <a:pt x="16186" y="10056"/>
                  <a:pt x="16253" y="10091"/>
                  <a:pt x="16224" y="10160"/>
                </a:cubicBezTo>
                <a:cubicBezTo>
                  <a:pt x="16195" y="10230"/>
                  <a:pt x="16171" y="10325"/>
                  <a:pt x="16192" y="10414"/>
                </a:cubicBezTo>
                <a:cubicBezTo>
                  <a:pt x="16218" y="10524"/>
                  <a:pt x="16224" y="10615"/>
                  <a:pt x="16224" y="10732"/>
                </a:cubicBezTo>
                <a:cubicBezTo>
                  <a:pt x="16224" y="10862"/>
                  <a:pt x="16244" y="10993"/>
                  <a:pt x="16192" y="11112"/>
                </a:cubicBezTo>
                <a:cubicBezTo>
                  <a:pt x="16192" y="11207"/>
                  <a:pt x="16192" y="10955"/>
                  <a:pt x="16192" y="10954"/>
                </a:cubicBezTo>
                <a:cubicBezTo>
                  <a:pt x="16192" y="10799"/>
                  <a:pt x="16187" y="10658"/>
                  <a:pt x="16224" y="10509"/>
                </a:cubicBezTo>
                <a:cubicBezTo>
                  <a:pt x="16256" y="10380"/>
                  <a:pt x="16246" y="10213"/>
                  <a:pt x="16320" y="10096"/>
                </a:cubicBezTo>
                <a:cubicBezTo>
                  <a:pt x="16345" y="10056"/>
                  <a:pt x="16440" y="9933"/>
                  <a:pt x="16478" y="9906"/>
                </a:cubicBezTo>
                <a:cubicBezTo>
                  <a:pt x="16531" y="9868"/>
                  <a:pt x="16614" y="9822"/>
                  <a:pt x="16669" y="9811"/>
                </a:cubicBezTo>
                <a:cubicBezTo>
                  <a:pt x="16747" y="9796"/>
                  <a:pt x="16844" y="9811"/>
                  <a:pt x="16923" y="9811"/>
                </a:cubicBezTo>
              </a:path>
              <a:path w="2985" h="1811">
                <a:moveTo>
                  <a:pt x="17272" y="9906"/>
                </a:moveTo>
                <a:cubicBezTo>
                  <a:pt x="17287" y="10026"/>
                  <a:pt x="17304" y="10126"/>
                  <a:pt x="17304" y="10255"/>
                </a:cubicBezTo>
                <a:cubicBezTo>
                  <a:pt x="17304" y="10405"/>
                  <a:pt x="17272" y="10547"/>
                  <a:pt x="17272" y="10700"/>
                </a:cubicBezTo>
                <a:cubicBezTo>
                  <a:pt x="17272" y="10869"/>
                  <a:pt x="17272" y="11039"/>
                  <a:pt x="17272" y="11208"/>
                </a:cubicBezTo>
              </a:path>
              <a:path w="2985" h="1811">
                <a:moveTo>
                  <a:pt x="18129" y="9842"/>
                </a:moveTo>
                <a:cubicBezTo>
                  <a:pt x="18186" y="9842"/>
                  <a:pt x="18121" y="9813"/>
                  <a:pt x="18098" y="9811"/>
                </a:cubicBezTo>
                <a:cubicBezTo>
                  <a:pt x="18004" y="9804"/>
                  <a:pt x="17987" y="9831"/>
                  <a:pt x="17907" y="9874"/>
                </a:cubicBezTo>
                <a:cubicBezTo>
                  <a:pt x="17818" y="9922"/>
                  <a:pt x="17806" y="9956"/>
                  <a:pt x="17748" y="10033"/>
                </a:cubicBezTo>
                <a:cubicBezTo>
                  <a:pt x="17697" y="10100"/>
                  <a:pt x="17685" y="10101"/>
                  <a:pt x="17685" y="10192"/>
                </a:cubicBezTo>
                <a:cubicBezTo>
                  <a:pt x="17685" y="10267"/>
                  <a:pt x="17695" y="10240"/>
                  <a:pt x="17748" y="10287"/>
                </a:cubicBezTo>
                <a:cubicBezTo>
                  <a:pt x="17824" y="10355"/>
                  <a:pt x="17824" y="10315"/>
                  <a:pt x="17907" y="10350"/>
                </a:cubicBezTo>
                <a:cubicBezTo>
                  <a:pt x="17956" y="10371"/>
                  <a:pt x="18052" y="10415"/>
                  <a:pt x="18098" y="10446"/>
                </a:cubicBezTo>
                <a:cubicBezTo>
                  <a:pt x="18142" y="10476"/>
                  <a:pt x="18207" y="10585"/>
                  <a:pt x="18224" y="10636"/>
                </a:cubicBezTo>
                <a:cubicBezTo>
                  <a:pt x="18240" y="10685"/>
                  <a:pt x="18229" y="10791"/>
                  <a:pt x="18193" y="10827"/>
                </a:cubicBezTo>
                <a:cubicBezTo>
                  <a:pt x="18143" y="10877"/>
                  <a:pt x="18035" y="10961"/>
                  <a:pt x="17970" y="10986"/>
                </a:cubicBezTo>
                <a:cubicBezTo>
                  <a:pt x="17938" y="10999"/>
                  <a:pt x="17795" y="11002"/>
                  <a:pt x="17780" y="10954"/>
                </a:cubicBezTo>
                <a:cubicBezTo>
                  <a:pt x="17780" y="10933"/>
                  <a:pt x="17780" y="10911"/>
                  <a:pt x="17780" y="10890"/>
                </a:cubicBezTo>
              </a:path>
              <a:path w="2985" h="1811">
                <a:moveTo>
                  <a:pt x="18510" y="10160"/>
                </a:moveTo>
                <a:cubicBezTo>
                  <a:pt x="18566" y="10193"/>
                  <a:pt x="18602" y="10192"/>
                  <a:pt x="18669" y="10192"/>
                </a:cubicBezTo>
                <a:cubicBezTo>
                  <a:pt x="18742" y="10192"/>
                  <a:pt x="18800" y="10160"/>
                  <a:pt x="18860" y="10128"/>
                </a:cubicBezTo>
                <a:cubicBezTo>
                  <a:pt x="18922" y="10094"/>
                  <a:pt x="18988" y="10026"/>
                  <a:pt x="19050" y="10001"/>
                </a:cubicBezTo>
                <a:cubicBezTo>
                  <a:pt x="19098" y="9982"/>
                  <a:pt x="19065" y="9986"/>
                  <a:pt x="19114" y="9970"/>
                </a:cubicBezTo>
                <a:cubicBezTo>
                  <a:pt x="19107" y="9949"/>
                  <a:pt x="19084" y="9891"/>
                  <a:pt x="19050" y="9874"/>
                </a:cubicBezTo>
                <a:cubicBezTo>
                  <a:pt x="18986" y="9842"/>
                  <a:pt x="18925" y="9838"/>
                  <a:pt x="18860" y="9811"/>
                </a:cubicBezTo>
                <a:cubicBezTo>
                  <a:pt x="18790" y="9782"/>
                  <a:pt x="18698" y="9798"/>
                  <a:pt x="18637" y="9874"/>
                </a:cubicBezTo>
                <a:cubicBezTo>
                  <a:pt x="18577" y="9948"/>
                  <a:pt x="18524" y="10101"/>
                  <a:pt x="18510" y="10192"/>
                </a:cubicBezTo>
                <a:cubicBezTo>
                  <a:pt x="18492" y="10315"/>
                  <a:pt x="18510" y="10486"/>
                  <a:pt x="18542" y="10604"/>
                </a:cubicBezTo>
                <a:cubicBezTo>
                  <a:pt x="18562" y="10676"/>
                  <a:pt x="18627" y="10775"/>
                  <a:pt x="18701" y="10795"/>
                </a:cubicBezTo>
                <a:cubicBezTo>
                  <a:pt x="18772" y="10814"/>
                  <a:pt x="18850" y="10829"/>
                  <a:pt x="18923" y="10795"/>
                </a:cubicBezTo>
                <a:cubicBezTo>
                  <a:pt x="18996" y="10761"/>
                  <a:pt x="19055" y="10686"/>
                  <a:pt x="19114" y="10636"/>
                </a:cubicBezTo>
                <a:cubicBezTo>
                  <a:pt x="19124" y="10625"/>
                  <a:pt x="19135" y="10615"/>
                  <a:pt x="19145" y="10604"/>
                </a:cubicBezTo>
              </a:path>
              <a:path w="2985" h="1811">
                <a:moveTo>
                  <a:pt x="16161" y="11525"/>
                </a:moveTo>
                <a:cubicBezTo>
                  <a:pt x="16222" y="11562"/>
                  <a:pt x="16240" y="11557"/>
                  <a:pt x="16320" y="11557"/>
                </a:cubicBezTo>
                <a:cubicBezTo>
                  <a:pt x="16504" y="11557"/>
                  <a:pt x="16678" y="11543"/>
                  <a:pt x="16859" y="11525"/>
                </a:cubicBezTo>
                <a:cubicBezTo>
                  <a:pt x="17026" y="11509"/>
                  <a:pt x="17200" y="11499"/>
                  <a:pt x="17367" y="11494"/>
                </a:cubicBezTo>
                <a:cubicBezTo>
                  <a:pt x="17806" y="11482"/>
                  <a:pt x="18270" y="11467"/>
                  <a:pt x="18701" y="11525"/>
                </a:cubicBezTo>
                <a:cubicBezTo>
                  <a:pt x="18770" y="11534"/>
                  <a:pt x="18865" y="11514"/>
                  <a:pt x="18923" y="11557"/>
                </a:cubicBezTo>
                <a:cubicBezTo>
                  <a:pt x="18923" y="11568"/>
                  <a:pt x="18923" y="11578"/>
                  <a:pt x="18923" y="11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5943600" y="4389480"/>
            <a:ext cx="949320" cy="480960"/>
          </a:xfrm>
          <a:custGeom>
            <a:avLst/>
            <a:gdLst/>
            <a:ahLst/>
            <a:rect l="l" t="t" r="r" b="b"/>
            <a:pathLst>
              <a:path w="2636" h="1335">
                <a:moveTo>
                  <a:pt x="16542" y="12446"/>
                </a:moveTo>
                <a:cubicBezTo>
                  <a:pt x="16542" y="12795"/>
                  <a:pt x="16542" y="13779"/>
                  <a:pt x="16542" y="13430"/>
                </a:cubicBezTo>
                <a:cubicBezTo>
                  <a:pt x="16500" y="13305"/>
                  <a:pt x="16510" y="13184"/>
                  <a:pt x="16510" y="13049"/>
                </a:cubicBezTo>
                <a:cubicBezTo>
                  <a:pt x="16510" y="12883"/>
                  <a:pt x="16533" y="12702"/>
                  <a:pt x="16574" y="12541"/>
                </a:cubicBezTo>
                <a:cubicBezTo>
                  <a:pt x="16605" y="12420"/>
                  <a:pt x="16644" y="12359"/>
                  <a:pt x="16732" y="12287"/>
                </a:cubicBezTo>
                <a:cubicBezTo>
                  <a:pt x="16789" y="12240"/>
                  <a:pt x="16815" y="12207"/>
                  <a:pt x="16891" y="12192"/>
                </a:cubicBezTo>
              </a:path>
              <a:path w="2636" h="1335">
                <a:moveTo>
                  <a:pt x="17145" y="12287"/>
                </a:moveTo>
                <a:cubicBezTo>
                  <a:pt x="17145" y="12355"/>
                  <a:pt x="17190" y="12377"/>
                  <a:pt x="17177" y="12446"/>
                </a:cubicBezTo>
                <a:cubicBezTo>
                  <a:pt x="17151" y="12590"/>
                  <a:pt x="17119" y="12743"/>
                  <a:pt x="17113" y="12890"/>
                </a:cubicBezTo>
                <a:cubicBezTo>
                  <a:pt x="17107" y="13023"/>
                  <a:pt x="17079" y="13226"/>
                  <a:pt x="17145" y="13335"/>
                </a:cubicBezTo>
                <a:cubicBezTo>
                  <a:pt x="17202" y="13378"/>
                  <a:pt x="17236" y="13381"/>
                  <a:pt x="17304" y="13335"/>
                </a:cubicBezTo>
                <a:cubicBezTo>
                  <a:pt x="17375" y="13288"/>
                  <a:pt x="17408" y="13189"/>
                  <a:pt x="17431" y="13113"/>
                </a:cubicBezTo>
                <a:cubicBezTo>
                  <a:pt x="17477" y="12965"/>
                  <a:pt x="17494" y="12815"/>
                  <a:pt x="17526" y="12668"/>
                </a:cubicBezTo>
                <a:cubicBezTo>
                  <a:pt x="17543" y="12587"/>
                  <a:pt x="17570" y="12377"/>
                  <a:pt x="17621" y="12319"/>
                </a:cubicBezTo>
                <a:cubicBezTo>
                  <a:pt x="17632" y="12319"/>
                  <a:pt x="17642" y="12319"/>
                  <a:pt x="17653" y="12319"/>
                </a:cubicBezTo>
                <a:cubicBezTo>
                  <a:pt x="17653" y="12606"/>
                  <a:pt x="17639" y="12901"/>
                  <a:pt x="17685" y="13176"/>
                </a:cubicBezTo>
                <a:cubicBezTo>
                  <a:pt x="17698" y="13252"/>
                  <a:pt x="17676" y="13254"/>
                  <a:pt x="17748" y="13272"/>
                </a:cubicBezTo>
                <a:cubicBezTo>
                  <a:pt x="17816" y="13255"/>
                  <a:pt x="17819" y="13213"/>
                  <a:pt x="17844" y="13144"/>
                </a:cubicBezTo>
                <a:cubicBezTo>
                  <a:pt x="17875" y="13049"/>
                  <a:pt x="17885" y="13017"/>
                  <a:pt x="17907" y="12954"/>
                </a:cubicBezTo>
              </a:path>
              <a:path w="2636" h="1335">
                <a:moveTo>
                  <a:pt x="18066" y="12224"/>
                </a:moveTo>
                <a:cubicBezTo>
                  <a:pt x="18104" y="12300"/>
                  <a:pt x="18098" y="12348"/>
                  <a:pt x="18098" y="12446"/>
                </a:cubicBezTo>
                <a:cubicBezTo>
                  <a:pt x="18098" y="12711"/>
                  <a:pt x="18098" y="12975"/>
                  <a:pt x="18098" y="13240"/>
                </a:cubicBezTo>
                <a:cubicBezTo>
                  <a:pt x="18116" y="13209"/>
                  <a:pt x="18152" y="13122"/>
                  <a:pt x="18161" y="13049"/>
                </a:cubicBezTo>
                <a:cubicBezTo>
                  <a:pt x="18178" y="12904"/>
                  <a:pt x="18180" y="12747"/>
                  <a:pt x="18193" y="12605"/>
                </a:cubicBezTo>
                <a:cubicBezTo>
                  <a:pt x="18206" y="12462"/>
                  <a:pt x="18218" y="12379"/>
                  <a:pt x="18288" y="12256"/>
                </a:cubicBezTo>
                <a:cubicBezTo>
                  <a:pt x="18345" y="12156"/>
                  <a:pt x="18328" y="12214"/>
                  <a:pt x="18415" y="12192"/>
                </a:cubicBezTo>
                <a:cubicBezTo>
                  <a:pt x="18465" y="12293"/>
                  <a:pt x="18499" y="12398"/>
                  <a:pt x="18510" y="12510"/>
                </a:cubicBezTo>
                <a:cubicBezTo>
                  <a:pt x="18525" y="12672"/>
                  <a:pt x="18537" y="12827"/>
                  <a:pt x="18574" y="12986"/>
                </a:cubicBezTo>
                <a:cubicBezTo>
                  <a:pt x="18613" y="13153"/>
                  <a:pt x="18626" y="13272"/>
                  <a:pt x="18701" y="13430"/>
                </a:cubicBezTo>
                <a:cubicBezTo>
                  <a:pt x="18737" y="13506"/>
                  <a:pt x="18801" y="13552"/>
                  <a:pt x="18891" y="13526"/>
                </a:cubicBezTo>
                <a:cubicBezTo>
                  <a:pt x="18970" y="13503"/>
                  <a:pt x="19049" y="13369"/>
                  <a:pt x="19082" y="13303"/>
                </a:cubicBezTo>
                <a:cubicBezTo>
                  <a:pt x="19117" y="13198"/>
                  <a:pt x="19130" y="13157"/>
                  <a:pt x="19145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passing through (-2, 7) and (3, 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3"/>
          <p:cNvSpPr/>
          <p:nvPr/>
        </p:nvSpPr>
        <p:spPr>
          <a:xfrm>
            <a:off x="2846520" y="1211400"/>
            <a:ext cx="206280" cy="183960"/>
          </a:xfrm>
          <a:custGeom>
            <a:avLst/>
            <a:gdLst/>
            <a:ahLst/>
            <a:rect l="l" t="t" r="r" b="b"/>
            <a:pathLst>
              <a:path w="572" h="509">
                <a:moveTo>
                  <a:pt x="8033" y="3397"/>
                </a:moveTo>
                <a:cubicBezTo>
                  <a:pt x="8046" y="3463"/>
                  <a:pt x="8066" y="3526"/>
                  <a:pt x="8096" y="3588"/>
                </a:cubicBezTo>
                <a:cubicBezTo>
                  <a:pt x="8126" y="3650"/>
                  <a:pt x="8198" y="3688"/>
                  <a:pt x="8223" y="3746"/>
                </a:cubicBezTo>
                <a:cubicBezTo>
                  <a:pt x="8223" y="3778"/>
                  <a:pt x="8223" y="3789"/>
                  <a:pt x="8255" y="3778"/>
                </a:cubicBezTo>
              </a:path>
              <a:path w="572" h="509">
                <a:moveTo>
                  <a:pt x="8255" y="3366"/>
                </a:moveTo>
                <a:cubicBezTo>
                  <a:pt x="8213" y="3421"/>
                  <a:pt x="8170" y="3471"/>
                  <a:pt x="8128" y="3524"/>
                </a:cubicBezTo>
                <a:cubicBezTo>
                  <a:pt x="8075" y="3590"/>
                  <a:pt x="8050" y="3676"/>
                  <a:pt x="8001" y="3746"/>
                </a:cubicBezTo>
                <a:cubicBezTo>
                  <a:pt x="7972" y="3775"/>
                  <a:pt x="7966" y="3785"/>
                  <a:pt x="7938" y="3778"/>
                </a:cubicBezTo>
                <a:cubicBezTo>
                  <a:pt x="7928" y="3816"/>
                  <a:pt x="7916" y="3836"/>
                  <a:pt x="7906" y="3874"/>
                </a:cubicBezTo>
              </a:path>
              <a:path w="572" h="509">
                <a:moveTo>
                  <a:pt x="8446" y="3651"/>
                </a:moveTo>
                <a:cubicBezTo>
                  <a:pt x="8493" y="3732"/>
                  <a:pt x="8451" y="3733"/>
                  <a:pt x="8446" y="3810"/>
                </a:cubicBezTo>
                <a:cubicBezTo>
                  <a:pt x="8446" y="3831"/>
                  <a:pt x="8446" y="3853"/>
                  <a:pt x="8446" y="3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4"/>
          <p:cNvSpPr/>
          <p:nvPr/>
        </p:nvSpPr>
        <p:spPr>
          <a:xfrm>
            <a:off x="3417840" y="1200240"/>
            <a:ext cx="125640" cy="239760"/>
          </a:xfrm>
          <a:custGeom>
            <a:avLst/>
            <a:gdLst/>
            <a:ahLst/>
            <a:rect l="l" t="t" r="r" b="b"/>
            <a:pathLst>
              <a:path w="350" h="667">
                <a:moveTo>
                  <a:pt x="9493" y="3429"/>
                </a:moveTo>
                <a:cubicBezTo>
                  <a:pt x="9493" y="3497"/>
                  <a:pt x="9498" y="3593"/>
                  <a:pt x="9525" y="3651"/>
                </a:cubicBezTo>
                <a:cubicBezTo>
                  <a:pt x="9544" y="3691"/>
                  <a:pt x="9596" y="3738"/>
                  <a:pt x="9620" y="3746"/>
                </a:cubicBezTo>
              </a:path>
              <a:path w="350" h="667">
                <a:moveTo>
                  <a:pt x="9716" y="3334"/>
                </a:moveTo>
                <a:cubicBezTo>
                  <a:pt x="9702" y="3388"/>
                  <a:pt x="9679" y="3436"/>
                  <a:pt x="9652" y="3492"/>
                </a:cubicBezTo>
                <a:cubicBezTo>
                  <a:pt x="9610" y="3581"/>
                  <a:pt x="9624" y="3692"/>
                  <a:pt x="9588" y="3778"/>
                </a:cubicBezTo>
                <a:cubicBezTo>
                  <a:pt x="9560" y="3844"/>
                  <a:pt x="9541" y="3923"/>
                  <a:pt x="9525" y="4000"/>
                </a:cubicBezTo>
              </a:path>
              <a:path w="350" h="667">
                <a:moveTo>
                  <a:pt x="9842" y="3651"/>
                </a:moveTo>
                <a:cubicBezTo>
                  <a:pt x="9842" y="3738"/>
                  <a:pt x="9792" y="3748"/>
                  <a:pt x="9779" y="3810"/>
                </a:cubicBezTo>
                <a:cubicBezTo>
                  <a:pt x="9779" y="3905"/>
                  <a:pt x="9779" y="3937"/>
                  <a:pt x="9779" y="4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5"/>
          <p:cNvSpPr/>
          <p:nvPr/>
        </p:nvSpPr>
        <p:spPr>
          <a:xfrm>
            <a:off x="4732200" y="1222200"/>
            <a:ext cx="250920" cy="206640"/>
          </a:xfrm>
          <a:custGeom>
            <a:avLst/>
            <a:gdLst/>
            <a:ahLst/>
            <a:rect l="l" t="t" r="r" b="b"/>
            <a:pathLst>
              <a:path w="700" h="573">
                <a:moveTo>
                  <a:pt x="13240" y="3397"/>
                </a:moveTo>
                <a:cubicBezTo>
                  <a:pt x="13240" y="3470"/>
                  <a:pt x="13230" y="3524"/>
                  <a:pt x="13272" y="3588"/>
                </a:cubicBezTo>
                <a:cubicBezTo>
                  <a:pt x="13323" y="3667"/>
                  <a:pt x="13362" y="3733"/>
                  <a:pt x="13430" y="3778"/>
                </a:cubicBezTo>
                <a:cubicBezTo>
                  <a:pt x="13471" y="3805"/>
                  <a:pt x="13484" y="3833"/>
                  <a:pt x="13494" y="3874"/>
                </a:cubicBezTo>
              </a:path>
              <a:path w="700" h="573">
                <a:moveTo>
                  <a:pt x="13462" y="3397"/>
                </a:moveTo>
                <a:cubicBezTo>
                  <a:pt x="13446" y="3459"/>
                  <a:pt x="13399" y="3525"/>
                  <a:pt x="13367" y="3588"/>
                </a:cubicBezTo>
                <a:cubicBezTo>
                  <a:pt x="13323" y="3676"/>
                  <a:pt x="13239" y="3750"/>
                  <a:pt x="13208" y="3842"/>
                </a:cubicBezTo>
                <a:cubicBezTo>
                  <a:pt x="13192" y="3891"/>
                  <a:pt x="13157" y="3918"/>
                  <a:pt x="13144" y="3969"/>
                </a:cubicBezTo>
              </a:path>
              <a:path w="700" h="573">
                <a:moveTo>
                  <a:pt x="13589" y="3683"/>
                </a:moveTo>
                <a:cubicBezTo>
                  <a:pt x="13646" y="3683"/>
                  <a:pt x="13666" y="3663"/>
                  <a:pt x="13716" y="3651"/>
                </a:cubicBezTo>
                <a:cubicBezTo>
                  <a:pt x="13702" y="3720"/>
                  <a:pt x="13688" y="3751"/>
                  <a:pt x="13652" y="3778"/>
                </a:cubicBezTo>
                <a:cubicBezTo>
                  <a:pt x="13616" y="3815"/>
                  <a:pt x="13606" y="3832"/>
                  <a:pt x="13621" y="3874"/>
                </a:cubicBezTo>
                <a:cubicBezTo>
                  <a:pt x="13695" y="3874"/>
                  <a:pt x="13769" y="3874"/>
                  <a:pt x="13843" y="3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6"/>
          <p:cNvSpPr/>
          <p:nvPr/>
        </p:nvSpPr>
        <p:spPr>
          <a:xfrm>
            <a:off x="5292720" y="1246320"/>
            <a:ext cx="228600" cy="217440"/>
          </a:xfrm>
          <a:custGeom>
            <a:avLst/>
            <a:gdLst/>
            <a:ahLst/>
            <a:rect l="l" t="t" r="r" b="b"/>
            <a:pathLst>
              <a:path w="636" h="604">
                <a:moveTo>
                  <a:pt x="14764" y="3461"/>
                </a:moveTo>
                <a:cubicBezTo>
                  <a:pt x="14764" y="3541"/>
                  <a:pt x="14738" y="3576"/>
                  <a:pt x="14732" y="3651"/>
                </a:cubicBezTo>
                <a:cubicBezTo>
                  <a:pt x="14728" y="3693"/>
                  <a:pt x="14732" y="3736"/>
                  <a:pt x="14732" y="3778"/>
                </a:cubicBezTo>
                <a:cubicBezTo>
                  <a:pt x="14782" y="3778"/>
                  <a:pt x="14827" y="3793"/>
                  <a:pt x="14859" y="3746"/>
                </a:cubicBezTo>
                <a:cubicBezTo>
                  <a:pt x="14912" y="3670"/>
                  <a:pt x="14886" y="3568"/>
                  <a:pt x="14922" y="3492"/>
                </a:cubicBezTo>
                <a:cubicBezTo>
                  <a:pt x="14933" y="3482"/>
                  <a:pt x="14943" y="3471"/>
                  <a:pt x="14954" y="3461"/>
                </a:cubicBezTo>
                <a:cubicBezTo>
                  <a:pt x="14954" y="3576"/>
                  <a:pt x="14941" y="3681"/>
                  <a:pt x="14922" y="3778"/>
                </a:cubicBezTo>
                <a:cubicBezTo>
                  <a:pt x="14909" y="3841"/>
                  <a:pt x="14926" y="3912"/>
                  <a:pt x="14891" y="3969"/>
                </a:cubicBezTo>
                <a:cubicBezTo>
                  <a:pt x="14878" y="3990"/>
                  <a:pt x="14796" y="4064"/>
                  <a:pt x="14796" y="4064"/>
                </a:cubicBezTo>
                <a:cubicBezTo>
                  <a:pt x="14756" y="4084"/>
                  <a:pt x="14726" y="4052"/>
                  <a:pt x="14700" y="4032"/>
                </a:cubicBezTo>
              </a:path>
              <a:path w="636" h="604">
                <a:moveTo>
                  <a:pt x="15113" y="3715"/>
                </a:moveTo>
                <a:cubicBezTo>
                  <a:pt x="15156" y="3683"/>
                  <a:pt x="15189" y="3664"/>
                  <a:pt x="15240" y="3651"/>
                </a:cubicBezTo>
                <a:cubicBezTo>
                  <a:pt x="15226" y="3720"/>
                  <a:pt x="15212" y="3751"/>
                  <a:pt x="15176" y="3778"/>
                </a:cubicBezTo>
                <a:cubicBezTo>
                  <a:pt x="15136" y="3808"/>
                  <a:pt x="15124" y="3832"/>
                  <a:pt x="15113" y="3874"/>
                </a:cubicBezTo>
                <a:cubicBezTo>
                  <a:pt x="15187" y="3874"/>
                  <a:pt x="15261" y="3874"/>
                  <a:pt x="15335" y="3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7"/>
          <p:cNvSpPr/>
          <p:nvPr/>
        </p:nvSpPr>
        <p:spPr>
          <a:xfrm>
            <a:off x="1085760" y="2182680"/>
            <a:ext cx="6607440" cy="1863720"/>
          </a:xfrm>
          <a:custGeom>
            <a:avLst/>
            <a:gdLst/>
            <a:ahLst/>
            <a:rect l="l" t="t" r="r" b="b"/>
            <a:pathLst>
              <a:path w="18353" h="5177">
                <a:moveTo>
                  <a:pt x="3905" y="6286"/>
                </a:moveTo>
                <a:cubicBezTo>
                  <a:pt x="3899" y="6340"/>
                  <a:pt x="3879" y="6397"/>
                  <a:pt x="3874" y="6445"/>
                </a:cubicBezTo>
                <a:cubicBezTo>
                  <a:pt x="3862" y="6562"/>
                  <a:pt x="3856" y="6683"/>
                  <a:pt x="3842" y="6794"/>
                </a:cubicBezTo>
                <a:cubicBezTo>
                  <a:pt x="3828" y="6904"/>
                  <a:pt x="3787" y="7331"/>
                  <a:pt x="3874" y="7398"/>
                </a:cubicBezTo>
                <a:cubicBezTo>
                  <a:pt x="3921" y="7434"/>
                  <a:pt x="3976" y="7454"/>
                  <a:pt x="4032" y="7398"/>
                </a:cubicBezTo>
                <a:cubicBezTo>
                  <a:pt x="4076" y="7354"/>
                  <a:pt x="4163" y="7198"/>
                  <a:pt x="4191" y="7144"/>
                </a:cubicBezTo>
                <a:cubicBezTo>
                  <a:pt x="4245" y="7041"/>
                  <a:pt x="4279" y="6905"/>
                  <a:pt x="4318" y="6794"/>
                </a:cubicBezTo>
                <a:cubicBezTo>
                  <a:pt x="4353" y="6693"/>
                  <a:pt x="4350" y="6614"/>
                  <a:pt x="4350" y="6509"/>
                </a:cubicBezTo>
                <a:cubicBezTo>
                  <a:pt x="4350" y="6450"/>
                  <a:pt x="4334" y="6462"/>
                  <a:pt x="4318" y="6414"/>
                </a:cubicBezTo>
                <a:cubicBezTo>
                  <a:pt x="4318" y="6818"/>
                  <a:pt x="4320" y="7221"/>
                  <a:pt x="4286" y="7620"/>
                </a:cubicBezTo>
                <a:cubicBezTo>
                  <a:pt x="4273" y="7776"/>
                  <a:pt x="4244" y="7912"/>
                  <a:pt x="4223" y="8064"/>
                </a:cubicBezTo>
                <a:cubicBezTo>
                  <a:pt x="4202" y="8216"/>
                  <a:pt x="4178" y="8259"/>
                  <a:pt x="4096" y="8382"/>
                </a:cubicBezTo>
                <a:cubicBezTo>
                  <a:pt x="4056" y="8443"/>
                  <a:pt x="3958" y="8522"/>
                  <a:pt x="3874" y="8509"/>
                </a:cubicBezTo>
                <a:cubicBezTo>
                  <a:pt x="3832" y="8502"/>
                  <a:pt x="3687" y="8454"/>
                  <a:pt x="3651" y="8414"/>
                </a:cubicBezTo>
                <a:cubicBezTo>
                  <a:pt x="3586" y="8343"/>
                  <a:pt x="3588" y="8248"/>
                  <a:pt x="3588" y="8160"/>
                </a:cubicBezTo>
                <a:cubicBezTo>
                  <a:pt x="3588" y="8139"/>
                  <a:pt x="3588" y="8117"/>
                  <a:pt x="3588" y="8096"/>
                </a:cubicBezTo>
              </a:path>
              <a:path w="18353" h="5177">
                <a:moveTo>
                  <a:pt x="4508" y="7271"/>
                </a:moveTo>
                <a:cubicBezTo>
                  <a:pt x="4508" y="7205"/>
                  <a:pt x="4526" y="7203"/>
                  <a:pt x="4540" y="7176"/>
                </a:cubicBezTo>
                <a:cubicBezTo>
                  <a:pt x="4562" y="7132"/>
                  <a:pt x="4581" y="7099"/>
                  <a:pt x="4636" y="7080"/>
                </a:cubicBezTo>
                <a:cubicBezTo>
                  <a:pt x="4646" y="7080"/>
                  <a:pt x="4657" y="7080"/>
                  <a:pt x="4667" y="7080"/>
                </a:cubicBezTo>
                <a:cubicBezTo>
                  <a:pt x="4718" y="7165"/>
                  <a:pt x="4683" y="7166"/>
                  <a:pt x="4667" y="7239"/>
                </a:cubicBezTo>
                <a:cubicBezTo>
                  <a:pt x="4651" y="7312"/>
                  <a:pt x="4617" y="7400"/>
                  <a:pt x="4604" y="7461"/>
                </a:cubicBezTo>
                <a:cubicBezTo>
                  <a:pt x="4592" y="7517"/>
                  <a:pt x="4489" y="7562"/>
                  <a:pt x="4540" y="7588"/>
                </a:cubicBezTo>
                <a:cubicBezTo>
                  <a:pt x="4571" y="7603"/>
                  <a:pt x="4585" y="7531"/>
                  <a:pt x="4636" y="7525"/>
                </a:cubicBezTo>
                <a:cubicBezTo>
                  <a:pt x="4681" y="7520"/>
                  <a:pt x="4711" y="7573"/>
                  <a:pt x="4731" y="7588"/>
                </a:cubicBezTo>
                <a:cubicBezTo>
                  <a:pt x="4788" y="7632"/>
                  <a:pt x="4808" y="7629"/>
                  <a:pt x="4826" y="7556"/>
                </a:cubicBezTo>
              </a:path>
              <a:path w="18353" h="5177">
                <a:moveTo>
                  <a:pt x="5207" y="7017"/>
                </a:moveTo>
                <a:cubicBezTo>
                  <a:pt x="5207" y="7027"/>
                  <a:pt x="5207" y="7038"/>
                  <a:pt x="5207" y="7048"/>
                </a:cubicBezTo>
                <a:cubicBezTo>
                  <a:pt x="5324" y="7048"/>
                  <a:pt x="5424" y="7046"/>
                  <a:pt x="5524" y="7017"/>
                </a:cubicBezTo>
                <a:cubicBezTo>
                  <a:pt x="5535" y="7017"/>
                  <a:pt x="5545" y="7017"/>
                  <a:pt x="5556" y="7017"/>
                </a:cubicBezTo>
              </a:path>
              <a:path w="18353" h="5177">
                <a:moveTo>
                  <a:pt x="5906" y="6540"/>
                </a:moveTo>
                <a:cubicBezTo>
                  <a:pt x="5897" y="6604"/>
                  <a:pt x="5878" y="6633"/>
                  <a:pt x="5874" y="6699"/>
                </a:cubicBezTo>
                <a:cubicBezTo>
                  <a:pt x="5868" y="6798"/>
                  <a:pt x="5862" y="6920"/>
                  <a:pt x="5842" y="7017"/>
                </a:cubicBezTo>
                <a:cubicBezTo>
                  <a:pt x="5823" y="7108"/>
                  <a:pt x="5776" y="7239"/>
                  <a:pt x="5810" y="7334"/>
                </a:cubicBezTo>
                <a:cubicBezTo>
                  <a:pt x="5829" y="7387"/>
                  <a:pt x="5873" y="7446"/>
                  <a:pt x="5937" y="7430"/>
                </a:cubicBezTo>
                <a:cubicBezTo>
                  <a:pt x="5998" y="7415"/>
                  <a:pt x="6100" y="7291"/>
                  <a:pt x="6128" y="7239"/>
                </a:cubicBezTo>
                <a:cubicBezTo>
                  <a:pt x="6193" y="7116"/>
                  <a:pt x="6213" y="6958"/>
                  <a:pt x="6255" y="6826"/>
                </a:cubicBezTo>
                <a:cubicBezTo>
                  <a:pt x="6280" y="6747"/>
                  <a:pt x="6340" y="6659"/>
                  <a:pt x="6318" y="6572"/>
                </a:cubicBezTo>
                <a:cubicBezTo>
                  <a:pt x="6318" y="6540"/>
                  <a:pt x="6318" y="6529"/>
                  <a:pt x="6286" y="6540"/>
                </a:cubicBezTo>
                <a:cubicBezTo>
                  <a:pt x="6263" y="6627"/>
                  <a:pt x="6272" y="6705"/>
                  <a:pt x="6255" y="6794"/>
                </a:cubicBezTo>
                <a:cubicBezTo>
                  <a:pt x="6228" y="6932"/>
                  <a:pt x="6246" y="7069"/>
                  <a:pt x="6223" y="7207"/>
                </a:cubicBezTo>
                <a:cubicBezTo>
                  <a:pt x="6200" y="7343"/>
                  <a:pt x="6213" y="7484"/>
                  <a:pt x="6191" y="7620"/>
                </a:cubicBezTo>
                <a:cubicBezTo>
                  <a:pt x="6173" y="7729"/>
                  <a:pt x="6161" y="7865"/>
                  <a:pt x="6128" y="7969"/>
                </a:cubicBezTo>
                <a:cubicBezTo>
                  <a:pt x="6104" y="8046"/>
                  <a:pt x="6001" y="8174"/>
                  <a:pt x="5937" y="8223"/>
                </a:cubicBezTo>
                <a:cubicBezTo>
                  <a:pt x="5874" y="8271"/>
                  <a:pt x="5798" y="8310"/>
                  <a:pt x="5715" y="8287"/>
                </a:cubicBezTo>
                <a:cubicBezTo>
                  <a:pt x="5623" y="8261"/>
                  <a:pt x="5572" y="8117"/>
                  <a:pt x="5556" y="8033"/>
                </a:cubicBezTo>
                <a:cubicBezTo>
                  <a:pt x="5556" y="8012"/>
                  <a:pt x="5556" y="7990"/>
                  <a:pt x="5556" y="7969"/>
                </a:cubicBezTo>
              </a:path>
              <a:path w="18353" h="5177">
                <a:moveTo>
                  <a:pt x="6540" y="7207"/>
                </a:moveTo>
                <a:cubicBezTo>
                  <a:pt x="6540" y="7355"/>
                  <a:pt x="6540" y="7504"/>
                  <a:pt x="6540" y="7652"/>
                </a:cubicBezTo>
              </a:path>
              <a:path w="18353" h="5177">
                <a:moveTo>
                  <a:pt x="3016" y="8446"/>
                </a:moveTo>
                <a:cubicBezTo>
                  <a:pt x="3054" y="8464"/>
                  <a:pt x="3059" y="8477"/>
                  <a:pt x="3143" y="8477"/>
                </a:cubicBezTo>
                <a:cubicBezTo>
                  <a:pt x="3241" y="8477"/>
                  <a:pt x="3324" y="8446"/>
                  <a:pt x="3429" y="8446"/>
                </a:cubicBezTo>
                <a:cubicBezTo>
                  <a:pt x="4118" y="8446"/>
                  <a:pt x="4807" y="8444"/>
                  <a:pt x="5493" y="8477"/>
                </a:cubicBezTo>
                <a:cubicBezTo>
                  <a:pt x="5758" y="8490"/>
                  <a:pt x="6022" y="8493"/>
                  <a:pt x="6286" y="8509"/>
                </a:cubicBezTo>
                <a:cubicBezTo>
                  <a:pt x="6486" y="8521"/>
                  <a:pt x="6661" y="8547"/>
                  <a:pt x="6858" y="8572"/>
                </a:cubicBezTo>
                <a:cubicBezTo>
                  <a:pt x="6945" y="8572"/>
                  <a:pt x="6970" y="8569"/>
                  <a:pt x="7017" y="8604"/>
                </a:cubicBezTo>
              </a:path>
              <a:path w="18353" h="5177">
                <a:moveTo>
                  <a:pt x="3905" y="8985"/>
                </a:moveTo>
                <a:cubicBezTo>
                  <a:pt x="3937" y="8985"/>
                  <a:pt x="3947" y="8985"/>
                  <a:pt x="3937" y="8954"/>
                </a:cubicBezTo>
                <a:cubicBezTo>
                  <a:pt x="3985" y="9013"/>
                  <a:pt x="4006" y="9073"/>
                  <a:pt x="4032" y="9144"/>
                </a:cubicBezTo>
                <a:cubicBezTo>
                  <a:pt x="4076" y="9264"/>
                  <a:pt x="4104" y="9412"/>
                  <a:pt x="4159" y="9525"/>
                </a:cubicBezTo>
                <a:cubicBezTo>
                  <a:pt x="4222" y="9656"/>
                  <a:pt x="4277" y="9778"/>
                  <a:pt x="4350" y="9906"/>
                </a:cubicBezTo>
                <a:cubicBezTo>
                  <a:pt x="4384" y="9965"/>
                  <a:pt x="4430" y="10036"/>
                  <a:pt x="4445" y="10096"/>
                </a:cubicBezTo>
              </a:path>
              <a:path w="18353" h="5177">
                <a:moveTo>
                  <a:pt x="4350" y="9080"/>
                </a:moveTo>
                <a:cubicBezTo>
                  <a:pt x="4316" y="9182"/>
                  <a:pt x="4304" y="9266"/>
                  <a:pt x="4254" y="9366"/>
                </a:cubicBezTo>
                <a:cubicBezTo>
                  <a:pt x="4186" y="9502"/>
                  <a:pt x="4137" y="9649"/>
                  <a:pt x="4064" y="9779"/>
                </a:cubicBezTo>
                <a:cubicBezTo>
                  <a:pt x="4007" y="9880"/>
                  <a:pt x="3971" y="10000"/>
                  <a:pt x="3905" y="10096"/>
                </a:cubicBezTo>
                <a:cubicBezTo>
                  <a:pt x="3874" y="10128"/>
                  <a:pt x="3863" y="10139"/>
                  <a:pt x="3842" y="10160"/>
                </a:cubicBezTo>
              </a:path>
              <a:path w="18353" h="5177">
                <a:moveTo>
                  <a:pt x="4477" y="9747"/>
                </a:moveTo>
                <a:cubicBezTo>
                  <a:pt x="4501" y="9729"/>
                  <a:pt x="4571" y="9669"/>
                  <a:pt x="4604" y="9684"/>
                </a:cubicBezTo>
                <a:cubicBezTo>
                  <a:pt x="4675" y="9716"/>
                  <a:pt x="4644" y="9768"/>
                  <a:pt x="4636" y="9811"/>
                </a:cubicBezTo>
                <a:cubicBezTo>
                  <a:pt x="4627" y="9862"/>
                  <a:pt x="4630" y="9927"/>
                  <a:pt x="4604" y="9970"/>
                </a:cubicBezTo>
                <a:cubicBezTo>
                  <a:pt x="4593" y="9988"/>
                  <a:pt x="4548" y="10091"/>
                  <a:pt x="4540" y="10096"/>
                </a:cubicBezTo>
                <a:cubicBezTo>
                  <a:pt x="4492" y="10127"/>
                  <a:pt x="4487" y="10103"/>
                  <a:pt x="4540" y="10096"/>
                </a:cubicBezTo>
                <a:cubicBezTo>
                  <a:pt x="4592" y="10090"/>
                  <a:pt x="4565" y="10065"/>
                  <a:pt x="4636" y="10065"/>
                </a:cubicBezTo>
                <a:cubicBezTo>
                  <a:pt x="4693" y="10065"/>
                  <a:pt x="4711" y="10090"/>
                  <a:pt x="4762" y="10096"/>
                </a:cubicBezTo>
                <a:cubicBezTo>
                  <a:pt x="4814" y="10102"/>
                  <a:pt x="4786" y="10128"/>
                  <a:pt x="4858" y="10128"/>
                </a:cubicBezTo>
              </a:path>
              <a:path w="18353" h="5177">
                <a:moveTo>
                  <a:pt x="5112" y="9588"/>
                </a:moveTo>
                <a:cubicBezTo>
                  <a:pt x="5176" y="9604"/>
                  <a:pt x="5193" y="9620"/>
                  <a:pt x="5270" y="9620"/>
                </a:cubicBezTo>
                <a:cubicBezTo>
                  <a:pt x="5334" y="9620"/>
                  <a:pt x="5397" y="9620"/>
                  <a:pt x="5461" y="9620"/>
                </a:cubicBezTo>
              </a:path>
              <a:path w="18353" h="5177">
                <a:moveTo>
                  <a:pt x="5810" y="9208"/>
                </a:moveTo>
                <a:cubicBezTo>
                  <a:pt x="5810" y="9268"/>
                  <a:pt x="5781" y="9308"/>
                  <a:pt x="5778" y="9366"/>
                </a:cubicBezTo>
                <a:cubicBezTo>
                  <a:pt x="5772" y="9481"/>
                  <a:pt x="5763" y="9572"/>
                  <a:pt x="5747" y="9684"/>
                </a:cubicBezTo>
                <a:cubicBezTo>
                  <a:pt x="5736" y="9766"/>
                  <a:pt x="5773" y="9808"/>
                  <a:pt x="5778" y="9874"/>
                </a:cubicBezTo>
                <a:cubicBezTo>
                  <a:pt x="5783" y="9946"/>
                  <a:pt x="5803" y="9973"/>
                  <a:pt x="5810" y="10033"/>
                </a:cubicBezTo>
                <a:cubicBezTo>
                  <a:pt x="5812" y="10053"/>
                  <a:pt x="5827" y="10101"/>
                  <a:pt x="5842" y="10128"/>
                </a:cubicBezTo>
                <a:cubicBezTo>
                  <a:pt x="5867" y="10173"/>
                  <a:pt x="5881" y="10218"/>
                  <a:pt x="5937" y="10224"/>
                </a:cubicBezTo>
                <a:cubicBezTo>
                  <a:pt x="5948" y="10224"/>
                  <a:pt x="5958" y="10224"/>
                  <a:pt x="5969" y="10224"/>
                </a:cubicBezTo>
              </a:path>
              <a:path w="18353" h="5177">
                <a:moveTo>
                  <a:pt x="6160" y="9271"/>
                </a:moveTo>
                <a:cubicBezTo>
                  <a:pt x="6128" y="9282"/>
                  <a:pt x="6095" y="9324"/>
                  <a:pt x="6064" y="9366"/>
                </a:cubicBezTo>
                <a:cubicBezTo>
                  <a:pt x="5983" y="9477"/>
                  <a:pt x="5930" y="9609"/>
                  <a:pt x="5842" y="9716"/>
                </a:cubicBezTo>
                <a:cubicBezTo>
                  <a:pt x="5760" y="9815"/>
                  <a:pt x="5700" y="9927"/>
                  <a:pt x="5620" y="10033"/>
                </a:cubicBezTo>
                <a:cubicBezTo>
                  <a:pt x="5559" y="10114"/>
                  <a:pt x="5500" y="10183"/>
                  <a:pt x="5429" y="10255"/>
                </a:cubicBezTo>
                <a:cubicBezTo>
                  <a:pt x="5383" y="10302"/>
                  <a:pt x="5417" y="10302"/>
                  <a:pt x="5366" y="10319"/>
                </a:cubicBezTo>
              </a:path>
              <a:path w="18353" h="5177">
                <a:moveTo>
                  <a:pt x="6223" y="10065"/>
                </a:moveTo>
                <a:cubicBezTo>
                  <a:pt x="6223" y="10181"/>
                  <a:pt x="6223" y="10298"/>
                  <a:pt x="6223" y="10414"/>
                </a:cubicBezTo>
              </a:path>
              <a:path w="18353" h="5177">
                <a:moveTo>
                  <a:pt x="7334" y="8572"/>
                </a:moveTo>
                <a:cubicBezTo>
                  <a:pt x="7402" y="8572"/>
                  <a:pt x="7424" y="8545"/>
                  <a:pt x="7493" y="8541"/>
                </a:cubicBezTo>
                <a:cubicBezTo>
                  <a:pt x="7545" y="8538"/>
                  <a:pt x="7600" y="8541"/>
                  <a:pt x="7652" y="8541"/>
                </a:cubicBezTo>
              </a:path>
              <a:path w="18353" h="5177">
                <a:moveTo>
                  <a:pt x="7366" y="8985"/>
                </a:moveTo>
                <a:cubicBezTo>
                  <a:pt x="7445" y="8985"/>
                  <a:pt x="7493" y="8998"/>
                  <a:pt x="7556" y="9017"/>
                </a:cubicBezTo>
                <a:cubicBezTo>
                  <a:pt x="7588" y="9017"/>
                  <a:pt x="7599" y="9017"/>
                  <a:pt x="7620" y="9017"/>
                </a:cubicBezTo>
              </a:path>
              <a:path w="18353" h="5177">
                <a:moveTo>
                  <a:pt x="8350" y="7493"/>
                </a:moveTo>
                <a:cubicBezTo>
                  <a:pt x="8431" y="7493"/>
                  <a:pt x="8468" y="7474"/>
                  <a:pt x="8541" y="7461"/>
                </a:cubicBezTo>
                <a:cubicBezTo>
                  <a:pt x="8590" y="7452"/>
                  <a:pt x="8650" y="7461"/>
                  <a:pt x="8700" y="7461"/>
                </a:cubicBezTo>
              </a:path>
              <a:path w="18353" h="5177">
                <a:moveTo>
                  <a:pt x="9493" y="7398"/>
                </a:moveTo>
                <a:cubicBezTo>
                  <a:pt x="9522" y="7360"/>
                  <a:pt x="9552" y="7292"/>
                  <a:pt x="9525" y="7239"/>
                </a:cubicBezTo>
                <a:cubicBezTo>
                  <a:pt x="9493" y="7175"/>
                  <a:pt x="9478" y="7112"/>
                  <a:pt x="9398" y="7080"/>
                </a:cubicBezTo>
                <a:cubicBezTo>
                  <a:pt x="9337" y="7056"/>
                  <a:pt x="9276" y="7048"/>
                  <a:pt x="9208" y="7048"/>
                </a:cubicBezTo>
                <a:cubicBezTo>
                  <a:pt x="9149" y="7048"/>
                  <a:pt x="9050" y="7085"/>
                  <a:pt x="9017" y="7144"/>
                </a:cubicBezTo>
                <a:cubicBezTo>
                  <a:pt x="8981" y="7210"/>
                  <a:pt x="9023" y="7370"/>
                  <a:pt x="9049" y="7430"/>
                </a:cubicBezTo>
                <a:cubicBezTo>
                  <a:pt x="9094" y="7532"/>
                  <a:pt x="9162" y="7623"/>
                  <a:pt x="9208" y="7715"/>
                </a:cubicBezTo>
                <a:cubicBezTo>
                  <a:pt x="9249" y="7798"/>
                  <a:pt x="9319" y="7943"/>
                  <a:pt x="9334" y="8033"/>
                </a:cubicBezTo>
                <a:cubicBezTo>
                  <a:pt x="9354" y="8153"/>
                  <a:pt x="9353" y="8207"/>
                  <a:pt x="9334" y="8318"/>
                </a:cubicBezTo>
                <a:cubicBezTo>
                  <a:pt x="9313" y="8441"/>
                  <a:pt x="9302" y="8400"/>
                  <a:pt x="9208" y="8446"/>
                </a:cubicBezTo>
                <a:cubicBezTo>
                  <a:pt x="9167" y="8466"/>
                  <a:pt x="9134" y="8489"/>
                  <a:pt x="9112" y="8446"/>
                </a:cubicBezTo>
                <a:cubicBezTo>
                  <a:pt x="9094" y="8410"/>
                  <a:pt x="9071" y="8293"/>
                  <a:pt x="9080" y="8255"/>
                </a:cubicBezTo>
                <a:cubicBezTo>
                  <a:pt x="9100" y="8165"/>
                  <a:pt x="9119" y="8056"/>
                  <a:pt x="9144" y="7969"/>
                </a:cubicBezTo>
                <a:cubicBezTo>
                  <a:pt x="9168" y="7888"/>
                  <a:pt x="9257" y="7791"/>
                  <a:pt x="9303" y="7715"/>
                </a:cubicBezTo>
                <a:cubicBezTo>
                  <a:pt x="9344" y="7648"/>
                  <a:pt x="9433" y="7512"/>
                  <a:pt x="9493" y="7461"/>
                </a:cubicBezTo>
                <a:cubicBezTo>
                  <a:pt x="9559" y="7405"/>
                  <a:pt x="9567" y="7361"/>
                  <a:pt x="9620" y="7302"/>
                </a:cubicBezTo>
                <a:cubicBezTo>
                  <a:pt x="9631" y="7292"/>
                  <a:pt x="9641" y="7281"/>
                  <a:pt x="9652" y="7271"/>
                </a:cubicBezTo>
              </a:path>
              <a:path w="18353" h="5177">
                <a:moveTo>
                  <a:pt x="9970" y="7906"/>
                </a:moveTo>
                <a:cubicBezTo>
                  <a:pt x="9959" y="7895"/>
                  <a:pt x="9949" y="7885"/>
                  <a:pt x="9938" y="7874"/>
                </a:cubicBezTo>
                <a:cubicBezTo>
                  <a:pt x="10083" y="7874"/>
                  <a:pt x="10214" y="7883"/>
                  <a:pt x="10350" y="7906"/>
                </a:cubicBezTo>
                <a:cubicBezTo>
                  <a:pt x="10460" y="7924"/>
                  <a:pt x="10588" y="7906"/>
                  <a:pt x="10700" y="7906"/>
                </a:cubicBezTo>
              </a:path>
              <a:path w="18353" h="5177">
                <a:moveTo>
                  <a:pt x="10795" y="7461"/>
                </a:moveTo>
                <a:cubicBezTo>
                  <a:pt x="10918" y="7461"/>
                  <a:pt x="11029" y="7445"/>
                  <a:pt x="11144" y="7430"/>
                </a:cubicBezTo>
                <a:cubicBezTo>
                  <a:pt x="11240" y="7418"/>
                  <a:pt x="11337" y="7403"/>
                  <a:pt x="11430" y="7398"/>
                </a:cubicBezTo>
                <a:cubicBezTo>
                  <a:pt x="11482" y="7395"/>
                  <a:pt x="11536" y="7398"/>
                  <a:pt x="11589" y="7398"/>
                </a:cubicBezTo>
                <a:cubicBezTo>
                  <a:pt x="11574" y="7459"/>
                  <a:pt x="11509" y="7528"/>
                  <a:pt x="11494" y="7588"/>
                </a:cubicBezTo>
                <a:cubicBezTo>
                  <a:pt x="11470" y="7685"/>
                  <a:pt x="11471" y="7782"/>
                  <a:pt x="11430" y="7874"/>
                </a:cubicBezTo>
                <a:cubicBezTo>
                  <a:pt x="11392" y="7958"/>
                  <a:pt x="11393" y="8044"/>
                  <a:pt x="11366" y="8128"/>
                </a:cubicBezTo>
                <a:cubicBezTo>
                  <a:pt x="11345" y="8193"/>
                  <a:pt x="11320" y="8261"/>
                  <a:pt x="11303" y="8318"/>
                </a:cubicBezTo>
                <a:cubicBezTo>
                  <a:pt x="11303" y="8354"/>
                  <a:pt x="11300" y="8368"/>
                  <a:pt x="11271" y="8382"/>
                </a:cubicBezTo>
              </a:path>
              <a:path w="18353" h="5177">
                <a:moveTo>
                  <a:pt x="8731" y="8954"/>
                </a:moveTo>
                <a:cubicBezTo>
                  <a:pt x="8779" y="8948"/>
                  <a:pt x="8823" y="8928"/>
                  <a:pt x="8858" y="8922"/>
                </a:cubicBezTo>
                <a:cubicBezTo>
                  <a:pt x="9354" y="8839"/>
                  <a:pt x="9952" y="8916"/>
                  <a:pt x="10446" y="8954"/>
                </a:cubicBezTo>
                <a:cubicBezTo>
                  <a:pt x="10805" y="8982"/>
                  <a:pt x="11174" y="8944"/>
                  <a:pt x="11525" y="8985"/>
                </a:cubicBezTo>
                <a:cubicBezTo>
                  <a:pt x="11662" y="9001"/>
                  <a:pt x="11736" y="8985"/>
                  <a:pt x="11874" y="8985"/>
                </a:cubicBezTo>
              </a:path>
              <a:path w="18353" h="5177">
                <a:moveTo>
                  <a:pt x="8922" y="9652"/>
                </a:moveTo>
                <a:cubicBezTo>
                  <a:pt x="8932" y="9611"/>
                  <a:pt x="8971" y="9545"/>
                  <a:pt x="9017" y="9525"/>
                </a:cubicBezTo>
                <a:cubicBezTo>
                  <a:pt x="9073" y="9500"/>
                  <a:pt x="9101" y="9420"/>
                  <a:pt x="9144" y="9398"/>
                </a:cubicBezTo>
                <a:cubicBezTo>
                  <a:pt x="9205" y="9368"/>
                  <a:pt x="9292" y="9366"/>
                  <a:pt x="9366" y="9366"/>
                </a:cubicBezTo>
                <a:cubicBezTo>
                  <a:pt x="9420" y="9366"/>
                  <a:pt x="9480" y="9408"/>
                  <a:pt x="9493" y="9462"/>
                </a:cubicBezTo>
                <a:cubicBezTo>
                  <a:pt x="9510" y="9531"/>
                  <a:pt x="9492" y="9598"/>
                  <a:pt x="9462" y="9652"/>
                </a:cubicBezTo>
                <a:cubicBezTo>
                  <a:pt x="9412" y="9740"/>
                  <a:pt x="9349" y="9753"/>
                  <a:pt x="9271" y="9811"/>
                </a:cubicBezTo>
                <a:cubicBezTo>
                  <a:pt x="9225" y="9845"/>
                  <a:pt x="9173" y="9868"/>
                  <a:pt x="9112" y="9874"/>
                </a:cubicBezTo>
                <a:cubicBezTo>
                  <a:pt x="9101" y="9874"/>
                  <a:pt x="9091" y="9874"/>
                  <a:pt x="9080" y="9874"/>
                </a:cubicBezTo>
                <a:cubicBezTo>
                  <a:pt x="9111" y="9866"/>
                  <a:pt x="9180" y="9857"/>
                  <a:pt x="9208" y="9842"/>
                </a:cubicBezTo>
                <a:cubicBezTo>
                  <a:pt x="9290" y="9797"/>
                  <a:pt x="9269" y="9818"/>
                  <a:pt x="9366" y="9842"/>
                </a:cubicBezTo>
                <a:cubicBezTo>
                  <a:pt x="9437" y="9859"/>
                  <a:pt x="9458" y="9903"/>
                  <a:pt x="9493" y="9970"/>
                </a:cubicBezTo>
                <a:cubicBezTo>
                  <a:pt x="9532" y="10045"/>
                  <a:pt x="9552" y="10141"/>
                  <a:pt x="9557" y="10224"/>
                </a:cubicBezTo>
                <a:cubicBezTo>
                  <a:pt x="9563" y="10335"/>
                  <a:pt x="9515" y="10378"/>
                  <a:pt x="9493" y="10478"/>
                </a:cubicBezTo>
                <a:cubicBezTo>
                  <a:pt x="9472" y="10572"/>
                  <a:pt x="9443" y="10638"/>
                  <a:pt x="9366" y="10700"/>
                </a:cubicBezTo>
                <a:cubicBezTo>
                  <a:pt x="9309" y="10746"/>
                  <a:pt x="9243" y="10732"/>
                  <a:pt x="9176" y="10732"/>
                </a:cubicBezTo>
                <a:cubicBezTo>
                  <a:pt x="9049" y="10732"/>
                  <a:pt x="9034" y="10668"/>
                  <a:pt x="8954" y="10604"/>
                </a:cubicBezTo>
                <a:cubicBezTo>
                  <a:pt x="8871" y="10538"/>
                  <a:pt x="8877" y="10533"/>
                  <a:pt x="8826" y="10446"/>
                </a:cubicBezTo>
                <a:cubicBezTo>
                  <a:pt x="8780" y="10368"/>
                  <a:pt x="8802" y="10360"/>
                  <a:pt x="8826" y="10319"/>
                </a:cubicBezTo>
              </a:path>
              <a:path w="18353" h="5177">
                <a:moveTo>
                  <a:pt x="9906" y="10065"/>
                </a:moveTo>
                <a:cubicBezTo>
                  <a:pt x="9834" y="10065"/>
                  <a:pt x="9946" y="10093"/>
                  <a:pt x="9970" y="10096"/>
                </a:cubicBezTo>
                <a:cubicBezTo>
                  <a:pt x="10087" y="10109"/>
                  <a:pt x="10208" y="10113"/>
                  <a:pt x="10319" y="10128"/>
                </a:cubicBezTo>
                <a:cubicBezTo>
                  <a:pt x="10406" y="10139"/>
                  <a:pt x="10717" y="10128"/>
                  <a:pt x="10700" y="10128"/>
                </a:cubicBezTo>
              </a:path>
              <a:path w="18353" h="5177">
                <a:moveTo>
                  <a:pt x="10414" y="9684"/>
                </a:moveTo>
                <a:cubicBezTo>
                  <a:pt x="10414" y="9764"/>
                  <a:pt x="10395" y="9801"/>
                  <a:pt x="10382" y="9874"/>
                </a:cubicBezTo>
                <a:cubicBezTo>
                  <a:pt x="10363" y="9981"/>
                  <a:pt x="10351" y="10086"/>
                  <a:pt x="10319" y="10192"/>
                </a:cubicBezTo>
                <a:cubicBezTo>
                  <a:pt x="10285" y="10303"/>
                  <a:pt x="10261" y="10425"/>
                  <a:pt x="10255" y="10541"/>
                </a:cubicBezTo>
                <a:cubicBezTo>
                  <a:pt x="10250" y="10630"/>
                  <a:pt x="10265" y="10691"/>
                  <a:pt x="10287" y="10763"/>
                </a:cubicBezTo>
                <a:cubicBezTo>
                  <a:pt x="10287" y="10774"/>
                  <a:pt x="10287" y="10784"/>
                  <a:pt x="10287" y="10795"/>
                </a:cubicBezTo>
              </a:path>
              <a:path w="18353" h="5177">
                <a:moveTo>
                  <a:pt x="11112" y="9779"/>
                </a:moveTo>
                <a:cubicBezTo>
                  <a:pt x="11127" y="9750"/>
                  <a:pt x="11136" y="9666"/>
                  <a:pt x="11176" y="9652"/>
                </a:cubicBezTo>
                <a:cubicBezTo>
                  <a:pt x="11230" y="9633"/>
                  <a:pt x="11281" y="9601"/>
                  <a:pt x="11335" y="9588"/>
                </a:cubicBezTo>
                <a:cubicBezTo>
                  <a:pt x="11393" y="9574"/>
                  <a:pt x="11418" y="9596"/>
                  <a:pt x="11462" y="9620"/>
                </a:cubicBezTo>
                <a:cubicBezTo>
                  <a:pt x="11535" y="9659"/>
                  <a:pt x="11520" y="9652"/>
                  <a:pt x="11525" y="9747"/>
                </a:cubicBezTo>
                <a:cubicBezTo>
                  <a:pt x="11529" y="9829"/>
                  <a:pt x="11495" y="9927"/>
                  <a:pt x="11462" y="10001"/>
                </a:cubicBezTo>
                <a:cubicBezTo>
                  <a:pt x="11415" y="10106"/>
                  <a:pt x="11352" y="10186"/>
                  <a:pt x="11303" y="10287"/>
                </a:cubicBezTo>
                <a:cubicBezTo>
                  <a:pt x="11262" y="10373"/>
                  <a:pt x="11189" y="10425"/>
                  <a:pt x="11144" y="10509"/>
                </a:cubicBezTo>
                <a:cubicBezTo>
                  <a:pt x="11108" y="10576"/>
                  <a:pt x="11067" y="10643"/>
                  <a:pt x="11017" y="10700"/>
                </a:cubicBezTo>
                <a:cubicBezTo>
                  <a:pt x="10978" y="10744"/>
                  <a:pt x="10979" y="10764"/>
                  <a:pt x="10954" y="10795"/>
                </a:cubicBezTo>
                <a:cubicBezTo>
                  <a:pt x="10974" y="10775"/>
                  <a:pt x="11019" y="10755"/>
                  <a:pt x="11049" y="10732"/>
                </a:cubicBezTo>
                <a:cubicBezTo>
                  <a:pt x="11100" y="10694"/>
                  <a:pt x="11115" y="10650"/>
                  <a:pt x="11176" y="10636"/>
                </a:cubicBezTo>
                <a:cubicBezTo>
                  <a:pt x="11241" y="10621"/>
                  <a:pt x="11247" y="10648"/>
                  <a:pt x="11271" y="10668"/>
                </a:cubicBezTo>
                <a:cubicBezTo>
                  <a:pt x="11321" y="10708"/>
                  <a:pt x="11312" y="10774"/>
                  <a:pt x="11366" y="10827"/>
                </a:cubicBezTo>
                <a:cubicBezTo>
                  <a:pt x="11400" y="10861"/>
                  <a:pt x="11451" y="10910"/>
                  <a:pt x="11494" y="10922"/>
                </a:cubicBezTo>
                <a:cubicBezTo>
                  <a:pt x="11553" y="10938"/>
                  <a:pt x="11669" y="10914"/>
                  <a:pt x="11716" y="10890"/>
                </a:cubicBezTo>
                <a:cubicBezTo>
                  <a:pt x="11758" y="10869"/>
                  <a:pt x="11852" y="10812"/>
                  <a:pt x="11874" y="10763"/>
                </a:cubicBezTo>
                <a:cubicBezTo>
                  <a:pt x="11874" y="10753"/>
                  <a:pt x="11874" y="10742"/>
                  <a:pt x="11874" y="10732"/>
                </a:cubicBezTo>
              </a:path>
              <a:path w="18353" h="5177">
                <a:moveTo>
                  <a:pt x="12859" y="8890"/>
                </a:moveTo>
                <a:cubicBezTo>
                  <a:pt x="12953" y="8890"/>
                  <a:pt x="13026" y="8906"/>
                  <a:pt x="13113" y="8922"/>
                </a:cubicBezTo>
                <a:cubicBezTo>
                  <a:pt x="13204" y="8938"/>
                  <a:pt x="13286" y="8929"/>
                  <a:pt x="13367" y="8954"/>
                </a:cubicBezTo>
                <a:cubicBezTo>
                  <a:pt x="13384" y="8959"/>
                  <a:pt x="13546" y="8954"/>
                  <a:pt x="13462" y="8954"/>
                </a:cubicBezTo>
              </a:path>
              <a:path w="18353" h="5177">
                <a:moveTo>
                  <a:pt x="12922" y="9398"/>
                </a:moveTo>
                <a:cubicBezTo>
                  <a:pt x="12922" y="9419"/>
                  <a:pt x="12922" y="9441"/>
                  <a:pt x="12922" y="9462"/>
                </a:cubicBezTo>
                <a:cubicBezTo>
                  <a:pt x="12982" y="9462"/>
                  <a:pt x="13023" y="9487"/>
                  <a:pt x="13081" y="9493"/>
                </a:cubicBezTo>
                <a:cubicBezTo>
                  <a:pt x="13176" y="9502"/>
                  <a:pt x="13245" y="9504"/>
                  <a:pt x="13335" y="9525"/>
                </a:cubicBezTo>
                <a:cubicBezTo>
                  <a:pt x="13346" y="9525"/>
                  <a:pt x="13356" y="9525"/>
                  <a:pt x="13367" y="9525"/>
                </a:cubicBezTo>
              </a:path>
              <a:path w="18353" h="5177">
                <a:moveTo>
                  <a:pt x="14319" y="7715"/>
                </a:moveTo>
                <a:cubicBezTo>
                  <a:pt x="14472" y="7715"/>
                  <a:pt x="14630" y="7707"/>
                  <a:pt x="14764" y="7747"/>
                </a:cubicBezTo>
                <a:cubicBezTo>
                  <a:pt x="14808" y="7760"/>
                  <a:pt x="14876" y="7747"/>
                  <a:pt x="14922" y="7747"/>
                </a:cubicBezTo>
              </a:path>
              <a:path w="18353" h="5177">
                <a:moveTo>
                  <a:pt x="15176" y="6953"/>
                </a:moveTo>
                <a:cubicBezTo>
                  <a:pt x="15192" y="7016"/>
                  <a:pt x="15225" y="7066"/>
                  <a:pt x="15208" y="7144"/>
                </a:cubicBezTo>
                <a:cubicBezTo>
                  <a:pt x="15175" y="7294"/>
                  <a:pt x="15176" y="7432"/>
                  <a:pt x="15176" y="7588"/>
                </a:cubicBezTo>
                <a:cubicBezTo>
                  <a:pt x="15176" y="7780"/>
                  <a:pt x="15145" y="7966"/>
                  <a:pt x="15145" y="8160"/>
                </a:cubicBezTo>
                <a:cubicBezTo>
                  <a:pt x="15145" y="8325"/>
                  <a:pt x="15130" y="8477"/>
                  <a:pt x="15113" y="8636"/>
                </a:cubicBezTo>
                <a:cubicBezTo>
                  <a:pt x="15105" y="8708"/>
                  <a:pt x="15113" y="8785"/>
                  <a:pt x="15113" y="8858"/>
                </a:cubicBezTo>
              </a:path>
              <a:path w="18353" h="5177">
                <a:moveTo>
                  <a:pt x="15875" y="7017"/>
                </a:moveTo>
                <a:cubicBezTo>
                  <a:pt x="15915" y="6984"/>
                  <a:pt x="15930" y="6986"/>
                  <a:pt x="15970" y="6953"/>
                </a:cubicBezTo>
                <a:cubicBezTo>
                  <a:pt x="15961" y="7022"/>
                  <a:pt x="15957" y="7056"/>
                  <a:pt x="15907" y="7112"/>
                </a:cubicBezTo>
                <a:cubicBezTo>
                  <a:pt x="15870" y="7153"/>
                  <a:pt x="15772" y="7226"/>
                  <a:pt x="15716" y="7239"/>
                </a:cubicBezTo>
                <a:cubicBezTo>
                  <a:pt x="15640" y="7257"/>
                  <a:pt x="15574" y="7267"/>
                  <a:pt x="15494" y="7271"/>
                </a:cubicBezTo>
                <a:cubicBezTo>
                  <a:pt x="15462" y="7271"/>
                  <a:pt x="15451" y="7271"/>
                  <a:pt x="15430" y="7271"/>
                </a:cubicBezTo>
                <a:cubicBezTo>
                  <a:pt x="15450" y="7342"/>
                  <a:pt x="15442" y="7423"/>
                  <a:pt x="15462" y="7493"/>
                </a:cubicBezTo>
                <a:cubicBezTo>
                  <a:pt x="15491" y="7595"/>
                  <a:pt x="15494" y="7668"/>
                  <a:pt x="15494" y="7779"/>
                </a:cubicBezTo>
                <a:cubicBezTo>
                  <a:pt x="15494" y="7864"/>
                  <a:pt x="15494" y="7884"/>
                  <a:pt x="15494" y="7969"/>
                </a:cubicBezTo>
                <a:cubicBezTo>
                  <a:pt x="15528" y="7919"/>
                  <a:pt x="15575" y="7843"/>
                  <a:pt x="15589" y="7779"/>
                </a:cubicBezTo>
                <a:cubicBezTo>
                  <a:pt x="15604" y="7709"/>
                  <a:pt x="15647" y="7604"/>
                  <a:pt x="15716" y="7556"/>
                </a:cubicBezTo>
                <a:cubicBezTo>
                  <a:pt x="15759" y="7525"/>
                  <a:pt x="15818" y="7479"/>
                  <a:pt x="15875" y="7493"/>
                </a:cubicBezTo>
                <a:cubicBezTo>
                  <a:pt x="15932" y="7507"/>
                  <a:pt x="15976" y="7564"/>
                  <a:pt x="16002" y="7620"/>
                </a:cubicBezTo>
                <a:cubicBezTo>
                  <a:pt x="16045" y="7715"/>
                  <a:pt x="16061" y="7837"/>
                  <a:pt x="16066" y="7938"/>
                </a:cubicBezTo>
                <a:cubicBezTo>
                  <a:pt x="16072" y="8055"/>
                  <a:pt x="16054" y="8120"/>
                  <a:pt x="16002" y="8223"/>
                </a:cubicBezTo>
                <a:cubicBezTo>
                  <a:pt x="15947" y="8332"/>
                  <a:pt x="15881" y="8410"/>
                  <a:pt x="15780" y="8477"/>
                </a:cubicBezTo>
                <a:cubicBezTo>
                  <a:pt x="15703" y="8528"/>
                  <a:pt x="15645" y="8535"/>
                  <a:pt x="15558" y="8541"/>
                </a:cubicBezTo>
                <a:cubicBezTo>
                  <a:pt x="15547" y="8541"/>
                  <a:pt x="15537" y="8541"/>
                  <a:pt x="15526" y="8541"/>
                </a:cubicBezTo>
              </a:path>
              <a:path w="18353" h="5177">
                <a:moveTo>
                  <a:pt x="14065" y="9366"/>
                </a:moveTo>
                <a:cubicBezTo>
                  <a:pt x="14160" y="9366"/>
                  <a:pt x="14230" y="9365"/>
                  <a:pt x="14319" y="9334"/>
                </a:cubicBezTo>
                <a:cubicBezTo>
                  <a:pt x="14463" y="9284"/>
                  <a:pt x="14588" y="9217"/>
                  <a:pt x="14732" y="9176"/>
                </a:cubicBezTo>
                <a:cubicBezTo>
                  <a:pt x="14911" y="9125"/>
                  <a:pt x="15057" y="9087"/>
                  <a:pt x="15240" y="9049"/>
                </a:cubicBezTo>
                <a:cubicBezTo>
                  <a:pt x="15411" y="9013"/>
                  <a:pt x="15579" y="8991"/>
                  <a:pt x="15748" y="8954"/>
                </a:cubicBezTo>
                <a:cubicBezTo>
                  <a:pt x="15882" y="8924"/>
                  <a:pt x="16026" y="8878"/>
                  <a:pt x="16161" y="8858"/>
                </a:cubicBezTo>
                <a:cubicBezTo>
                  <a:pt x="16238" y="8846"/>
                  <a:pt x="16337" y="8858"/>
                  <a:pt x="16415" y="8858"/>
                </a:cubicBezTo>
              </a:path>
              <a:path w="18353" h="5177">
                <a:moveTo>
                  <a:pt x="15716" y="9208"/>
                </a:moveTo>
                <a:cubicBezTo>
                  <a:pt x="15731" y="9244"/>
                  <a:pt x="15775" y="9231"/>
                  <a:pt x="15716" y="9303"/>
                </a:cubicBezTo>
                <a:cubicBezTo>
                  <a:pt x="15650" y="9384"/>
                  <a:pt x="15635" y="9330"/>
                  <a:pt x="15558" y="9366"/>
                </a:cubicBezTo>
                <a:cubicBezTo>
                  <a:pt x="15483" y="9401"/>
                  <a:pt x="15417" y="9484"/>
                  <a:pt x="15335" y="9525"/>
                </a:cubicBezTo>
                <a:cubicBezTo>
                  <a:pt x="15254" y="9566"/>
                  <a:pt x="15154" y="9586"/>
                  <a:pt x="15081" y="9620"/>
                </a:cubicBezTo>
                <a:cubicBezTo>
                  <a:pt x="15052" y="9633"/>
                  <a:pt x="14991" y="9682"/>
                  <a:pt x="14986" y="9684"/>
                </a:cubicBezTo>
                <a:cubicBezTo>
                  <a:pt x="14975" y="9684"/>
                  <a:pt x="14965" y="9684"/>
                  <a:pt x="14954" y="9684"/>
                </a:cubicBezTo>
                <a:cubicBezTo>
                  <a:pt x="14977" y="9730"/>
                  <a:pt x="15008" y="9795"/>
                  <a:pt x="15018" y="9842"/>
                </a:cubicBezTo>
                <a:cubicBezTo>
                  <a:pt x="15036" y="9931"/>
                  <a:pt x="15045" y="10039"/>
                  <a:pt x="15050" y="10128"/>
                </a:cubicBezTo>
                <a:cubicBezTo>
                  <a:pt x="15054" y="10201"/>
                  <a:pt x="15050" y="10276"/>
                  <a:pt x="15050" y="10350"/>
                </a:cubicBezTo>
                <a:cubicBezTo>
                  <a:pt x="15050" y="10308"/>
                  <a:pt x="15038" y="10327"/>
                  <a:pt x="15050" y="10287"/>
                </a:cubicBezTo>
                <a:cubicBezTo>
                  <a:pt x="15076" y="10201"/>
                  <a:pt x="15092" y="10111"/>
                  <a:pt x="15145" y="10033"/>
                </a:cubicBezTo>
                <a:cubicBezTo>
                  <a:pt x="15206" y="9944"/>
                  <a:pt x="15262" y="9943"/>
                  <a:pt x="15335" y="9906"/>
                </a:cubicBezTo>
                <a:cubicBezTo>
                  <a:pt x="15392" y="9877"/>
                  <a:pt x="15427" y="9902"/>
                  <a:pt x="15494" y="9938"/>
                </a:cubicBezTo>
                <a:cubicBezTo>
                  <a:pt x="15585" y="9987"/>
                  <a:pt x="15608" y="10068"/>
                  <a:pt x="15653" y="10160"/>
                </a:cubicBezTo>
                <a:cubicBezTo>
                  <a:pt x="15705" y="10266"/>
                  <a:pt x="15684" y="10392"/>
                  <a:pt x="15684" y="10509"/>
                </a:cubicBezTo>
                <a:cubicBezTo>
                  <a:pt x="15684" y="10623"/>
                  <a:pt x="15652" y="10791"/>
                  <a:pt x="15589" y="10890"/>
                </a:cubicBezTo>
                <a:cubicBezTo>
                  <a:pt x="15511" y="11014"/>
                  <a:pt x="15364" y="11117"/>
                  <a:pt x="15240" y="11176"/>
                </a:cubicBezTo>
                <a:cubicBezTo>
                  <a:pt x="15113" y="11236"/>
                  <a:pt x="15077" y="11229"/>
                  <a:pt x="14954" y="11208"/>
                </a:cubicBezTo>
                <a:cubicBezTo>
                  <a:pt x="14863" y="11193"/>
                  <a:pt x="14833" y="11143"/>
                  <a:pt x="14827" y="11049"/>
                </a:cubicBezTo>
                <a:cubicBezTo>
                  <a:pt x="14827" y="10973"/>
                  <a:pt x="14831" y="10940"/>
                  <a:pt x="14859" y="10890"/>
                </a:cubicBezTo>
              </a:path>
              <a:path w="18353" h="5177">
                <a:moveTo>
                  <a:pt x="16796" y="9239"/>
                </a:moveTo>
                <a:cubicBezTo>
                  <a:pt x="16811" y="9284"/>
                  <a:pt x="16843" y="9267"/>
                  <a:pt x="16891" y="9303"/>
                </a:cubicBezTo>
                <a:cubicBezTo>
                  <a:pt x="16947" y="9269"/>
                  <a:pt x="17044" y="9251"/>
                  <a:pt x="17113" y="9239"/>
                </a:cubicBezTo>
                <a:cubicBezTo>
                  <a:pt x="17190" y="9226"/>
                  <a:pt x="17255" y="9208"/>
                  <a:pt x="17336" y="9208"/>
                </a:cubicBezTo>
                <a:cubicBezTo>
                  <a:pt x="17410" y="9208"/>
                  <a:pt x="17438" y="9182"/>
                  <a:pt x="17399" y="9239"/>
                </a:cubicBezTo>
              </a:path>
              <a:path w="18353" h="5177">
                <a:moveTo>
                  <a:pt x="16700" y="9779"/>
                </a:moveTo>
                <a:cubicBezTo>
                  <a:pt x="16785" y="9779"/>
                  <a:pt x="16841" y="9752"/>
                  <a:pt x="16923" y="9747"/>
                </a:cubicBezTo>
                <a:cubicBezTo>
                  <a:pt x="17060" y="9739"/>
                  <a:pt x="17199" y="9747"/>
                  <a:pt x="17336" y="9747"/>
                </a:cubicBezTo>
              </a:path>
              <a:path w="18353" h="5177">
                <a:moveTo>
                  <a:pt x="18034" y="8636"/>
                </a:moveTo>
                <a:cubicBezTo>
                  <a:pt x="18023" y="8647"/>
                  <a:pt x="18013" y="8657"/>
                  <a:pt x="18002" y="8668"/>
                </a:cubicBezTo>
                <a:cubicBezTo>
                  <a:pt x="18091" y="8668"/>
                  <a:pt x="18141" y="8657"/>
                  <a:pt x="18224" y="8636"/>
                </a:cubicBezTo>
                <a:cubicBezTo>
                  <a:pt x="18291" y="8619"/>
                  <a:pt x="18343" y="8604"/>
                  <a:pt x="18415" y="8604"/>
                </a:cubicBezTo>
                <a:cubicBezTo>
                  <a:pt x="18457" y="8604"/>
                  <a:pt x="18500" y="8604"/>
                  <a:pt x="18542" y="8604"/>
                </a:cubicBezTo>
              </a:path>
              <a:path w="18353" h="5177">
                <a:moveTo>
                  <a:pt x="18955" y="8096"/>
                </a:moveTo>
                <a:cubicBezTo>
                  <a:pt x="18999" y="8052"/>
                  <a:pt x="19079" y="8010"/>
                  <a:pt x="19114" y="7969"/>
                </a:cubicBezTo>
                <a:cubicBezTo>
                  <a:pt x="19174" y="7899"/>
                  <a:pt x="19217" y="7856"/>
                  <a:pt x="19304" y="7810"/>
                </a:cubicBezTo>
                <a:cubicBezTo>
                  <a:pt x="19361" y="7780"/>
                  <a:pt x="19405" y="7764"/>
                  <a:pt x="19463" y="7810"/>
                </a:cubicBezTo>
                <a:cubicBezTo>
                  <a:pt x="19526" y="7861"/>
                  <a:pt x="19490" y="7940"/>
                  <a:pt x="19463" y="8001"/>
                </a:cubicBezTo>
                <a:cubicBezTo>
                  <a:pt x="19414" y="8111"/>
                  <a:pt x="19368" y="8216"/>
                  <a:pt x="19304" y="8318"/>
                </a:cubicBezTo>
                <a:cubicBezTo>
                  <a:pt x="19237" y="8425"/>
                  <a:pt x="19176" y="8471"/>
                  <a:pt x="19082" y="8541"/>
                </a:cubicBezTo>
                <a:cubicBezTo>
                  <a:pt x="19053" y="8563"/>
                  <a:pt x="19076" y="8547"/>
                  <a:pt x="19050" y="8572"/>
                </a:cubicBezTo>
                <a:cubicBezTo>
                  <a:pt x="19078" y="8545"/>
                  <a:pt x="19125" y="8515"/>
                  <a:pt x="19177" y="8477"/>
                </a:cubicBezTo>
                <a:cubicBezTo>
                  <a:pt x="19231" y="8437"/>
                  <a:pt x="19300" y="8418"/>
                  <a:pt x="19368" y="8414"/>
                </a:cubicBezTo>
                <a:cubicBezTo>
                  <a:pt x="19460" y="8409"/>
                  <a:pt x="19483" y="8432"/>
                  <a:pt x="19558" y="8477"/>
                </a:cubicBezTo>
                <a:cubicBezTo>
                  <a:pt x="19629" y="8519"/>
                  <a:pt x="19701" y="8610"/>
                  <a:pt x="19717" y="8700"/>
                </a:cubicBezTo>
                <a:cubicBezTo>
                  <a:pt x="19740" y="8834"/>
                  <a:pt x="19731" y="8916"/>
                  <a:pt x="19717" y="9049"/>
                </a:cubicBezTo>
                <a:cubicBezTo>
                  <a:pt x="19699" y="9214"/>
                  <a:pt x="19650" y="9320"/>
                  <a:pt x="19558" y="9462"/>
                </a:cubicBezTo>
                <a:cubicBezTo>
                  <a:pt x="19442" y="9642"/>
                  <a:pt x="19295" y="9738"/>
                  <a:pt x="19082" y="9747"/>
                </a:cubicBezTo>
                <a:cubicBezTo>
                  <a:pt x="19012" y="9750"/>
                  <a:pt x="18878" y="9706"/>
                  <a:pt x="18828" y="9652"/>
                </a:cubicBezTo>
                <a:cubicBezTo>
                  <a:pt x="18762" y="9580"/>
                  <a:pt x="18775" y="9444"/>
                  <a:pt x="18796" y="9366"/>
                </a:cubicBezTo>
                <a:cubicBezTo>
                  <a:pt x="18810" y="9313"/>
                  <a:pt x="18824" y="9283"/>
                  <a:pt x="18860" y="9239"/>
                </a:cubicBezTo>
              </a:path>
              <a:path w="18353" h="5177">
                <a:moveTo>
                  <a:pt x="18193" y="10128"/>
                </a:moveTo>
                <a:cubicBezTo>
                  <a:pt x="18217" y="10168"/>
                  <a:pt x="18197" y="10153"/>
                  <a:pt x="18224" y="10192"/>
                </a:cubicBezTo>
                <a:cubicBezTo>
                  <a:pt x="18251" y="10232"/>
                  <a:pt x="18279" y="10276"/>
                  <a:pt x="18320" y="10319"/>
                </a:cubicBezTo>
                <a:cubicBezTo>
                  <a:pt x="18400" y="10402"/>
                  <a:pt x="18484" y="10471"/>
                  <a:pt x="18574" y="10541"/>
                </a:cubicBezTo>
                <a:cubicBezTo>
                  <a:pt x="18668" y="10613"/>
                  <a:pt x="18755" y="10649"/>
                  <a:pt x="18860" y="10700"/>
                </a:cubicBezTo>
                <a:cubicBezTo>
                  <a:pt x="18964" y="10751"/>
                  <a:pt x="19091" y="10798"/>
                  <a:pt x="19209" y="10795"/>
                </a:cubicBezTo>
                <a:cubicBezTo>
                  <a:pt x="19390" y="10791"/>
                  <a:pt x="19554" y="10731"/>
                  <a:pt x="19717" y="10668"/>
                </a:cubicBezTo>
                <a:cubicBezTo>
                  <a:pt x="19865" y="10611"/>
                  <a:pt x="20033" y="10541"/>
                  <a:pt x="20161" y="10446"/>
                </a:cubicBezTo>
                <a:cubicBezTo>
                  <a:pt x="20297" y="10345"/>
                  <a:pt x="20463" y="10192"/>
                  <a:pt x="20574" y="10065"/>
                </a:cubicBezTo>
                <a:cubicBezTo>
                  <a:pt x="20707" y="9913"/>
                  <a:pt x="20823" y="9763"/>
                  <a:pt x="20923" y="9588"/>
                </a:cubicBezTo>
                <a:cubicBezTo>
                  <a:pt x="21017" y="9422"/>
                  <a:pt x="21116" y="9263"/>
                  <a:pt x="21177" y="9080"/>
                </a:cubicBezTo>
                <a:cubicBezTo>
                  <a:pt x="21232" y="8916"/>
                  <a:pt x="21316" y="8747"/>
                  <a:pt x="21336" y="8572"/>
                </a:cubicBezTo>
                <a:cubicBezTo>
                  <a:pt x="21353" y="8418"/>
                  <a:pt x="21384" y="8253"/>
                  <a:pt x="21368" y="8096"/>
                </a:cubicBezTo>
                <a:cubicBezTo>
                  <a:pt x="21351" y="7933"/>
                  <a:pt x="21313" y="7779"/>
                  <a:pt x="21272" y="7620"/>
                </a:cubicBezTo>
                <a:cubicBezTo>
                  <a:pt x="21212" y="7388"/>
                  <a:pt x="21134" y="7193"/>
                  <a:pt x="21018" y="6985"/>
                </a:cubicBezTo>
                <a:cubicBezTo>
                  <a:pt x="20958" y="6877"/>
                  <a:pt x="20884" y="6756"/>
                  <a:pt x="20796" y="6668"/>
                </a:cubicBezTo>
                <a:cubicBezTo>
                  <a:pt x="20711" y="6583"/>
                  <a:pt x="20607" y="6486"/>
                  <a:pt x="20510" y="6414"/>
                </a:cubicBezTo>
                <a:cubicBezTo>
                  <a:pt x="20407" y="6338"/>
                  <a:pt x="20276" y="6275"/>
                  <a:pt x="20161" y="6223"/>
                </a:cubicBezTo>
                <a:cubicBezTo>
                  <a:pt x="20042" y="6169"/>
                  <a:pt x="19930" y="6162"/>
                  <a:pt x="19812" y="6128"/>
                </a:cubicBezTo>
                <a:cubicBezTo>
                  <a:pt x="19682" y="6091"/>
                  <a:pt x="19597" y="6070"/>
                  <a:pt x="19463" y="6064"/>
                </a:cubicBezTo>
                <a:cubicBezTo>
                  <a:pt x="19337" y="6058"/>
                  <a:pt x="19235" y="6076"/>
                  <a:pt x="19114" y="6096"/>
                </a:cubicBezTo>
                <a:cubicBezTo>
                  <a:pt x="18926" y="6128"/>
                  <a:pt x="18761" y="6214"/>
                  <a:pt x="18606" y="6318"/>
                </a:cubicBezTo>
                <a:cubicBezTo>
                  <a:pt x="18510" y="6382"/>
                  <a:pt x="18436" y="6458"/>
                  <a:pt x="18352" y="6540"/>
                </a:cubicBezTo>
                <a:cubicBezTo>
                  <a:pt x="18260" y="6630"/>
                  <a:pt x="18195" y="6722"/>
                  <a:pt x="18129" y="6826"/>
                </a:cubicBezTo>
                <a:cubicBezTo>
                  <a:pt x="18060" y="6935"/>
                  <a:pt x="18015" y="7051"/>
                  <a:pt x="17970" y="7176"/>
                </a:cubicBezTo>
                <a:cubicBezTo>
                  <a:pt x="17927" y="7297"/>
                  <a:pt x="17898" y="7404"/>
                  <a:pt x="17875" y="7525"/>
                </a:cubicBezTo>
                <a:cubicBezTo>
                  <a:pt x="17850" y="7653"/>
                  <a:pt x="17833" y="7778"/>
                  <a:pt x="17812" y="7906"/>
                </a:cubicBezTo>
                <a:cubicBezTo>
                  <a:pt x="17790" y="8037"/>
                  <a:pt x="17783" y="8151"/>
                  <a:pt x="17780" y="8287"/>
                </a:cubicBezTo>
                <a:cubicBezTo>
                  <a:pt x="17777" y="8460"/>
                  <a:pt x="17790" y="8625"/>
                  <a:pt x="17812" y="8795"/>
                </a:cubicBezTo>
                <a:cubicBezTo>
                  <a:pt x="17832" y="8950"/>
                  <a:pt x="17879" y="9084"/>
                  <a:pt x="17907" y="9239"/>
                </a:cubicBezTo>
                <a:cubicBezTo>
                  <a:pt x="17941" y="9432"/>
                  <a:pt x="18002" y="9568"/>
                  <a:pt x="18066" y="9747"/>
                </a:cubicBezTo>
                <a:cubicBezTo>
                  <a:pt x="18130" y="9925"/>
                  <a:pt x="18159" y="10091"/>
                  <a:pt x="18256" y="10255"/>
                </a:cubicBezTo>
                <a:cubicBezTo>
                  <a:pt x="18310" y="10346"/>
                  <a:pt x="18389" y="10420"/>
                  <a:pt x="18478" y="10478"/>
                </a:cubicBezTo>
                <a:cubicBezTo>
                  <a:pt x="18538" y="10517"/>
                  <a:pt x="18603" y="10540"/>
                  <a:pt x="18669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1752120" y="838080"/>
            <a:ext cx="6553440" cy="6019560"/>
            <a:chOff x="1752120" y="838080"/>
            <a:chExt cx="6553440" cy="6019560"/>
          </a:xfrm>
        </p:grpSpPr>
        <p:grpSp>
          <p:nvGrpSpPr>
            <p:cNvPr id="62" name="Group 5"/>
            <p:cNvGrpSpPr/>
            <p:nvPr/>
          </p:nvGrpSpPr>
          <p:grpSpPr>
            <a:xfrm>
              <a:off x="1752120" y="1415160"/>
              <a:ext cx="6553440" cy="5442480"/>
              <a:chOff x="1752120" y="1415160"/>
              <a:chExt cx="6553440" cy="5442480"/>
            </a:xfrm>
          </p:grpSpPr>
          <p:grpSp>
            <p:nvGrpSpPr>
              <p:cNvPr id="63" name="Group 6"/>
              <p:cNvGrpSpPr/>
              <p:nvPr/>
            </p:nvGrpSpPr>
            <p:grpSpPr>
              <a:xfrm>
                <a:off x="2372760" y="2023200"/>
                <a:ext cx="4646880" cy="4434120"/>
                <a:chOff x="2372760" y="2023200"/>
                <a:chExt cx="4646880" cy="4434120"/>
              </a:xfrm>
            </p:grpSpPr>
            <p:grpSp>
              <p:nvGrpSpPr>
                <p:cNvPr id="64" name="Group 7"/>
                <p:cNvGrpSpPr/>
                <p:nvPr/>
              </p:nvGrpSpPr>
              <p:grpSpPr>
                <a:xfrm>
                  <a:off x="2372760" y="2023200"/>
                  <a:ext cx="4646880" cy="4402440"/>
                  <a:chOff x="2372760" y="2023200"/>
                  <a:chExt cx="4646880" cy="4402440"/>
                </a:xfrm>
              </p:grpSpPr>
              <p:sp>
                <p:nvSpPr>
                  <p:cNvPr id="65" name="Line 8"/>
                  <p:cNvSpPr/>
                  <p:nvPr/>
                </p:nvSpPr>
                <p:spPr>
                  <a:xfrm flipV="1">
                    <a:off x="2372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9"/>
                  <p:cNvSpPr/>
                  <p:nvPr/>
                </p:nvSpPr>
                <p:spPr>
                  <a:xfrm flipV="1">
                    <a:off x="28371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10"/>
                  <p:cNvSpPr/>
                  <p:nvPr/>
                </p:nvSpPr>
                <p:spPr>
                  <a:xfrm flipV="1">
                    <a:off x="30690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11"/>
                  <p:cNvSpPr/>
                  <p:nvPr/>
                </p:nvSpPr>
                <p:spPr>
                  <a:xfrm flipV="1">
                    <a:off x="33019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Line 12"/>
                  <p:cNvSpPr/>
                  <p:nvPr/>
                </p:nvSpPr>
                <p:spPr>
                  <a:xfrm flipV="1">
                    <a:off x="3533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13"/>
                  <p:cNvSpPr/>
                  <p:nvPr/>
                </p:nvSpPr>
                <p:spPr>
                  <a:xfrm flipV="1">
                    <a:off x="37666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4"/>
                  <p:cNvSpPr/>
                  <p:nvPr/>
                </p:nvSpPr>
                <p:spPr>
                  <a:xfrm flipV="1">
                    <a:off x="4231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Line 15"/>
                  <p:cNvSpPr/>
                  <p:nvPr/>
                </p:nvSpPr>
                <p:spPr>
                  <a:xfrm flipV="1">
                    <a:off x="44632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Line 16"/>
                  <p:cNvSpPr/>
                  <p:nvPr/>
                </p:nvSpPr>
                <p:spPr>
                  <a:xfrm flipV="1">
                    <a:off x="46962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7"/>
                  <p:cNvSpPr/>
                  <p:nvPr/>
                </p:nvSpPr>
                <p:spPr>
                  <a:xfrm flipV="1">
                    <a:off x="49280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Line 18"/>
                  <p:cNvSpPr/>
                  <p:nvPr/>
                </p:nvSpPr>
                <p:spPr>
                  <a:xfrm flipV="1">
                    <a:off x="5160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Line 19"/>
                  <p:cNvSpPr/>
                  <p:nvPr/>
                </p:nvSpPr>
                <p:spPr>
                  <a:xfrm flipV="1">
                    <a:off x="5392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20"/>
                  <p:cNvSpPr/>
                  <p:nvPr/>
                </p:nvSpPr>
                <p:spPr>
                  <a:xfrm flipV="1">
                    <a:off x="56253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Line 21"/>
                  <p:cNvSpPr/>
                  <p:nvPr/>
                </p:nvSpPr>
                <p:spPr>
                  <a:xfrm flipV="1">
                    <a:off x="58575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22"/>
                  <p:cNvSpPr/>
                  <p:nvPr/>
                </p:nvSpPr>
                <p:spPr>
                  <a:xfrm flipV="1">
                    <a:off x="60904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23"/>
                  <p:cNvSpPr/>
                  <p:nvPr/>
                </p:nvSpPr>
                <p:spPr>
                  <a:xfrm flipV="1">
                    <a:off x="6321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24"/>
                  <p:cNvSpPr/>
                  <p:nvPr/>
                </p:nvSpPr>
                <p:spPr>
                  <a:xfrm flipV="1">
                    <a:off x="65548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25"/>
                  <p:cNvSpPr/>
                  <p:nvPr/>
                </p:nvSpPr>
                <p:spPr>
                  <a:xfrm flipV="1">
                    <a:off x="67867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6"/>
                  <p:cNvSpPr/>
                  <p:nvPr/>
                </p:nvSpPr>
                <p:spPr>
                  <a:xfrm flipV="1">
                    <a:off x="70196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7"/>
                  <p:cNvSpPr/>
                  <p:nvPr/>
                </p:nvSpPr>
                <p:spPr>
                  <a:xfrm flipV="1">
                    <a:off x="39985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28"/>
                  <p:cNvSpPr/>
                  <p:nvPr/>
                </p:nvSpPr>
                <p:spPr>
                  <a:xfrm flipV="1">
                    <a:off x="26046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29"/>
                <p:cNvGrpSpPr/>
                <p:nvPr/>
              </p:nvGrpSpPr>
              <p:grpSpPr>
                <a:xfrm>
                  <a:off x="2405520" y="2023560"/>
                  <a:ext cx="4613760" cy="4433760"/>
                  <a:chOff x="2405520" y="2023560"/>
                  <a:chExt cx="4613760" cy="4433760"/>
                </a:xfrm>
              </p:grpSpPr>
              <p:sp>
                <p:nvSpPr>
                  <p:cNvPr id="87" name="Line 30"/>
                  <p:cNvSpPr/>
                  <p:nvPr/>
                </p:nvSpPr>
                <p:spPr>
                  <a:xfrm>
                    <a:off x="2405520" y="202356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31"/>
                  <p:cNvSpPr/>
                  <p:nvPr/>
                </p:nvSpPr>
                <p:spPr>
                  <a:xfrm>
                    <a:off x="2405520" y="24667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32"/>
                  <p:cNvSpPr/>
                  <p:nvPr/>
                </p:nvSpPr>
                <p:spPr>
                  <a:xfrm>
                    <a:off x="2405520" y="2688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33"/>
                  <p:cNvSpPr/>
                  <p:nvPr/>
                </p:nvSpPr>
                <p:spPr>
                  <a:xfrm>
                    <a:off x="2405520" y="29102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34"/>
                  <p:cNvSpPr/>
                  <p:nvPr/>
                </p:nvSpPr>
                <p:spPr>
                  <a:xfrm>
                    <a:off x="2405520" y="31312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35"/>
                  <p:cNvSpPr/>
                  <p:nvPr/>
                </p:nvSpPr>
                <p:spPr>
                  <a:xfrm>
                    <a:off x="2405520" y="33534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36"/>
                  <p:cNvSpPr/>
                  <p:nvPr/>
                </p:nvSpPr>
                <p:spPr>
                  <a:xfrm>
                    <a:off x="2405520" y="37969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37"/>
                  <p:cNvSpPr/>
                  <p:nvPr/>
                </p:nvSpPr>
                <p:spPr>
                  <a:xfrm>
                    <a:off x="2405520" y="4018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38"/>
                  <p:cNvSpPr/>
                  <p:nvPr/>
                </p:nvSpPr>
                <p:spPr>
                  <a:xfrm>
                    <a:off x="2405520" y="42404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39"/>
                  <p:cNvSpPr/>
                  <p:nvPr/>
                </p:nvSpPr>
                <p:spPr>
                  <a:xfrm>
                    <a:off x="2405520" y="44614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40"/>
                  <p:cNvSpPr/>
                  <p:nvPr/>
                </p:nvSpPr>
                <p:spPr>
                  <a:xfrm>
                    <a:off x="2405520" y="4683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41"/>
                  <p:cNvSpPr/>
                  <p:nvPr/>
                </p:nvSpPr>
                <p:spPr>
                  <a:xfrm>
                    <a:off x="2405520" y="49050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42"/>
                  <p:cNvSpPr/>
                  <p:nvPr/>
                </p:nvSpPr>
                <p:spPr>
                  <a:xfrm>
                    <a:off x="2405520" y="5127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43"/>
                  <p:cNvSpPr/>
                  <p:nvPr/>
                </p:nvSpPr>
                <p:spPr>
                  <a:xfrm>
                    <a:off x="2405520" y="53485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4"/>
                  <p:cNvSpPr/>
                  <p:nvPr/>
                </p:nvSpPr>
                <p:spPr>
                  <a:xfrm>
                    <a:off x="2405520" y="55706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5"/>
                  <p:cNvSpPr/>
                  <p:nvPr/>
                </p:nvSpPr>
                <p:spPr>
                  <a:xfrm>
                    <a:off x="2405520" y="57916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46"/>
                  <p:cNvSpPr/>
                  <p:nvPr/>
                </p:nvSpPr>
                <p:spPr>
                  <a:xfrm>
                    <a:off x="2405520" y="6013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47"/>
                  <p:cNvSpPr/>
                  <p:nvPr/>
                </p:nvSpPr>
                <p:spPr>
                  <a:xfrm>
                    <a:off x="2405520" y="62348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48"/>
                  <p:cNvSpPr/>
                  <p:nvPr/>
                </p:nvSpPr>
                <p:spPr>
                  <a:xfrm>
                    <a:off x="2405520" y="6457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49"/>
                  <p:cNvSpPr/>
                  <p:nvPr/>
                </p:nvSpPr>
                <p:spPr>
                  <a:xfrm>
                    <a:off x="2405520" y="3574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50"/>
                  <p:cNvSpPr/>
                  <p:nvPr/>
                </p:nvSpPr>
                <p:spPr>
                  <a:xfrm>
                    <a:off x="2405520" y="2244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" name="Line 51"/>
              <p:cNvSpPr/>
              <p:nvPr/>
            </p:nvSpPr>
            <p:spPr>
              <a:xfrm flipH="1">
                <a:off x="1752120" y="4259160"/>
                <a:ext cx="579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2"/>
              <p:cNvSpPr/>
              <p:nvPr/>
            </p:nvSpPr>
            <p:spPr>
              <a:xfrm flipV="1">
                <a:off x="4713120" y="1415160"/>
                <a:ext cx="0" cy="54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53"/>
              <p:cNvSpPr/>
              <p:nvPr/>
            </p:nvSpPr>
            <p:spPr>
              <a:xfrm>
                <a:off x="7485120" y="3959280"/>
                <a:ext cx="820440" cy="684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54"/>
            <p:cNvSpPr/>
            <p:nvPr/>
          </p:nvSpPr>
          <p:spPr>
            <a:xfrm>
              <a:off x="4406040" y="838080"/>
              <a:ext cx="6411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2"/>
          <p:cNvSpPr/>
          <p:nvPr/>
        </p:nvSpPr>
        <p:spPr>
          <a:xfrm>
            <a:off x="91440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lope of the following 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54"/>
          <p:cNvCxnSpPr/>
          <p:nvPr/>
        </p:nvCxnSpPr>
        <p:spPr>
          <a:xfrm>
            <a:off x="4113720" y="1981080"/>
            <a:ext cx="1677240" cy="464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4" name="Ink 55"/>
          <p:cNvSpPr/>
          <p:nvPr/>
        </p:nvSpPr>
        <p:spPr>
          <a:xfrm>
            <a:off x="1063800" y="2149560"/>
            <a:ext cx="3450960" cy="1119240"/>
          </a:xfrm>
          <a:custGeom>
            <a:avLst/>
            <a:gdLst/>
            <a:ahLst/>
            <a:rect l="l" t="t" r="r" b="b"/>
            <a:pathLst>
              <a:path w="9589" h="3112">
                <a:moveTo>
                  <a:pt x="11716" y="6191"/>
                </a:moveTo>
                <a:cubicBezTo>
                  <a:pt x="11672" y="6206"/>
                  <a:pt x="11658" y="6256"/>
                  <a:pt x="11652" y="6318"/>
                </a:cubicBezTo>
                <a:cubicBezTo>
                  <a:pt x="11652" y="6354"/>
                  <a:pt x="11655" y="6368"/>
                  <a:pt x="11684" y="6382"/>
                </a:cubicBezTo>
                <a:cubicBezTo>
                  <a:pt x="11736" y="6382"/>
                  <a:pt x="11786" y="6375"/>
                  <a:pt x="11811" y="6318"/>
                </a:cubicBezTo>
                <a:cubicBezTo>
                  <a:pt x="11824" y="6289"/>
                  <a:pt x="11793" y="6200"/>
                  <a:pt x="11779" y="6191"/>
                </a:cubicBezTo>
                <a:cubicBezTo>
                  <a:pt x="11748" y="6191"/>
                  <a:pt x="11737" y="6191"/>
                  <a:pt x="11716" y="6191"/>
                </a:cubicBezTo>
                <a:cubicBezTo>
                  <a:pt x="11695" y="6273"/>
                  <a:pt x="11691" y="6243"/>
                  <a:pt x="11716" y="6318"/>
                </a:cubicBezTo>
                <a:cubicBezTo>
                  <a:pt x="11716" y="6329"/>
                  <a:pt x="11716" y="6339"/>
                  <a:pt x="11716" y="6350"/>
                </a:cubicBezTo>
                <a:cubicBezTo>
                  <a:pt x="11771" y="6350"/>
                  <a:pt x="11792" y="6343"/>
                  <a:pt x="11811" y="6286"/>
                </a:cubicBezTo>
                <a:cubicBezTo>
                  <a:pt x="11824" y="6249"/>
                  <a:pt x="11818" y="6130"/>
                  <a:pt x="11748" y="6160"/>
                </a:cubicBezTo>
                <a:cubicBezTo>
                  <a:pt x="11715" y="6174"/>
                  <a:pt x="11687" y="6256"/>
                  <a:pt x="11684" y="6286"/>
                </a:cubicBezTo>
                <a:cubicBezTo>
                  <a:pt x="11678" y="6337"/>
                  <a:pt x="11710" y="6318"/>
                  <a:pt x="11748" y="6318"/>
                </a:cubicBezTo>
                <a:cubicBezTo>
                  <a:pt x="11815" y="6266"/>
                  <a:pt x="11811" y="6290"/>
                  <a:pt x="11811" y="6191"/>
                </a:cubicBezTo>
                <a:cubicBezTo>
                  <a:pt x="11811" y="6103"/>
                  <a:pt x="11776" y="6122"/>
                  <a:pt x="11748" y="6160"/>
                </a:cubicBezTo>
                <a:cubicBezTo>
                  <a:pt x="11708" y="6215"/>
                  <a:pt x="11716" y="6256"/>
                  <a:pt x="11716" y="6318"/>
                </a:cubicBezTo>
              </a:path>
              <a:path w="9589" h="3112">
                <a:moveTo>
                  <a:pt x="12510" y="8064"/>
                </a:moveTo>
                <a:cubicBezTo>
                  <a:pt x="12462" y="8049"/>
                  <a:pt x="12482" y="8033"/>
                  <a:pt x="12414" y="8033"/>
                </a:cubicBezTo>
                <a:cubicBezTo>
                  <a:pt x="12403" y="8033"/>
                  <a:pt x="12393" y="8033"/>
                  <a:pt x="12382" y="8033"/>
                </a:cubicBezTo>
                <a:cubicBezTo>
                  <a:pt x="12382" y="8102"/>
                  <a:pt x="12371" y="8108"/>
                  <a:pt x="12382" y="8160"/>
                </a:cubicBezTo>
                <a:cubicBezTo>
                  <a:pt x="12386" y="8178"/>
                  <a:pt x="12438" y="8295"/>
                  <a:pt x="12478" y="8255"/>
                </a:cubicBezTo>
                <a:cubicBezTo>
                  <a:pt x="12508" y="8225"/>
                  <a:pt x="12523" y="8230"/>
                  <a:pt x="12541" y="8192"/>
                </a:cubicBezTo>
                <a:cubicBezTo>
                  <a:pt x="12573" y="8127"/>
                  <a:pt x="12519" y="8081"/>
                  <a:pt x="12510" y="8064"/>
                </a:cubicBezTo>
                <a:cubicBezTo>
                  <a:pt x="12510" y="8054"/>
                  <a:pt x="12510" y="8043"/>
                  <a:pt x="12510" y="8033"/>
                </a:cubicBezTo>
                <a:cubicBezTo>
                  <a:pt x="12458" y="8045"/>
                  <a:pt x="12418" y="8068"/>
                  <a:pt x="12414" y="8128"/>
                </a:cubicBezTo>
                <a:cubicBezTo>
                  <a:pt x="12409" y="8198"/>
                  <a:pt x="12398" y="8207"/>
                  <a:pt x="12446" y="8223"/>
                </a:cubicBezTo>
                <a:cubicBezTo>
                  <a:pt x="12501" y="8210"/>
                  <a:pt x="12565" y="8172"/>
                  <a:pt x="12541" y="8096"/>
                </a:cubicBezTo>
                <a:cubicBezTo>
                  <a:pt x="12528" y="8056"/>
                  <a:pt x="12483" y="7991"/>
                  <a:pt x="12446" y="8064"/>
                </a:cubicBezTo>
                <a:cubicBezTo>
                  <a:pt x="12416" y="8123"/>
                  <a:pt x="12407" y="8142"/>
                  <a:pt x="12478" y="8160"/>
                </a:cubicBezTo>
                <a:cubicBezTo>
                  <a:pt x="12506" y="8123"/>
                  <a:pt x="12544" y="8072"/>
                  <a:pt x="12478" y="8064"/>
                </a:cubicBezTo>
                <a:cubicBezTo>
                  <a:pt x="12435" y="8059"/>
                  <a:pt x="12424" y="8122"/>
                  <a:pt x="12414" y="8160"/>
                </a:cubicBezTo>
              </a:path>
              <a:path w="9589" h="3112">
                <a:moveTo>
                  <a:pt x="11779" y="6318"/>
                </a:moveTo>
                <a:cubicBezTo>
                  <a:pt x="11779" y="6385"/>
                  <a:pt x="11754" y="6409"/>
                  <a:pt x="11748" y="6477"/>
                </a:cubicBezTo>
                <a:cubicBezTo>
                  <a:pt x="11739" y="6592"/>
                  <a:pt x="11748" y="6711"/>
                  <a:pt x="11748" y="6826"/>
                </a:cubicBezTo>
                <a:cubicBezTo>
                  <a:pt x="11696" y="6843"/>
                  <a:pt x="11716" y="6888"/>
                  <a:pt x="11716" y="6953"/>
                </a:cubicBezTo>
                <a:cubicBezTo>
                  <a:pt x="11716" y="6985"/>
                  <a:pt x="11716" y="7016"/>
                  <a:pt x="11716" y="7048"/>
                </a:cubicBezTo>
                <a:cubicBezTo>
                  <a:pt x="11651" y="7091"/>
                  <a:pt x="11708" y="7107"/>
                  <a:pt x="11716" y="7176"/>
                </a:cubicBezTo>
                <a:cubicBezTo>
                  <a:pt x="11721" y="7222"/>
                  <a:pt x="11684" y="7248"/>
                  <a:pt x="11684" y="7302"/>
                </a:cubicBezTo>
                <a:cubicBezTo>
                  <a:pt x="11684" y="7395"/>
                  <a:pt x="11694" y="7440"/>
                  <a:pt x="11716" y="7525"/>
                </a:cubicBezTo>
                <a:cubicBezTo>
                  <a:pt x="11738" y="7613"/>
                  <a:pt x="11721" y="7699"/>
                  <a:pt x="11748" y="7779"/>
                </a:cubicBezTo>
                <a:cubicBezTo>
                  <a:pt x="11777" y="7865"/>
                  <a:pt x="11697" y="8068"/>
                  <a:pt x="11779" y="8096"/>
                </a:cubicBezTo>
              </a:path>
              <a:path w="9589" h="3112">
                <a:moveTo>
                  <a:pt x="11843" y="8128"/>
                </a:moveTo>
                <a:cubicBezTo>
                  <a:pt x="11853" y="8128"/>
                  <a:pt x="11864" y="8128"/>
                  <a:pt x="11874" y="8128"/>
                </a:cubicBezTo>
                <a:cubicBezTo>
                  <a:pt x="11890" y="8080"/>
                  <a:pt x="11913" y="8096"/>
                  <a:pt x="11970" y="8096"/>
                </a:cubicBezTo>
                <a:cubicBezTo>
                  <a:pt x="12097" y="8096"/>
                  <a:pt x="12224" y="8096"/>
                  <a:pt x="12351" y="8096"/>
                </a:cubicBezTo>
              </a:path>
              <a:path w="9589" h="3112">
                <a:moveTo>
                  <a:pt x="10446" y="7461"/>
                </a:moveTo>
                <a:cubicBezTo>
                  <a:pt x="10509" y="7461"/>
                  <a:pt x="10521" y="7447"/>
                  <a:pt x="10573" y="7430"/>
                </a:cubicBezTo>
                <a:cubicBezTo>
                  <a:pt x="10632" y="7410"/>
                  <a:pt x="10720" y="7429"/>
                  <a:pt x="10763" y="7461"/>
                </a:cubicBezTo>
              </a:path>
              <a:path w="9589" h="3112">
                <a:moveTo>
                  <a:pt x="11049" y="7271"/>
                </a:moveTo>
                <a:cubicBezTo>
                  <a:pt x="11056" y="7251"/>
                  <a:pt x="11078" y="7193"/>
                  <a:pt x="11112" y="7176"/>
                </a:cubicBezTo>
                <a:cubicBezTo>
                  <a:pt x="11153" y="7156"/>
                  <a:pt x="11189" y="7144"/>
                  <a:pt x="11240" y="7144"/>
                </a:cubicBezTo>
                <a:cubicBezTo>
                  <a:pt x="11285" y="7144"/>
                  <a:pt x="11331" y="7173"/>
                  <a:pt x="11335" y="7207"/>
                </a:cubicBezTo>
                <a:cubicBezTo>
                  <a:pt x="11343" y="7269"/>
                  <a:pt x="11341" y="7319"/>
                  <a:pt x="11303" y="7366"/>
                </a:cubicBezTo>
                <a:cubicBezTo>
                  <a:pt x="11276" y="7399"/>
                  <a:pt x="11215" y="7476"/>
                  <a:pt x="11176" y="7493"/>
                </a:cubicBezTo>
                <a:cubicBezTo>
                  <a:pt x="11126" y="7515"/>
                  <a:pt x="11130" y="7528"/>
                  <a:pt x="11112" y="7493"/>
                </a:cubicBezTo>
                <a:cubicBezTo>
                  <a:pt x="11189" y="7493"/>
                  <a:pt x="11277" y="7474"/>
                  <a:pt x="11335" y="7525"/>
                </a:cubicBezTo>
                <a:cubicBezTo>
                  <a:pt x="11399" y="7582"/>
                  <a:pt x="11378" y="7614"/>
                  <a:pt x="11366" y="7684"/>
                </a:cubicBezTo>
                <a:cubicBezTo>
                  <a:pt x="11352" y="7768"/>
                  <a:pt x="11366" y="7779"/>
                  <a:pt x="11303" y="7842"/>
                </a:cubicBezTo>
                <a:cubicBezTo>
                  <a:pt x="11253" y="7892"/>
                  <a:pt x="11219" y="7931"/>
                  <a:pt x="11144" y="7938"/>
                </a:cubicBezTo>
                <a:cubicBezTo>
                  <a:pt x="11066" y="7946"/>
                  <a:pt x="11021" y="7923"/>
                  <a:pt x="10986" y="7906"/>
                </a:cubicBezTo>
                <a:cubicBezTo>
                  <a:pt x="10954" y="7906"/>
                  <a:pt x="10943" y="7906"/>
                  <a:pt x="10954" y="7874"/>
                </a:cubicBezTo>
                <a:cubicBezTo>
                  <a:pt x="11029" y="7817"/>
                  <a:pt x="11010" y="7859"/>
                  <a:pt x="11081" y="7874"/>
                </a:cubicBezTo>
                <a:cubicBezTo>
                  <a:pt x="11173" y="7894"/>
                  <a:pt x="11160" y="7902"/>
                  <a:pt x="11240" y="7938"/>
                </a:cubicBezTo>
                <a:cubicBezTo>
                  <a:pt x="11271" y="7938"/>
                  <a:pt x="11281" y="7938"/>
                  <a:pt x="11271" y="7969"/>
                </a:cubicBezTo>
              </a:path>
              <a:path w="9589" h="3112">
                <a:moveTo>
                  <a:pt x="11938" y="8509"/>
                </a:moveTo>
                <a:cubicBezTo>
                  <a:pt x="11938" y="8603"/>
                  <a:pt x="11921" y="8675"/>
                  <a:pt x="11906" y="8763"/>
                </a:cubicBezTo>
                <a:cubicBezTo>
                  <a:pt x="11892" y="8845"/>
                  <a:pt x="11895" y="8914"/>
                  <a:pt x="11874" y="8985"/>
                </a:cubicBezTo>
                <a:cubicBezTo>
                  <a:pt x="11874" y="9027"/>
                  <a:pt x="11874" y="9048"/>
                  <a:pt x="11874" y="9080"/>
                </a:cubicBezTo>
              </a:path>
              <a:path w="9589" h="3112">
                <a:moveTo>
                  <a:pt x="3080" y="6191"/>
                </a:moveTo>
                <a:cubicBezTo>
                  <a:pt x="3165" y="6164"/>
                  <a:pt x="3085" y="6260"/>
                  <a:pt x="3112" y="6350"/>
                </a:cubicBezTo>
                <a:cubicBezTo>
                  <a:pt x="3141" y="6445"/>
                  <a:pt x="3117" y="6543"/>
                  <a:pt x="3143" y="6636"/>
                </a:cubicBezTo>
                <a:cubicBezTo>
                  <a:pt x="3166" y="6719"/>
                  <a:pt x="3175" y="6770"/>
                  <a:pt x="3175" y="6858"/>
                </a:cubicBezTo>
                <a:cubicBezTo>
                  <a:pt x="3175" y="6900"/>
                  <a:pt x="3175" y="6921"/>
                  <a:pt x="3175" y="6953"/>
                </a:cubicBezTo>
                <a:cubicBezTo>
                  <a:pt x="3120" y="6935"/>
                  <a:pt x="3116" y="6863"/>
                  <a:pt x="3112" y="6794"/>
                </a:cubicBezTo>
                <a:cubicBezTo>
                  <a:pt x="3106" y="6684"/>
                  <a:pt x="3080" y="6590"/>
                  <a:pt x="3080" y="6477"/>
                </a:cubicBezTo>
                <a:cubicBezTo>
                  <a:pt x="3080" y="6383"/>
                  <a:pt x="3105" y="6276"/>
                  <a:pt x="3143" y="6191"/>
                </a:cubicBezTo>
                <a:cubicBezTo>
                  <a:pt x="3162" y="6149"/>
                  <a:pt x="3252" y="6046"/>
                  <a:pt x="3302" y="6032"/>
                </a:cubicBezTo>
                <a:cubicBezTo>
                  <a:pt x="3377" y="6011"/>
                  <a:pt x="3406" y="6045"/>
                  <a:pt x="3461" y="6064"/>
                </a:cubicBezTo>
                <a:cubicBezTo>
                  <a:pt x="3512" y="6081"/>
                  <a:pt x="3542" y="6085"/>
                  <a:pt x="3556" y="6128"/>
                </a:cubicBezTo>
              </a:path>
              <a:path w="9589" h="3112">
                <a:moveTo>
                  <a:pt x="3746" y="6001"/>
                </a:moveTo>
                <a:cubicBezTo>
                  <a:pt x="3746" y="6108"/>
                  <a:pt x="3772" y="6186"/>
                  <a:pt x="3778" y="6286"/>
                </a:cubicBezTo>
                <a:cubicBezTo>
                  <a:pt x="3788" y="6472"/>
                  <a:pt x="3769" y="6649"/>
                  <a:pt x="3810" y="6826"/>
                </a:cubicBezTo>
                <a:cubicBezTo>
                  <a:pt x="3816" y="6854"/>
                  <a:pt x="3810" y="6893"/>
                  <a:pt x="3810" y="6922"/>
                </a:cubicBezTo>
              </a:path>
              <a:path w="9589" h="3112">
                <a:moveTo>
                  <a:pt x="4382" y="6032"/>
                </a:moveTo>
                <a:cubicBezTo>
                  <a:pt x="4410" y="6004"/>
                  <a:pt x="4417" y="5993"/>
                  <a:pt x="4445" y="6001"/>
                </a:cubicBezTo>
                <a:cubicBezTo>
                  <a:pt x="4427" y="5966"/>
                  <a:pt x="4376" y="6002"/>
                  <a:pt x="4318" y="6032"/>
                </a:cubicBezTo>
                <a:cubicBezTo>
                  <a:pt x="4250" y="6068"/>
                  <a:pt x="4142" y="6096"/>
                  <a:pt x="4096" y="6160"/>
                </a:cubicBezTo>
                <a:cubicBezTo>
                  <a:pt x="4028" y="6254"/>
                  <a:pt x="4066" y="6276"/>
                  <a:pt x="4128" y="6318"/>
                </a:cubicBezTo>
                <a:cubicBezTo>
                  <a:pt x="4193" y="6362"/>
                  <a:pt x="4239" y="6421"/>
                  <a:pt x="4286" y="6477"/>
                </a:cubicBezTo>
                <a:cubicBezTo>
                  <a:pt x="4340" y="6542"/>
                  <a:pt x="4375" y="6587"/>
                  <a:pt x="4382" y="6668"/>
                </a:cubicBezTo>
                <a:cubicBezTo>
                  <a:pt x="4386" y="6719"/>
                  <a:pt x="4371" y="6771"/>
                  <a:pt x="4318" y="6794"/>
                </a:cubicBezTo>
                <a:cubicBezTo>
                  <a:pt x="4237" y="6829"/>
                  <a:pt x="4225" y="6816"/>
                  <a:pt x="4159" y="6794"/>
                </a:cubicBezTo>
                <a:cubicBezTo>
                  <a:pt x="4084" y="6769"/>
                  <a:pt x="4096" y="6751"/>
                  <a:pt x="4096" y="6668"/>
                </a:cubicBezTo>
              </a:path>
              <a:path w="9589" h="3112">
                <a:moveTo>
                  <a:pt x="4572" y="6350"/>
                </a:moveTo>
                <a:cubicBezTo>
                  <a:pt x="4660" y="6350"/>
                  <a:pt x="4711" y="6339"/>
                  <a:pt x="4794" y="6318"/>
                </a:cubicBezTo>
                <a:cubicBezTo>
                  <a:pt x="4855" y="6303"/>
                  <a:pt x="4931" y="6266"/>
                  <a:pt x="4985" y="6255"/>
                </a:cubicBezTo>
                <a:cubicBezTo>
                  <a:pt x="5053" y="6242"/>
                  <a:pt x="5126" y="6188"/>
                  <a:pt x="5080" y="6096"/>
                </a:cubicBezTo>
                <a:cubicBezTo>
                  <a:pt x="5058" y="6053"/>
                  <a:pt x="4960" y="6052"/>
                  <a:pt x="4921" y="6064"/>
                </a:cubicBezTo>
                <a:cubicBezTo>
                  <a:pt x="4835" y="6090"/>
                  <a:pt x="4718" y="6214"/>
                  <a:pt x="4667" y="6286"/>
                </a:cubicBezTo>
                <a:cubicBezTo>
                  <a:pt x="4624" y="6345"/>
                  <a:pt x="4555" y="6497"/>
                  <a:pt x="4572" y="6572"/>
                </a:cubicBezTo>
                <a:cubicBezTo>
                  <a:pt x="4591" y="6656"/>
                  <a:pt x="4688" y="6665"/>
                  <a:pt x="4762" y="6668"/>
                </a:cubicBezTo>
                <a:cubicBezTo>
                  <a:pt x="4889" y="6674"/>
                  <a:pt x="5017" y="6668"/>
                  <a:pt x="5144" y="6668"/>
                </a:cubicBezTo>
              </a:path>
              <a:path w="9589" h="3112">
                <a:moveTo>
                  <a:pt x="2984" y="7176"/>
                </a:moveTo>
                <a:cubicBezTo>
                  <a:pt x="3049" y="7165"/>
                  <a:pt x="3047" y="7152"/>
                  <a:pt x="3112" y="7144"/>
                </a:cubicBezTo>
                <a:cubicBezTo>
                  <a:pt x="3235" y="7128"/>
                  <a:pt x="3372" y="7123"/>
                  <a:pt x="3492" y="7112"/>
                </a:cubicBezTo>
                <a:cubicBezTo>
                  <a:pt x="3691" y="7094"/>
                  <a:pt x="3897" y="7084"/>
                  <a:pt x="4096" y="7080"/>
                </a:cubicBezTo>
                <a:cubicBezTo>
                  <a:pt x="4355" y="7074"/>
                  <a:pt x="4603" y="7092"/>
                  <a:pt x="4858" y="7112"/>
                </a:cubicBezTo>
                <a:cubicBezTo>
                  <a:pt x="4989" y="7122"/>
                  <a:pt x="5107" y="7144"/>
                  <a:pt x="5239" y="7144"/>
                </a:cubicBezTo>
                <a:cubicBezTo>
                  <a:pt x="5249" y="7144"/>
                  <a:pt x="5260" y="7144"/>
                  <a:pt x="5270" y="7144"/>
                </a:cubicBezTo>
              </a:path>
              <a:path w="9589" h="3112">
                <a:moveTo>
                  <a:pt x="3080" y="7620"/>
                </a:moveTo>
                <a:cubicBezTo>
                  <a:pt x="3080" y="7698"/>
                  <a:pt x="3058" y="7740"/>
                  <a:pt x="3048" y="7810"/>
                </a:cubicBezTo>
                <a:cubicBezTo>
                  <a:pt x="3030" y="7941"/>
                  <a:pt x="3048" y="8091"/>
                  <a:pt x="3048" y="8223"/>
                </a:cubicBezTo>
                <a:cubicBezTo>
                  <a:pt x="3048" y="8276"/>
                  <a:pt x="3048" y="8181"/>
                  <a:pt x="3048" y="8128"/>
                </a:cubicBezTo>
                <a:cubicBezTo>
                  <a:pt x="3048" y="8003"/>
                  <a:pt x="3044" y="7898"/>
                  <a:pt x="3080" y="7779"/>
                </a:cubicBezTo>
                <a:cubicBezTo>
                  <a:pt x="3116" y="7658"/>
                  <a:pt x="3148" y="7600"/>
                  <a:pt x="3238" y="7525"/>
                </a:cubicBezTo>
                <a:cubicBezTo>
                  <a:pt x="3254" y="7512"/>
                  <a:pt x="3340" y="7461"/>
                  <a:pt x="3366" y="7493"/>
                </a:cubicBezTo>
                <a:cubicBezTo>
                  <a:pt x="3366" y="7504"/>
                  <a:pt x="3366" y="7514"/>
                  <a:pt x="3366" y="7525"/>
                </a:cubicBezTo>
              </a:path>
              <a:path w="9589" h="3112">
                <a:moveTo>
                  <a:pt x="3524" y="7525"/>
                </a:moveTo>
                <a:cubicBezTo>
                  <a:pt x="3549" y="7586"/>
                  <a:pt x="3524" y="7660"/>
                  <a:pt x="3524" y="7747"/>
                </a:cubicBezTo>
                <a:cubicBezTo>
                  <a:pt x="3524" y="7876"/>
                  <a:pt x="3504" y="8010"/>
                  <a:pt x="3556" y="8128"/>
                </a:cubicBezTo>
                <a:cubicBezTo>
                  <a:pt x="3585" y="8194"/>
                  <a:pt x="3591" y="8208"/>
                  <a:pt x="3651" y="8223"/>
                </a:cubicBezTo>
                <a:cubicBezTo>
                  <a:pt x="3730" y="8204"/>
                  <a:pt x="3742" y="8136"/>
                  <a:pt x="3778" y="8064"/>
                </a:cubicBezTo>
                <a:cubicBezTo>
                  <a:pt x="3827" y="7968"/>
                  <a:pt x="3861" y="7849"/>
                  <a:pt x="3874" y="7747"/>
                </a:cubicBezTo>
                <a:cubicBezTo>
                  <a:pt x="3885" y="7658"/>
                  <a:pt x="3844" y="7641"/>
                  <a:pt x="3905" y="7620"/>
                </a:cubicBezTo>
                <a:cubicBezTo>
                  <a:pt x="3905" y="7701"/>
                  <a:pt x="3883" y="7763"/>
                  <a:pt x="3874" y="7842"/>
                </a:cubicBezTo>
                <a:cubicBezTo>
                  <a:pt x="3869" y="7888"/>
                  <a:pt x="3845" y="8169"/>
                  <a:pt x="3905" y="8192"/>
                </a:cubicBezTo>
                <a:cubicBezTo>
                  <a:pt x="3916" y="8181"/>
                  <a:pt x="3926" y="8171"/>
                  <a:pt x="3937" y="8160"/>
                </a:cubicBezTo>
              </a:path>
              <a:path w="9589" h="3112">
                <a:moveTo>
                  <a:pt x="4128" y="7556"/>
                </a:moveTo>
                <a:cubicBezTo>
                  <a:pt x="4169" y="7626"/>
                  <a:pt x="4159" y="7693"/>
                  <a:pt x="4159" y="7779"/>
                </a:cubicBezTo>
                <a:cubicBezTo>
                  <a:pt x="4159" y="7917"/>
                  <a:pt x="4159" y="8054"/>
                  <a:pt x="4159" y="8192"/>
                </a:cubicBezTo>
                <a:cubicBezTo>
                  <a:pt x="4209" y="8159"/>
                  <a:pt x="4191" y="8079"/>
                  <a:pt x="4191" y="8001"/>
                </a:cubicBezTo>
                <a:cubicBezTo>
                  <a:pt x="4191" y="7874"/>
                  <a:pt x="4232" y="7766"/>
                  <a:pt x="4286" y="7652"/>
                </a:cubicBezTo>
                <a:cubicBezTo>
                  <a:pt x="4314" y="7593"/>
                  <a:pt x="4362" y="7498"/>
                  <a:pt x="4445" y="7525"/>
                </a:cubicBezTo>
                <a:cubicBezTo>
                  <a:pt x="4526" y="7551"/>
                  <a:pt x="4495" y="7628"/>
                  <a:pt x="4508" y="7684"/>
                </a:cubicBezTo>
                <a:cubicBezTo>
                  <a:pt x="4536" y="7805"/>
                  <a:pt x="4540" y="7907"/>
                  <a:pt x="4540" y="8033"/>
                </a:cubicBezTo>
                <a:cubicBezTo>
                  <a:pt x="4540" y="8143"/>
                  <a:pt x="4565" y="8167"/>
                  <a:pt x="4636" y="8223"/>
                </a:cubicBezTo>
                <a:cubicBezTo>
                  <a:pt x="4688" y="8264"/>
                  <a:pt x="4696" y="8229"/>
                  <a:pt x="4762" y="8192"/>
                </a:cubicBezTo>
              </a:path>
              <a:path w="9589" h="3112">
                <a:moveTo>
                  <a:pt x="5493" y="7207"/>
                </a:moveTo>
                <a:cubicBezTo>
                  <a:pt x="5588" y="7207"/>
                  <a:pt x="5683" y="7207"/>
                  <a:pt x="5778" y="7207"/>
                </a:cubicBezTo>
              </a:path>
              <a:path w="9589" h="3112">
                <a:moveTo>
                  <a:pt x="5524" y="7493"/>
                </a:moveTo>
                <a:cubicBezTo>
                  <a:pt x="5598" y="7493"/>
                  <a:pt x="5673" y="7493"/>
                  <a:pt x="5747" y="7493"/>
                </a:cubicBezTo>
              </a:path>
              <a:path w="9589" h="3112">
                <a:moveTo>
                  <a:pt x="6001" y="6350"/>
                </a:moveTo>
                <a:cubicBezTo>
                  <a:pt x="6065" y="6350"/>
                  <a:pt x="6076" y="6335"/>
                  <a:pt x="6128" y="6318"/>
                </a:cubicBezTo>
                <a:cubicBezTo>
                  <a:pt x="6193" y="6296"/>
                  <a:pt x="6264" y="6354"/>
                  <a:pt x="6286" y="6286"/>
                </a:cubicBezTo>
              </a:path>
              <a:path w="9589" h="3112">
                <a:moveTo>
                  <a:pt x="6509" y="6191"/>
                </a:moveTo>
                <a:cubicBezTo>
                  <a:pt x="6561" y="6100"/>
                  <a:pt x="6563" y="6096"/>
                  <a:pt x="6668" y="6096"/>
                </a:cubicBezTo>
                <a:cubicBezTo>
                  <a:pt x="6711" y="6096"/>
                  <a:pt x="6782" y="6103"/>
                  <a:pt x="6794" y="6160"/>
                </a:cubicBezTo>
                <a:cubicBezTo>
                  <a:pt x="6818" y="6277"/>
                  <a:pt x="6767" y="6291"/>
                  <a:pt x="6731" y="6382"/>
                </a:cubicBezTo>
                <a:cubicBezTo>
                  <a:pt x="6711" y="6432"/>
                  <a:pt x="6699" y="6470"/>
                  <a:pt x="6636" y="6477"/>
                </a:cubicBezTo>
                <a:cubicBezTo>
                  <a:pt x="6574" y="6484"/>
                  <a:pt x="6596" y="6524"/>
                  <a:pt x="6572" y="6477"/>
                </a:cubicBezTo>
                <a:cubicBezTo>
                  <a:pt x="6596" y="6459"/>
                  <a:pt x="6666" y="6400"/>
                  <a:pt x="6699" y="6414"/>
                </a:cubicBezTo>
                <a:cubicBezTo>
                  <a:pt x="6748" y="6435"/>
                  <a:pt x="6785" y="6468"/>
                  <a:pt x="6826" y="6509"/>
                </a:cubicBezTo>
                <a:cubicBezTo>
                  <a:pt x="6845" y="6528"/>
                  <a:pt x="6894" y="6644"/>
                  <a:pt x="6890" y="6668"/>
                </a:cubicBezTo>
                <a:cubicBezTo>
                  <a:pt x="6887" y="6686"/>
                  <a:pt x="6836" y="6779"/>
                  <a:pt x="6826" y="6794"/>
                </a:cubicBezTo>
                <a:cubicBezTo>
                  <a:pt x="6789" y="6848"/>
                  <a:pt x="6759" y="6858"/>
                  <a:pt x="6699" y="6858"/>
                </a:cubicBezTo>
                <a:cubicBezTo>
                  <a:pt x="6624" y="6858"/>
                  <a:pt x="6601" y="6840"/>
                  <a:pt x="6572" y="6826"/>
                </a:cubicBezTo>
                <a:cubicBezTo>
                  <a:pt x="6531" y="6805"/>
                  <a:pt x="6540" y="6822"/>
                  <a:pt x="6540" y="6763"/>
                </a:cubicBezTo>
              </a:path>
              <a:path w="9589" h="3112">
                <a:moveTo>
                  <a:pt x="6318" y="7207"/>
                </a:moveTo>
                <a:cubicBezTo>
                  <a:pt x="6341" y="7277"/>
                  <a:pt x="6364" y="7224"/>
                  <a:pt x="6414" y="7207"/>
                </a:cubicBezTo>
                <a:cubicBezTo>
                  <a:pt x="6481" y="7184"/>
                  <a:pt x="6599" y="7187"/>
                  <a:pt x="6668" y="7176"/>
                </a:cubicBezTo>
                <a:cubicBezTo>
                  <a:pt x="6736" y="7166"/>
                  <a:pt x="7017" y="7176"/>
                  <a:pt x="6985" y="7176"/>
                </a:cubicBezTo>
              </a:path>
              <a:path w="9589" h="3112">
                <a:moveTo>
                  <a:pt x="6636" y="7493"/>
                </a:moveTo>
                <a:cubicBezTo>
                  <a:pt x="6636" y="7576"/>
                  <a:pt x="6617" y="7638"/>
                  <a:pt x="6604" y="7715"/>
                </a:cubicBezTo>
                <a:cubicBezTo>
                  <a:pt x="6572" y="7906"/>
                  <a:pt x="6671" y="8186"/>
                  <a:pt x="6572" y="8350"/>
                </a:cubicBezTo>
              </a:path>
              <a:path w="9589" h="3112">
                <a:moveTo>
                  <a:pt x="7334" y="7334"/>
                </a:moveTo>
                <a:cubicBezTo>
                  <a:pt x="7428" y="7334"/>
                  <a:pt x="7510" y="7319"/>
                  <a:pt x="7588" y="7302"/>
                </a:cubicBezTo>
                <a:cubicBezTo>
                  <a:pt x="7641" y="7302"/>
                  <a:pt x="7652" y="7302"/>
                  <a:pt x="7684" y="7302"/>
                </a:cubicBezTo>
              </a:path>
              <a:path w="9589" h="3112">
                <a:moveTo>
                  <a:pt x="7334" y="7620"/>
                </a:moveTo>
                <a:cubicBezTo>
                  <a:pt x="7334" y="7631"/>
                  <a:pt x="7334" y="7641"/>
                  <a:pt x="7334" y="7652"/>
                </a:cubicBezTo>
                <a:cubicBezTo>
                  <a:pt x="7398" y="7636"/>
                  <a:pt x="7416" y="7620"/>
                  <a:pt x="7493" y="7620"/>
                </a:cubicBezTo>
                <a:cubicBezTo>
                  <a:pt x="7557" y="7620"/>
                  <a:pt x="7620" y="7620"/>
                  <a:pt x="7684" y="7620"/>
                </a:cubicBezTo>
                <a:cubicBezTo>
                  <a:pt x="7684" y="7652"/>
                  <a:pt x="7684" y="7662"/>
                  <a:pt x="7715" y="7652"/>
                </a:cubicBezTo>
              </a:path>
              <a:path w="9589" h="3112">
                <a:moveTo>
                  <a:pt x="8096" y="7144"/>
                </a:moveTo>
                <a:cubicBezTo>
                  <a:pt x="8085" y="7144"/>
                  <a:pt x="8075" y="7144"/>
                  <a:pt x="8064" y="7144"/>
                </a:cubicBezTo>
                <a:cubicBezTo>
                  <a:pt x="8081" y="7196"/>
                  <a:pt x="8127" y="7176"/>
                  <a:pt x="8192" y="7176"/>
                </a:cubicBezTo>
                <a:cubicBezTo>
                  <a:pt x="8298" y="7176"/>
                  <a:pt x="8403" y="7176"/>
                  <a:pt x="8509" y="7176"/>
                </a:cubicBezTo>
              </a:path>
              <a:path w="9589" h="3112">
                <a:moveTo>
                  <a:pt x="8572" y="7048"/>
                </a:moveTo>
                <a:cubicBezTo>
                  <a:pt x="8572" y="7008"/>
                  <a:pt x="8583" y="6964"/>
                  <a:pt x="8604" y="6953"/>
                </a:cubicBezTo>
                <a:cubicBezTo>
                  <a:pt x="8638" y="6936"/>
                  <a:pt x="8696" y="6902"/>
                  <a:pt x="8731" y="6890"/>
                </a:cubicBezTo>
                <a:cubicBezTo>
                  <a:pt x="8787" y="6871"/>
                  <a:pt x="8822" y="6858"/>
                  <a:pt x="8890" y="6858"/>
                </a:cubicBezTo>
                <a:cubicBezTo>
                  <a:pt x="8929" y="6858"/>
                  <a:pt x="8949" y="6911"/>
                  <a:pt x="8954" y="6953"/>
                </a:cubicBezTo>
                <a:cubicBezTo>
                  <a:pt x="8961" y="7019"/>
                  <a:pt x="8945" y="7086"/>
                  <a:pt x="8922" y="7144"/>
                </a:cubicBezTo>
                <a:cubicBezTo>
                  <a:pt x="8892" y="7217"/>
                  <a:pt x="8810" y="7265"/>
                  <a:pt x="8763" y="7302"/>
                </a:cubicBezTo>
                <a:cubicBezTo>
                  <a:pt x="8721" y="7335"/>
                  <a:pt x="8718" y="7353"/>
                  <a:pt x="8668" y="7366"/>
                </a:cubicBezTo>
                <a:cubicBezTo>
                  <a:pt x="8678" y="7337"/>
                  <a:pt x="8722" y="7316"/>
                  <a:pt x="8763" y="7302"/>
                </a:cubicBezTo>
                <a:cubicBezTo>
                  <a:pt x="8811" y="7286"/>
                  <a:pt x="8857" y="7305"/>
                  <a:pt x="8890" y="7334"/>
                </a:cubicBezTo>
                <a:cubicBezTo>
                  <a:pt x="8939" y="7377"/>
                  <a:pt x="8971" y="7391"/>
                  <a:pt x="8985" y="7461"/>
                </a:cubicBezTo>
                <a:cubicBezTo>
                  <a:pt x="9001" y="7544"/>
                  <a:pt x="8997" y="7677"/>
                  <a:pt x="8954" y="7747"/>
                </a:cubicBezTo>
                <a:cubicBezTo>
                  <a:pt x="8928" y="7790"/>
                  <a:pt x="8872" y="7837"/>
                  <a:pt x="8826" y="7842"/>
                </a:cubicBezTo>
                <a:cubicBezTo>
                  <a:pt x="8749" y="7851"/>
                  <a:pt x="8695" y="7822"/>
                  <a:pt x="8636" y="7810"/>
                </a:cubicBezTo>
                <a:cubicBezTo>
                  <a:pt x="8621" y="7807"/>
                  <a:pt x="8487" y="7792"/>
                  <a:pt x="8477" y="7779"/>
                </a:cubicBezTo>
                <a:cubicBezTo>
                  <a:pt x="8477" y="7768"/>
                  <a:pt x="8477" y="7758"/>
                  <a:pt x="8477" y="7747"/>
                </a:cubicBezTo>
              </a:path>
              <a:path w="9589" h="3112">
                <a:moveTo>
                  <a:pt x="8096" y="8128"/>
                </a:moveTo>
                <a:cubicBezTo>
                  <a:pt x="8129" y="8199"/>
                  <a:pt x="8122" y="8226"/>
                  <a:pt x="8192" y="8287"/>
                </a:cubicBezTo>
                <a:cubicBezTo>
                  <a:pt x="8250" y="8337"/>
                  <a:pt x="8315" y="8378"/>
                  <a:pt x="8382" y="8414"/>
                </a:cubicBezTo>
                <a:cubicBezTo>
                  <a:pt x="8481" y="8466"/>
                  <a:pt x="8535" y="8456"/>
                  <a:pt x="8636" y="8477"/>
                </a:cubicBezTo>
                <a:cubicBezTo>
                  <a:pt x="8735" y="8497"/>
                  <a:pt x="8818" y="8522"/>
                  <a:pt x="8922" y="8509"/>
                </a:cubicBezTo>
                <a:cubicBezTo>
                  <a:pt x="9044" y="8494"/>
                  <a:pt x="9217" y="8395"/>
                  <a:pt x="9303" y="8318"/>
                </a:cubicBezTo>
                <a:cubicBezTo>
                  <a:pt x="9405" y="8226"/>
                  <a:pt x="9452" y="8137"/>
                  <a:pt x="9525" y="8033"/>
                </a:cubicBezTo>
                <a:cubicBezTo>
                  <a:pt x="9623" y="7895"/>
                  <a:pt x="9667" y="7819"/>
                  <a:pt x="9716" y="7652"/>
                </a:cubicBezTo>
                <a:cubicBezTo>
                  <a:pt x="9772" y="7462"/>
                  <a:pt x="9811" y="7312"/>
                  <a:pt x="9811" y="7112"/>
                </a:cubicBezTo>
                <a:cubicBezTo>
                  <a:pt x="9811" y="6975"/>
                  <a:pt x="9766" y="6827"/>
                  <a:pt x="9716" y="6699"/>
                </a:cubicBezTo>
                <a:cubicBezTo>
                  <a:pt x="9670" y="6581"/>
                  <a:pt x="9580" y="6501"/>
                  <a:pt x="9493" y="6414"/>
                </a:cubicBezTo>
                <a:cubicBezTo>
                  <a:pt x="9378" y="6298"/>
                  <a:pt x="9258" y="6253"/>
                  <a:pt x="9112" y="6191"/>
                </a:cubicBezTo>
                <a:cubicBezTo>
                  <a:pt x="9016" y="6150"/>
                  <a:pt x="8931" y="6163"/>
                  <a:pt x="8826" y="6160"/>
                </a:cubicBezTo>
                <a:cubicBezTo>
                  <a:pt x="8710" y="6157"/>
                  <a:pt x="8642" y="6205"/>
                  <a:pt x="8541" y="6255"/>
                </a:cubicBezTo>
                <a:cubicBezTo>
                  <a:pt x="8428" y="6311"/>
                  <a:pt x="8413" y="6373"/>
                  <a:pt x="8318" y="6445"/>
                </a:cubicBezTo>
                <a:cubicBezTo>
                  <a:pt x="8232" y="6511"/>
                  <a:pt x="8159" y="6606"/>
                  <a:pt x="8096" y="6699"/>
                </a:cubicBezTo>
                <a:cubicBezTo>
                  <a:pt x="8033" y="6792"/>
                  <a:pt x="7978" y="6914"/>
                  <a:pt x="7938" y="7017"/>
                </a:cubicBezTo>
                <a:cubicBezTo>
                  <a:pt x="7897" y="7124"/>
                  <a:pt x="7870" y="7253"/>
                  <a:pt x="7842" y="7366"/>
                </a:cubicBezTo>
                <a:cubicBezTo>
                  <a:pt x="7816" y="7470"/>
                  <a:pt x="7813" y="7575"/>
                  <a:pt x="7810" y="7684"/>
                </a:cubicBezTo>
                <a:cubicBezTo>
                  <a:pt x="7807" y="7794"/>
                  <a:pt x="7815" y="7868"/>
                  <a:pt x="7842" y="7969"/>
                </a:cubicBezTo>
                <a:cubicBezTo>
                  <a:pt x="7866" y="8058"/>
                  <a:pt x="7876" y="8115"/>
                  <a:pt x="7938" y="8192"/>
                </a:cubicBezTo>
                <a:cubicBezTo>
                  <a:pt x="7995" y="8262"/>
                  <a:pt x="8073" y="8322"/>
                  <a:pt x="8160" y="8350"/>
                </a:cubicBezTo>
                <a:cubicBezTo>
                  <a:pt x="8232" y="8373"/>
                  <a:pt x="8316" y="8386"/>
                  <a:pt x="8382" y="8414"/>
                </a:cubicBezTo>
                <a:cubicBezTo>
                  <a:pt x="8467" y="8451"/>
                  <a:pt x="8452" y="8438"/>
                  <a:pt x="8541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for a line with a slope of 4 and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-intercept of 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3"/>
          <p:cNvSpPr/>
          <p:nvPr/>
        </p:nvSpPr>
        <p:spPr>
          <a:xfrm>
            <a:off x="1874880" y="3132000"/>
            <a:ext cx="2171520" cy="846360"/>
          </a:xfrm>
          <a:custGeom>
            <a:avLst/>
            <a:gdLst/>
            <a:ahLst/>
            <a:rect l="l" t="t" r="r" b="b"/>
            <a:pathLst>
              <a:path w="6034" h="2350">
                <a:moveTo>
                  <a:pt x="5493" y="8700"/>
                </a:moveTo>
                <a:cubicBezTo>
                  <a:pt x="5487" y="8756"/>
                  <a:pt x="5468" y="8807"/>
                  <a:pt x="5461" y="8858"/>
                </a:cubicBezTo>
                <a:cubicBezTo>
                  <a:pt x="5448" y="8954"/>
                  <a:pt x="5433" y="9046"/>
                  <a:pt x="5429" y="9144"/>
                </a:cubicBezTo>
                <a:cubicBezTo>
                  <a:pt x="5423" y="9302"/>
                  <a:pt x="5417" y="9482"/>
                  <a:pt x="5461" y="9620"/>
                </a:cubicBezTo>
                <a:cubicBezTo>
                  <a:pt x="5481" y="9682"/>
                  <a:pt x="5516" y="9702"/>
                  <a:pt x="5556" y="9747"/>
                </a:cubicBezTo>
                <a:cubicBezTo>
                  <a:pt x="5597" y="9722"/>
                  <a:pt x="5652" y="9705"/>
                  <a:pt x="5683" y="9652"/>
                </a:cubicBezTo>
                <a:cubicBezTo>
                  <a:pt x="5749" y="9541"/>
                  <a:pt x="5771" y="9393"/>
                  <a:pt x="5810" y="9271"/>
                </a:cubicBezTo>
                <a:cubicBezTo>
                  <a:pt x="5848" y="9155"/>
                  <a:pt x="5900" y="9044"/>
                  <a:pt x="5906" y="8922"/>
                </a:cubicBezTo>
                <a:cubicBezTo>
                  <a:pt x="5908" y="8880"/>
                  <a:pt x="5906" y="8837"/>
                  <a:pt x="5906" y="8795"/>
                </a:cubicBezTo>
                <a:cubicBezTo>
                  <a:pt x="5906" y="8859"/>
                  <a:pt x="5906" y="8858"/>
                  <a:pt x="5906" y="8922"/>
                </a:cubicBezTo>
                <a:cubicBezTo>
                  <a:pt x="5906" y="9180"/>
                  <a:pt x="5917" y="9431"/>
                  <a:pt x="5937" y="9684"/>
                </a:cubicBezTo>
                <a:cubicBezTo>
                  <a:pt x="5960" y="9976"/>
                  <a:pt x="5979" y="10352"/>
                  <a:pt x="5906" y="10636"/>
                </a:cubicBezTo>
                <a:cubicBezTo>
                  <a:pt x="5871" y="10772"/>
                  <a:pt x="5815" y="10943"/>
                  <a:pt x="5683" y="11017"/>
                </a:cubicBezTo>
                <a:cubicBezTo>
                  <a:pt x="5597" y="11066"/>
                  <a:pt x="5544" y="11027"/>
                  <a:pt x="5461" y="10986"/>
                </a:cubicBezTo>
                <a:cubicBezTo>
                  <a:pt x="5356" y="10933"/>
                  <a:pt x="5320" y="10864"/>
                  <a:pt x="5270" y="10763"/>
                </a:cubicBezTo>
                <a:cubicBezTo>
                  <a:pt x="5214" y="10651"/>
                  <a:pt x="5206" y="10571"/>
                  <a:pt x="5239" y="10446"/>
                </a:cubicBezTo>
                <a:cubicBezTo>
                  <a:pt x="5268" y="10339"/>
                  <a:pt x="5376" y="10227"/>
                  <a:pt x="5461" y="10160"/>
                </a:cubicBezTo>
                <a:cubicBezTo>
                  <a:pt x="5539" y="10098"/>
                  <a:pt x="5679" y="10018"/>
                  <a:pt x="5778" y="10001"/>
                </a:cubicBezTo>
                <a:cubicBezTo>
                  <a:pt x="5823" y="9993"/>
                  <a:pt x="5888" y="10001"/>
                  <a:pt x="5937" y="10001"/>
                </a:cubicBezTo>
              </a:path>
              <a:path w="6034" h="2350">
                <a:moveTo>
                  <a:pt x="6350" y="9239"/>
                </a:moveTo>
                <a:cubicBezTo>
                  <a:pt x="6278" y="9239"/>
                  <a:pt x="6390" y="9211"/>
                  <a:pt x="6414" y="9208"/>
                </a:cubicBezTo>
                <a:cubicBezTo>
                  <a:pt x="6465" y="9202"/>
                  <a:pt x="6537" y="9239"/>
                  <a:pt x="6604" y="9239"/>
                </a:cubicBezTo>
                <a:cubicBezTo>
                  <a:pt x="6731" y="9239"/>
                  <a:pt x="6858" y="9239"/>
                  <a:pt x="6985" y="9239"/>
                </a:cubicBezTo>
              </a:path>
              <a:path w="6034" h="2350">
                <a:moveTo>
                  <a:pt x="6540" y="9588"/>
                </a:moveTo>
                <a:cubicBezTo>
                  <a:pt x="6590" y="9576"/>
                  <a:pt x="6646" y="9573"/>
                  <a:pt x="6699" y="9557"/>
                </a:cubicBezTo>
                <a:cubicBezTo>
                  <a:pt x="6790" y="9530"/>
                  <a:pt x="6855" y="9525"/>
                  <a:pt x="6953" y="9525"/>
                </a:cubicBezTo>
                <a:cubicBezTo>
                  <a:pt x="6964" y="9525"/>
                  <a:pt x="6974" y="9525"/>
                  <a:pt x="6985" y="9525"/>
                </a:cubicBezTo>
              </a:path>
              <a:path w="6034" h="2350">
                <a:moveTo>
                  <a:pt x="7430" y="8985"/>
                </a:moveTo>
                <a:cubicBezTo>
                  <a:pt x="7430" y="9087"/>
                  <a:pt x="7409" y="9173"/>
                  <a:pt x="7398" y="9271"/>
                </a:cubicBezTo>
                <a:cubicBezTo>
                  <a:pt x="7371" y="9508"/>
                  <a:pt x="7398" y="9762"/>
                  <a:pt x="7398" y="10001"/>
                </a:cubicBezTo>
                <a:cubicBezTo>
                  <a:pt x="7418" y="9962"/>
                  <a:pt x="7430" y="9962"/>
                  <a:pt x="7430" y="9874"/>
                </a:cubicBezTo>
                <a:cubicBezTo>
                  <a:pt x="7430" y="9756"/>
                  <a:pt x="7440" y="9639"/>
                  <a:pt x="7461" y="9525"/>
                </a:cubicBezTo>
                <a:cubicBezTo>
                  <a:pt x="7484" y="9403"/>
                  <a:pt x="7514" y="9259"/>
                  <a:pt x="7556" y="9144"/>
                </a:cubicBezTo>
                <a:cubicBezTo>
                  <a:pt x="7579" y="9080"/>
                  <a:pt x="7621" y="8977"/>
                  <a:pt x="7652" y="8922"/>
                </a:cubicBezTo>
                <a:cubicBezTo>
                  <a:pt x="7663" y="8911"/>
                  <a:pt x="7673" y="8901"/>
                  <a:pt x="7684" y="8890"/>
                </a:cubicBezTo>
                <a:cubicBezTo>
                  <a:pt x="7751" y="8932"/>
                  <a:pt x="7763" y="8904"/>
                  <a:pt x="7810" y="8985"/>
                </a:cubicBezTo>
                <a:cubicBezTo>
                  <a:pt x="7868" y="9083"/>
                  <a:pt x="7847" y="9199"/>
                  <a:pt x="7874" y="9303"/>
                </a:cubicBezTo>
                <a:cubicBezTo>
                  <a:pt x="7907" y="9430"/>
                  <a:pt x="7906" y="9549"/>
                  <a:pt x="7906" y="9684"/>
                </a:cubicBezTo>
                <a:cubicBezTo>
                  <a:pt x="7906" y="9768"/>
                  <a:pt x="7895" y="9829"/>
                  <a:pt x="7874" y="9906"/>
                </a:cubicBezTo>
                <a:cubicBezTo>
                  <a:pt x="7874" y="9835"/>
                  <a:pt x="7898" y="9781"/>
                  <a:pt x="7906" y="9716"/>
                </a:cubicBezTo>
                <a:cubicBezTo>
                  <a:pt x="7922" y="9596"/>
                  <a:pt x="7934" y="9485"/>
                  <a:pt x="7969" y="9366"/>
                </a:cubicBezTo>
                <a:cubicBezTo>
                  <a:pt x="7997" y="9270"/>
                  <a:pt x="8028" y="9136"/>
                  <a:pt x="8064" y="9049"/>
                </a:cubicBezTo>
                <a:cubicBezTo>
                  <a:pt x="8102" y="9011"/>
                  <a:pt x="8116" y="8993"/>
                  <a:pt x="8128" y="8954"/>
                </a:cubicBezTo>
                <a:cubicBezTo>
                  <a:pt x="8232" y="8969"/>
                  <a:pt x="8180" y="8963"/>
                  <a:pt x="8223" y="9049"/>
                </a:cubicBezTo>
                <a:cubicBezTo>
                  <a:pt x="8270" y="9142"/>
                  <a:pt x="8270" y="9256"/>
                  <a:pt x="8287" y="9366"/>
                </a:cubicBezTo>
                <a:cubicBezTo>
                  <a:pt x="8304" y="9475"/>
                  <a:pt x="8294" y="9610"/>
                  <a:pt x="8318" y="9716"/>
                </a:cubicBezTo>
                <a:cubicBezTo>
                  <a:pt x="8339" y="9808"/>
                  <a:pt x="8366" y="9908"/>
                  <a:pt x="8382" y="10001"/>
                </a:cubicBezTo>
                <a:cubicBezTo>
                  <a:pt x="8388" y="10039"/>
                  <a:pt x="8397" y="10142"/>
                  <a:pt x="8446" y="10160"/>
                </a:cubicBezTo>
                <a:cubicBezTo>
                  <a:pt x="8472" y="10169"/>
                  <a:pt x="8513" y="10157"/>
                  <a:pt x="8541" y="10160"/>
                </a:cubicBezTo>
              </a:path>
              <a:path w="6034" h="2350">
                <a:moveTo>
                  <a:pt x="8731" y="9049"/>
                </a:moveTo>
                <a:cubicBezTo>
                  <a:pt x="8746" y="9094"/>
                  <a:pt x="8764" y="9138"/>
                  <a:pt x="8795" y="9208"/>
                </a:cubicBezTo>
                <a:cubicBezTo>
                  <a:pt x="8844" y="9320"/>
                  <a:pt x="8890" y="9419"/>
                  <a:pt x="8954" y="9525"/>
                </a:cubicBezTo>
                <a:cubicBezTo>
                  <a:pt x="9032" y="9653"/>
                  <a:pt x="9097" y="9781"/>
                  <a:pt x="9176" y="9906"/>
                </a:cubicBezTo>
                <a:cubicBezTo>
                  <a:pt x="9229" y="9989"/>
                  <a:pt x="9325" y="10055"/>
                  <a:pt x="9366" y="10128"/>
                </a:cubicBezTo>
                <a:cubicBezTo>
                  <a:pt x="9386" y="10164"/>
                  <a:pt x="9380" y="10183"/>
                  <a:pt x="9398" y="10128"/>
                </a:cubicBezTo>
              </a:path>
              <a:path w="6034" h="2350">
                <a:moveTo>
                  <a:pt x="9334" y="9080"/>
                </a:moveTo>
                <a:cubicBezTo>
                  <a:pt x="9322" y="9169"/>
                  <a:pt x="9268" y="9258"/>
                  <a:pt x="9208" y="9334"/>
                </a:cubicBezTo>
                <a:cubicBezTo>
                  <a:pt x="9119" y="9447"/>
                  <a:pt x="9018" y="9583"/>
                  <a:pt x="8954" y="9716"/>
                </a:cubicBezTo>
                <a:cubicBezTo>
                  <a:pt x="8897" y="9835"/>
                  <a:pt x="8835" y="9926"/>
                  <a:pt x="8763" y="10033"/>
                </a:cubicBezTo>
                <a:cubicBezTo>
                  <a:pt x="8726" y="10088"/>
                  <a:pt x="8714" y="10166"/>
                  <a:pt x="8700" y="10224"/>
                </a:cubicBezTo>
              </a:path>
              <a:path w="6034" h="2350">
                <a:moveTo>
                  <a:pt x="9842" y="9239"/>
                </a:moveTo>
                <a:cubicBezTo>
                  <a:pt x="9904" y="9321"/>
                  <a:pt x="9856" y="9362"/>
                  <a:pt x="9842" y="9462"/>
                </a:cubicBezTo>
                <a:cubicBezTo>
                  <a:pt x="9826" y="9575"/>
                  <a:pt x="9815" y="9697"/>
                  <a:pt x="9811" y="9811"/>
                </a:cubicBezTo>
                <a:cubicBezTo>
                  <a:pt x="9807" y="9929"/>
                  <a:pt x="9818" y="10020"/>
                  <a:pt x="9842" y="10128"/>
                </a:cubicBezTo>
                <a:cubicBezTo>
                  <a:pt x="9842" y="10160"/>
                  <a:pt x="9842" y="10171"/>
                  <a:pt x="9874" y="10160"/>
                </a:cubicBezTo>
              </a:path>
              <a:path w="6034" h="2350">
                <a:moveTo>
                  <a:pt x="9620" y="9557"/>
                </a:moveTo>
                <a:cubicBezTo>
                  <a:pt x="9690" y="9571"/>
                  <a:pt x="9746" y="9602"/>
                  <a:pt x="9811" y="9620"/>
                </a:cubicBezTo>
                <a:cubicBezTo>
                  <a:pt x="9922" y="9650"/>
                  <a:pt x="10015" y="9677"/>
                  <a:pt x="10128" y="9684"/>
                </a:cubicBezTo>
                <a:cubicBezTo>
                  <a:pt x="10174" y="9687"/>
                  <a:pt x="10212" y="9661"/>
                  <a:pt x="10255" y="9652"/>
                </a:cubicBezTo>
              </a:path>
              <a:path w="6034" h="2350">
                <a:moveTo>
                  <a:pt x="10509" y="8826"/>
                </a:moveTo>
                <a:cubicBezTo>
                  <a:pt x="10509" y="9063"/>
                  <a:pt x="10497" y="9291"/>
                  <a:pt x="10478" y="9525"/>
                </a:cubicBezTo>
                <a:cubicBezTo>
                  <a:pt x="10463" y="9711"/>
                  <a:pt x="10490" y="9887"/>
                  <a:pt x="10509" y="10065"/>
                </a:cubicBezTo>
                <a:cubicBezTo>
                  <a:pt x="10518" y="10149"/>
                  <a:pt x="10509" y="10170"/>
                  <a:pt x="10509" y="10255"/>
                </a:cubicBezTo>
                <a:cubicBezTo>
                  <a:pt x="10493" y="10162"/>
                  <a:pt x="10505" y="10128"/>
                  <a:pt x="10509" y="10033"/>
                </a:cubicBezTo>
                <a:cubicBezTo>
                  <a:pt x="10514" y="9917"/>
                  <a:pt x="10532" y="9794"/>
                  <a:pt x="10573" y="9684"/>
                </a:cubicBezTo>
                <a:cubicBezTo>
                  <a:pt x="10602" y="9606"/>
                  <a:pt x="10676" y="9523"/>
                  <a:pt x="10732" y="9462"/>
                </a:cubicBezTo>
                <a:cubicBezTo>
                  <a:pt x="10778" y="9412"/>
                  <a:pt x="10877" y="9355"/>
                  <a:pt x="10954" y="9398"/>
                </a:cubicBezTo>
                <a:cubicBezTo>
                  <a:pt x="11021" y="9436"/>
                  <a:pt x="11114" y="9584"/>
                  <a:pt x="11144" y="9652"/>
                </a:cubicBezTo>
                <a:cubicBezTo>
                  <a:pt x="11191" y="9759"/>
                  <a:pt x="11258" y="9915"/>
                  <a:pt x="11240" y="10033"/>
                </a:cubicBezTo>
                <a:cubicBezTo>
                  <a:pt x="11224" y="10141"/>
                  <a:pt x="11165" y="10231"/>
                  <a:pt x="11112" y="10319"/>
                </a:cubicBezTo>
                <a:cubicBezTo>
                  <a:pt x="11075" y="10380"/>
                  <a:pt x="10976" y="10433"/>
                  <a:pt x="10890" y="10414"/>
                </a:cubicBezTo>
                <a:cubicBezTo>
                  <a:pt x="10830" y="10401"/>
                  <a:pt x="10684" y="10354"/>
                  <a:pt x="10636" y="10319"/>
                </a:cubicBezTo>
                <a:cubicBezTo>
                  <a:pt x="10566" y="10268"/>
                  <a:pt x="10544" y="10263"/>
                  <a:pt x="10478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4"/>
          <p:cNvSpPr/>
          <p:nvPr/>
        </p:nvSpPr>
        <p:spPr>
          <a:xfrm>
            <a:off x="1886040" y="4079880"/>
            <a:ext cx="1966680" cy="870120"/>
          </a:xfrm>
          <a:custGeom>
            <a:avLst/>
            <a:gdLst/>
            <a:ahLst/>
            <a:rect l="l" t="t" r="r" b="b"/>
            <a:pathLst>
              <a:path w="5462" h="2414">
                <a:moveTo>
                  <a:pt x="5524" y="11557"/>
                </a:moveTo>
                <a:cubicBezTo>
                  <a:pt x="5524" y="11610"/>
                  <a:pt x="5535" y="11600"/>
                  <a:pt x="5524" y="11652"/>
                </a:cubicBezTo>
                <a:cubicBezTo>
                  <a:pt x="5506" y="11739"/>
                  <a:pt x="5461" y="11821"/>
                  <a:pt x="5429" y="11906"/>
                </a:cubicBezTo>
                <a:cubicBezTo>
                  <a:pt x="5392" y="12006"/>
                  <a:pt x="5376" y="12149"/>
                  <a:pt x="5398" y="12256"/>
                </a:cubicBezTo>
                <a:cubicBezTo>
                  <a:pt x="5422" y="12375"/>
                  <a:pt x="5425" y="12443"/>
                  <a:pt x="5524" y="12510"/>
                </a:cubicBezTo>
                <a:cubicBezTo>
                  <a:pt x="5616" y="12572"/>
                  <a:pt x="5641" y="12588"/>
                  <a:pt x="5747" y="12541"/>
                </a:cubicBezTo>
                <a:cubicBezTo>
                  <a:pt x="5866" y="12489"/>
                  <a:pt x="5904" y="12391"/>
                  <a:pt x="5969" y="12287"/>
                </a:cubicBezTo>
                <a:cubicBezTo>
                  <a:pt x="6053" y="12152"/>
                  <a:pt x="6056" y="12050"/>
                  <a:pt x="6096" y="11906"/>
                </a:cubicBezTo>
                <a:cubicBezTo>
                  <a:pt x="6117" y="11828"/>
                  <a:pt x="6145" y="11756"/>
                  <a:pt x="6160" y="11684"/>
                </a:cubicBezTo>
                <a:cubicBezTo>
                  <a:pt x="6160" y="11673"/>
                  <a:pt x="6160" y="11663"/>
                  <a:pt x="6160" y="11652"/>
                </a:cubicBezTo>
                <a:cubicBezTo>
                  <a:pt x="6180" y="11729"/>
                  <a:pt x="6191" y="11791"/>
                  <a:pt x="6191" y="11874"/>
                </a:cubicBezTo>
                <a:cubicBezTo>
                  <a:pt x="6191" y="12038"/>
                  <a:pt x="6140" y="12189"/>
                  <a:pt x="6128" y="12351"/>
                </a:cubicBezTo>
                <a:cubicBezTo>
                  <a:pt x="6110" y="12594"/>
                  <a:pt x="6101" y="12877"/>
                  <a:pt x="6032" y="13113"/>
                </a:cubicBezTo>
                <a:cubicBezTo>
                  <a:pt x="5984" y="13277"/>
                  <a:pt x="5949" y="13483"/>
                  <a:pt x="5842" y="13621"/>
                </a:cubicBezTo>
                <a:cubicBezTo>
                  <a:pt x="5805" y="13668"/>
                  <a:pt x="5685" y="13768"/>
                  <a:pt x="5620" y="13748"/>
                </a:cubicBezTo>
                <a:cubicBezTo>
                  <a:pt x="5585" y="13737"/>
                  <a:pt x="5456" y="13649"/>
                  <a:pt x="5429" y="13621"/>
                </a:cubicBezTo>
                <a:cubicBezTo>
                  <a:pt x="5378" y="13567"/>
                  <a:pt x="5337" y="13496"/>
                  <a:pt x="5302" y="13430"/>
                </a:cubicBezTo>
                <a:cubicBezTo>
                  <a:pt x="5260" y="13350"/>
                  <a:pt x="5240" y="13318"/>
                  <a:pt x="5270" y="13240"/>
                </a:cubicBezTo>
                <a:cubicBezTo>
                  <a:pt x="5281" y="13219"/>
                  <a:pt x="5291" y="13197"/>
                  <a:pt x="5302" y="13176"/>
                </a:cubicBezTo>
              </a:path>
              <a:path w="5462" h="2414">
                <a:moveTo>
                  <a:pt x="6445" y="12065"/>
                </a:moveTo>
                <a:cubicBezTo>
                  <a:pt x="6513" y="12048"/>
                  <a:pt x="6554" y="12033"/>
                  <a:pt x="6636" y="12033"/>
                </a:cubicBezTo>
                <a:cubicBezTo>
                  <a:pt x="6734" y="12033"/>
                  <a:pt x="6799" y="12044"/>
                  <a:pt x="6890" y="12065"/>
                </a:cubicBezTo>
                <a:cubicBezTo>
                  <a:pt x="6929" y="12074"/>
                  <a:pt x="6977" y="12065"/>
                  <a:pt x="7017" y="12065"/>
                </a:cubicBezTo>
              </a:path>
              <a:path w="5462" h="2414">
                <a:moveTo>
                  <a:pt x="6509" y="12414"/>
                </a:moveTo>
                <a:cubicBezTo>
                  <a:pt x="6576" y="12360"/>
                  <a:pt x="6640" y="12332"/>
                  <a:pt x="6731" y="12351"/>
                </a:cubicBezTo>
                <a:cubicBezTo>
                  <a:pt x="6816" y="12369"/>
                  <a:pt x="6918" y="12373"/>
                  <a:pt x="6985" y="12414"/>
                </a:cubicBezTo>
              </a:path>
              <a:path w="5462" h="2414">
                <a:moveTo>
                  <a:pt x="7556" y="11684"/>
                </a:moveTo>
                <a:cubicBezTo>
                  <a:pt x="7556" y="11847"/>
                  <a:pt x="7542" y="12002"/>
                  <a:pt x="7525" y="12160"/>
                </a:cubicBezTo>
                <a:cubicBezTo>
                  <a:pt x="7510" y="12301"/>
                  <a:pt x="7516" y="12438"/>
                  <a:pt x="7493" y="12573"/>
                </a:cubicBezTo>
                <a:cubicBezTo>
                  <a:pt x="7493" y="12626"/>
                  <a:pt x="7493" y="12636"/>
                  <a:pt x="7493" y="12668"/>
                </a:cubicBezTo>
                <a:cubicBezTo>
                  <a:pt x="7493" y="12584"/>
                  <a:pt x="7515" y="12522"/>
                  <a:pt x="7525" y="12446"/>
                </a:cubicBezTo>
                <a:cubicBezTo>
                  <a:pt x="7536" y="12365"/>
                  <a:pt x="7551" y="12270"/>
                  <a:pt x="7556" y="12192"/>
                </a:cubicBezTo>
                <a:cubicBezTo>
                  <a:pt x="7559" y="12150"/>
                  <a:pt x="7556" y="12107"/>
                  <a:pt x="7556" y="12065"/>
                </a:cubicBezTo>
                <a:cubicBezTo>
                  <a:pt x="7604" y="12081"/>
                  <a:pt x="7588" y="12103"/>
                  <a:pt x="7588" y="12160"/>
                </a:cubicBezTo>
                <a:cubicBezTo>
                  <a:pt x="7588" y="12192"/>
                  <a:pt x="7588" y="12203"/>
                  <a:pt x="7588" y="12160"/>
                </a:cubicBezTo>
              </a:path>
              <a:path w="5462" h="2414">
                <a:moveTo>
                  <a:pt x="7207" y="11335"/>
                </a:moveTo>
                <a:cubicBezTo>
                  <a:pt x="7207" y="11402"/>
                  <a:pt x="7182" y="11426"/>
                  <a:pt x="7176" y="11494"/>
                </a:cubicBezTo>
                <a:cubicBezTo>
                  <a:pt x="7169" y="11575"/>
                  <a:pt x="7157" y="11640"/>
                  <a:pt x="7144" y="11716"/>
                </a:cubicBezTo>
                <a:cubicBezTo>
                  <a:pt x="7132" y="11789"/>
                  <a:pt x="7131" y="11843"/>
                  <a:pt x="7112" y="11906"/>
                </a:cubicBezTo>
                <a:cubicBezTo>
                  <a:pt x="7102" y="11941"/>
                  <a:pt x="7112" y="11996"/>
                  <a:pt x="7112" y="12033"/>
                </a:cubicBezTo>
                <a:cubicBezTo>
                  <a:pt x="7162" y="12021"/>
                  <a:pt x="7183" y="12002"/>
                  <a:pt x="7239" y="12002"/>
                </a:cubicBezTo>
                <a:cubicBezTo>
                  <a:pt x="7275" y="12002"/>
                  <a:pt x="7289" y="11999"/>
                  <a:pt x="7302" y="11970"/>
                </a:cubicBezTo>
                <a:cubicBezTo>
                  <a:pt x="7348" y="11998"/>
                  <a:pt x="7411" y="12017"/>
                  <a:pt x="7461" y="12033"/>
                </a:cubicBezTo>
                <a:cubicBezTo>
                  <a:pt x="7509" y="12049"/>
                  <a:pt x="7533" y="12065"/>
                  <a:pt x="7588" y="12065"/>
                </a:cubicBezTo>
                <a:cubicBezTo>
                  <a:pt x="7599" y="12065"/>
                  <a:pt x="7609" y="12065"/>
                  <a:pt x="7620" y="12065"/>
                </a:cubicBezTo>
              </a:path>
              <a:path w="5462" h="2414">
                <a:moveTo>
                  <a:pt x="7525" y="11398"/>
                </a:moveTo>
                <a:cubicBezTo>
                  <a:pt x="7558" y="11487"/>
                  <a:pt x="7556" y="11555"/>
                  <a:pt x="7556" y="11652"/>
                </a:cubicBezTo>
                <a:cubicBezTo>
                  <a:pt x="7556" y="11868"/>
                  <a:pt x="7553" y="12077"/>
                  <a:pt x="7525" y="12287"/>
                </a:cubicBezTo>
                <a:cubicBezTo>
                  <a:pt x="7505" y="12435"/>
                  <a:pt x="7525" y="12594"/>
                  <a:pt x="7556" y="12732"/>
                </a:cubicBezTo>
                <a:cubicBezTo>
                  <a:pt x="7556" y="12774"/>
                  <a:pt x="7556" y="12795"/>
                  <a:pt x="7556" y="12827"/>
                </a:cubicBezTo>
              </a:path>
              <a:path w="5462" h="2414">
                <a:moveTo>
                  <a:pt x="8064" y="11906"/>
                </a:moveTo>
                <a:cubicBezTo>
                  <a:pt x="8108" y="11965"/>
                  <a:pt x="8095" y="12024"/>
                  <a:pt x="8128" y="12097"/>
                </a:cubicBezTo>
                <a:cubicBezTo>
                  <a:pt x="8175" y="12202"/>
                  <a:pt x="8239" y="12280"/>
                  <a:pt x="8287" y="12382"/>
                </a:cubicBezTo>
                <a:cubicBezTo>
                  <a:pt x="8346" y="12508"/>
                  <a:pt x="8408" y="12643"/>
                  <a:pt x="8477" y="12764"/>
                </a:cubicBezTo>
                <a:cubicBezTo>
                  <a:pt x="8542" y="12879"/>
                  <a:pt x="8610" y="12961"/>
                  <a:pt x="8668" y="13081"/>
                </a:cubicBezTo>
                <a:cubicBezTo>
                  <a:pt x="8699" y="13146"/>
                  <a:pt x="8749" y="13198"/>
                  <a:pt x="8763" y="13240"/>
                </a:cubicBezTo>
              </a:path>
              <a:path w="5462" h="2414">
                <a:moveTo>
                  <a:pt x="8604" y="11970"/>
                </a:moveTo>
                <a:cubicBezTo>
                  <a:pt x="8604" y="11959"/>
                  <a:pt x="8604" y="11949"/>
                  <a:pt x="8604" y="11938"/>
                </a:cubicBezTo>
                <a:cubicBezTo>
                  <a:pt x="8540" y="11954"/>
                  <a:pt x="8449" y="12035"/>
                  <a:pt x="8414" y="12097"/>
                </a:cubicBezTo>
                <a:cubicBezTo>
                  <a:pt x="8343" y="12223"/>
                  <a:pt x="8269" y="12350"/>
                  <a:pt x="8192" y="12478"/>
                </a:cubicBezTo>
                <a:cubicBezTo>
                  <a:pt x="8106" y="12621"/>
                  <a:pt x="7998" y="12748"/>
                  <a:pt x="7906" y="12890"/>
                </a:cubicBezTo>
                <a:cubicBezTo>
                  <a:pt x="7885" y="12922"/>
                  <a:pt x="7863" y="12954"/>
                  <a:pt x="7842" y="12986"/>
                </a:cubicBezTo>
              </a:path>
              <a:path w="5462" h="2414">
                <a:moveTo>
                  <a:pt x="8890" y="12382"/>
                </a:moveTo>
                <a:cubicBezTo>
                  <a:pt x="8932" y="12413"/>
                  <a:pt x="8995" y="12432"/>
                  <a:pt x="9049" y="12446"/>
                </a:cubicBezTo>
                <a:cubicBezTo>
                  <a:pt x="9112" y="12462"/>
                  <a:pt x="9177" y="12474"/>
                  <a:pt x="9239" y="12478"/>
                </a:cubicBezTo>
                <a:cubicBezTo>
                  <a:pt x="9323" y="12483"/>
                  <a:pt x="9353" y="12457"/>
                  <a:pt x="9430" y="12446"/>
                </a:cubicBezTo>
              </a:path>
              <a:path w="5462" h="2414">
                <a:moveTo>
                  <a:pt x="9779" y="11684"/>
                </a:moveTo>
                <a:cubicBezTo>
                  <a:pt x="9833" y="11657"/>
                  <a:pt x="9835" y="11680"/>
                  <a:pt x="9906" y="11684"/>
                </a:cubicBezTo>
                <a:cubicBezTo>
                  <a:pt x="10011" y="11690"/>
                  <a:pt x="10095" y="11668"/>
                  <a:pt x="10192" y="11652"/>
                </a:cubicBezTo>
                <a:cubicBezTo>
                  <a:pt x="10267" y="11639"/>
                  <a:pt x="10342" y="11630"/>
                  <a:pt x="10414" y="11620"/>
                </a:cubicBezTo>
                <a:cubicBezTo>
                  <a:pt x="10444" y="11616"/>
                  <a:pt x="10479" y="11620"/>
                  <a:pt x="10509" y="11620"/>
                </a:cubicBezTo>
                <a:cubicBezTo>
                  <a:pt x="10485" y="11663"/>
                  <a:pt x="10466" y="11715"/>
                  <a:pt x="10414" y="11748"/>
                </a:cubicBezTo>
                <a:cubicBezTo>
                  <a:pt x="10342" y="11793"/>
                  <a:pt x="10247" y="11866"/>
                  <a:pt x="10192" y="11938"/>
                </a:cubicBezTo>
                <a:cubicBezTo>
                  <a:pt x="10140" y="12007"/>
                  <a:pt x="10093" y="12062"/>
                  <a:pt x="10033" y="12128"/>
                </a:cubicBezTo>
                <a:cubicBezTo>
                  <a:pt x="10001" y="12160"/>
                  <a:pt x="9991" y="12170"/>
                  <a:pt x="9970" y="12192"/>
                </a:cubicBezTo>
                <a:cubicBezTo>
                  <a:pt x="10047" y="12114"/>
                  <a:pt x="10069" y="12162"/>
                  <a:pt x="10160" y="12128"/>
                </a:cubicBezTo>
                <a:cubicBezTo>
                  <a:pt x="10235" y="12100"/>
                  <a:pt x="10296" y="12099"/>
                  <a:pt x="10382" y="12128"/>
                </a:cubicBezTo>
                <a:cubicBezTo>
                  <a:pt x="10488" y="12163"/>
                  <a:pt x="10551" y="12225"/>
                  <a:pt x="10604" y="12319"/>
                </a:cubicBezTo>
                <a:cubicBezTo>
                  <a:pt x="10651" y="12403"/>
                  <a:pt x="10707" y="12541"/>
                  <a:pt x="10700" y="12636"/>
                </a:cubicBezTo>
                <a:cubicBezTo>
                  <a:pt x="10691" y="12751"/>
                  <a:pt x="10650" y="12879"/>
                  <a:pt x="10604" y="12986"/>
                </a:cubicBezTo>
                <a:cubicBezTo>
                  <a:pt x="10551" y="13112"/>
                  <a:pt x="10489" y="13108"/>
                  <a:pt x="10382" y="13144"/>
                </a:cubicBezTo>
                <a:cubicBezTo>
                  <a:pt x="10264" y="13184"/>
                  <a:pt x="10216" y="13164"/>
                  <a:pt x="10096" y="13113"/>
                </a:cubicBezTo>
                <a:cubicBezTo>
                  <a:pt x="10020" y="13081"/>
                  <a:pt x="9964" y="13043"/>
                  <a:pt x="9906" y="12986"/>
                </a:cubicBezTo>
                <a:cubicBezTo>
                  <a:pt x="9837" y="12917"/>
                  <a:pt x="9853" y="12932"/>
                  <a:pt x="9874" y="12890"/>
                </a:cubicBezTo>
                <a:cubicBezTo>
                  <a:pt x="9874" y="12854"/>
                  <a:pt x="9877" y="12841"/>
                  <a:pt x="9906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5"/>
          <p:cNvSpPr/>
          <p:nvPr/>
        </p:nvSpPr>
        <p:spPr>
          <a:xfrm>
            <a:off x="2766960" y="2011320"/>
            <a:ext cx="2411640" cy="720720"/>
          </a:xfrm>
          <a:custGeom>
            <a:avLst/>
            <a:gdLst/>
            <a:ahLst/>
            <a:rect l="l" t="t" r="r" b="b"/>
            <a:pathLst>
              <a:path w="6700" h="2001">
                <a:moveTo>
                  <a:pt x="9525" y="5747"/>
                </a:moveTo>
                <a:cubicBezTo>
                  <a:pt x="9556" y="5728"/>
                  <a:pt x="9553" y="5719"/>
                  <a:pt x="9620" y="5715"/>
                </a:cubicBezTo>
                <a:cubicBezTo>
                  <a:pt x="9855" y="5701"/>
                  <a:pt x="10089" y="5705"/>
                  <a:pt x="10319" y="5683"/>
                </a:cubicBezTo>
                <a:cubicBezTo>
                  <a:pt x="10466" y="5669"/>
                  <a:pt x="10620" y="5665"/>
                  <a:pt x="10763" y="5652"/>
                </a:cubicBezTo>
                <a:cubicBezTo>
                  <a:pt x="10921" y="5638"/>
                  <a:pt x="11082" y="5625"/>
                  <a:pt x="11240" y="5620"/>
                </a:cubicBezTo>
                <a:cubicBezTo>
                  <a:pt x="11393" y="5615"/>
                  <a:pt x="11533" y="5593"/>
                  <a:pt x="11684" y="5588"/>
                </a:cubicBezTo>
                <a:cubicBezTo>
                  <a:pt x="11869" y="5582"/>
                  <a:pt x="12049" y="5592"/>
                  <a:pt x="12224" y="5620"/>
                </a:cubicBezTo>
                <a:cubicBezTo>
                  <a:pt x="12356" y="5641"/>
                  <a:pt x="12492" y="5614"/>
                  <a:pt x="12510" y="5588"/>
                </a:cubicBezTo>
              </a:path>
              <a:path w="6700" h="2001">
                <a:moveTo>
                  <a:pt x="7684" y="7556"/>
                </a:moveTo>
                <a:lnTo>
                  <a:pt x="7684" y="7556"/>
                </a:lnTo>
              </a:path>
              <a:path w="6700" h="2001">
                <a:moveTo>
                  <a:pt x="7684" y="7556"/>
                </a:moveTo>
                <a:cubicBezTo>
                  <a:pt x="7694" y="7567"/>
                  <a:pt x="7705" y="7577"/>
                  <a:pt x="7715" y="7588"/>
                </a:cubicBezTo>
              </a:path>
              <a:path w="6700" h="2001">
                <a:moveTo>
                  <a:pt x="7715" y="7588"/>
                </a:moveTo>
                <a:cubicBezTo>
                  <a:pt x="8090" y="7588"/>
                  <a:pt x="8454" y="7556"/>
                  <a:pt x="8826" y="7556"/>
                </a:cubicBezTo>
                <a:cubicBezTo>
                  <a:pt x="9074" y="7556"/>
                  <a:pt x="9313" y="7541"/>
                  <a:pt x="9557" y="7525"/>
                </a:cubicBezTo>
                <a:cubicBezTo>
                  <a:pt x="9904" y="7502"/>
                  <a:pt x="10258" y="7513"/>
                  <a:pt x="10604" y="7493"/>
                </a:cubicBezTo>
                <a:cubicBezTo>
                  <a:pt x="11058" y="7467"/>
                  <a:pt x="11519" y="7500"/>
                  <a:pt x="11970" y="7525"/>
                </a:cubicBezTo>
                <a:cubicBezTo>
                  <a:pt x="12212" y="7539"/>
                  <a:pt x="12456" y="7493"/>
                  <a:pt x="12700" y="7493"/>
                </a:cubicBezTo>
                <a:cubicBezTo>
                  <a:pt x="12935" y="7493"/>
                  <a:pt x="13162" y="7461"/>
                  <a:pt x="13398" y="7461"/>
                </a:cubicBezTo>
                <a:cubicBezTo>
                  <a:pt x="13573" y="7461"/>
                  <a:pt x="13763" y="7449"/>
                  <a:pt x="13938" y="7430"/>
                </a:cubicBezTo>
                <a:cubicBezTo>
                  <a:pt x="14042" y="7419"/>
                  <a:pt x="14153" y="7417"/>
                  <a:pt x="14256" y="7398"/>
                </a:cubicBezTo>
                <a:cubicBezTo>
                  <a:pt x="14288" y="7392"/>
                  <a:pt x="14340" y="7374"/>
                  <a:pt x="14383" y="7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and Horizonta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of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761760" y="2743200"/>
            <a:ext cx="3353040" cy="3199680"/>
            <a:chOff x="761760" y="2743200"/>
            <a:chExt cx="3353040" cy="3199680"/>
          </a:xfrm>
        </p:grpSpPr>
        <p:grpSp>
          <p:nvGrpSpPr>
            <p:cNvPr id="123" name="Group 6"/>
            <p:cNvGrpSpPr/>
            <p:nvPr/>
          </p:nvGrpSpPr>
          <p:grpSpPr>
            <a:xfrm>
              <a:off x="761760" y="3049560"/>
              <a:ext cx="3353040" cy="2893320"/>
              <a:chOff x="761760" y="3049560"/>
              <a:chExt cx="3353040" cy="2893320"/>
            </a:xfrm>
          </p:grpSpPr>
          <p:grpSp>
            <p:nvGrpSpPr>
              <p:cNvPr id="124" name="Group 7"/>
              <p:cNvGrpSpPr/>
              <p:nvPr/>
            </p:nvGrpSpPr>
            <p:grpSpPr>
              <a:xfrm>
                <a:off x="1079280" y="3372840"/>
                <a:ext cx="2377440" cy="2357280"/>
                <a:chOff x="1079280" y="3372840"/>
                <a:chExt cx="2377440" cy="2357280"/>
              </a:xfrm>
            </p:grpSpPr>
            <p:grpSp>
              <p:nvGrpSpPr>
                <p:cNvPr id="125" name="Group 8"/>
                <p:cNvGrpSpPr/>
                <p:nvPr/>
              </p:nvGrpSpPr>
              <p:grpSpPr>
                <a:xfrm>
                  <a:off x="1079280" y="3372840"/>
                  <a:ext cx="2377440" cy="2340360"/>
                  <a:chOff x="1079280" y="3372840"/>
                  <a:chExt cx="2377440" cy="2340360"/>
                </a:xfrm>
              </p:grpSpPr>
              <p:sp>
                <p:nvSpPr>
                  <p:cNvPr id="126" name="Line 9"/>
                  <p:cNvSpPr/>
                  <p:nvPr/>
                </p:nvSpPr>
                <p:spPr>
                  <a:xfrm flipV="1">
                    <a:off x="1079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0"/>
                  <p:cNvSpPr/>
                  <p:nvPr/>
                </p:nvSpPr>
                <p:spPr>
                  <a:xfrm flipV="1">
                    <a:off x="1316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11"/>
                  <p:cNvSpPr/>
                  <p:nvPr/>
                </p:nvSpPr>
                <p:spPr>
                  <a:xfrm flipV="1">
                    <a:off x="14356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2"/>
                  <p:cNvSpPr/>
                  <p:nvPr/>
                </p:nvSpPr>
                <p:spPr>
                  <a:xfrm flipV="1">
                    <a:off x="1554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3"/>
                  <p:cNvSpPr/>
                  <p:nvPr/>
                </p:nvSpPr>
                <p:spPr>
                  <a:xfrm flipV="1">
                    <a:off x="1673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14"/>
                  <p:cNvSpPr/>
                  <p:nvPr/>
                </p:nvSpPr>
                <p:spPr>
                  <a:xfrm flipV="1">
                    <a:off x="1792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15"/>
                  <p:cNvSpPr/>
                  <p:nvPr/>
                </p:nvSpPr>
                <p:spPr>
                  <a:xfrm flipV="1">
                    <a:off x="20300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16"/>
                  <p:cNvSpPr/>
                  <p:nvPr/>
                </p:nvSpPr>
                <p:spPr>
                  <a:xfrm flipV="1">
                    <a:off x="2148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17"/>
                  <p:cNvSpPr/>
                  <p:nvPr/>
                </p:nvSpPr>
                <p:spPr>
                  <a:xfrm flipV="1">
                    <a:off x="2268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18"/>
                  <p:cNvSpPr/>
                  <p:nvPr/>
                </p:nvSpPr>
                <p:spPr>
                  <a:xfrm flipV="1">
                    <a:off x="2386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19"/>
                  <p:cNvSpPr/>
                  <p:nvPr/>
                </p:nvSpPr>
                <p:spPr>
                  <a:xfrm flipV="1">
                    <a:off x="25056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20"/>
                  <p:cNvSpPr/>
                  <p:nvPr/>
                </p:nvSpPr>
                <p:spPr>
                  <a:xfrm flipV="1">
                    <a:off x="26244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Line 21"/>
                  <p:cNvSpPr/>
                  <p:nvPr/>
                </p:nvSpPr>
                <p:spPr>
                  <a:xfrm flipV="1">
                    <a:off x="2743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2"/>
                  <p:cNvSpPr/>
                  <p:nvPr/>
                </p:nvSpPr>
                <p:spPr>
                  <a:xfrm flipV="1">
                    <a:off x="2862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23"/>
                  <p:cNvSpPr/>
                  <p:nvPr/>
                </p:nvSpPr>
                <p:spPr>
                  <a:xfrm flipV="1">
                    <a:off x="29811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24"/>
                  <p:cNvSpPr/>
                  <p:nvPr/>
                </p:nvSpPr>
                <p:spPr>
                  <a:xfrm flipV="1">
                    <a:off x="30999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25"/>
                  <p:cNvSpPr/>
                  <p:nvPr/>
                </p:nvSpPr>
                <p:spPr>
                  <a:xfrm flipV="1">
                    <a:off x="32191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26"/>
                  <p:cNvSpPr/>
                  <p:nvPr/>
                </p:nvSpPr>
                <p:spPr>
                  <a:xfrm flipV="1">
                    <a:off x="3337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27"/>
                  <p:cNvSpPr/>
                  <p:nvPr/>
                </p:nvSpPr>
                <p:spPr>
                  <a:xfrm flipV="1">
                    <a:off x="3456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28"/>
                  <p:cNvSpPr/>
                  <p:nvPr/>
                </p:nvSpPr>
                <p:spPr>
                  <a:xfrm flipV="1">
                    <a:off x="1910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29"/>
                  <p:cNvSpPr/>
                  <p:nvPr/>
                </p:nvSpPr>
                <p:spPr>
                  <a:xfrm flipV="1">
                    <a:off x="1197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0"/>
                <p:cNvGrpSpPr/>
                <p:nvPr/>
              </p:nvGrpSpPr>
              <p:grpSpPr>
                <a:xfrm>
                  <a:off x="1095840" y="3373200"/>
                  <a:ext cx="2360520" cy="2356920"/>
                  <a:chOff x="1095840" y="3373200"/>
                  <a:chExt cx="2360520" cy="2356920"/>
                </a:xfrm>
              </p:grpSpPr>
              <p:sp>
                <p:nvSpPr>
                  <p:cNvPr id="148" name="Line 31"/>
                  <p:cNvSpPr/>
                  <p:nvPr/>
                </p:nvSpPr>
                <p:spPr>
                  <a:xfrm>
                    <a:off x="1095840" y="3373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32"/>
                  <p:cNvSpPr/>
                  <p:nvPr/>
                </p:nvSpPr>
                <p:spPr>
                  <a:xfrm>
                    <a:off x="1095840" y="36086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33"/>
                  <p:cNvSpPr/>
                  <p:nvPr/>
                </p:nvSpPr>
                <p:spPr>
                  <a:xfrm>
                    <a:off x="1095840" y="37263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34"/>
                  <p:cNvSpPr/>
                  <p:nvPr/>
                </p:nvSpPr>
                <p:spPr>
                  <a:xfrm>
                    <a:off x="1095840" y="38444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35"/>
                  <p:cNvSpPr/>
                  <p:nvPr/>
                </p:nvSpPr>
                <p:spPr>
                  <a:xfrm>
                    <a:off x="1095840" y="39621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36"/>
                  <p:cNvSpPr/>
                  <p:nvPr/>
                </p:nvSpPr>
                <p:spPr>
                  <a:xfrm>
                    <a:off x="1095840" y="4080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37"/>
                  <p:cNvSpPr/>
                  <p:nvPr/>
                </p:nvSpPr>
                <p:spPr>
                  <a:xfrm>
                    <a:off x="1095840" y="43156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38"/>
                  <p:cNvSpPr/>
                  <p:nvPr/>
                </p:nvSpPr>
                <p:spPr>
                  <a:xfrm>
                    <a:off x="1095840" y="44334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39"/>
                  <p:cNvSpPr/>
                  <p:nvPr/>
                </p:nvSpPr>
                <p:spPr>
                  <a:xfrm>
                    <a:off x="1095840" y="45518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40"/>
                  <p:cNvSpPr/>
                  <p:nvPr/>
                </p:nvSpPr>
                <p:spPr>
                  <a:xfrm>
                    <a:off x="1095840" y="4669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41"/>
                  <p:cNvSpPr/>
                  <p:nvPr/>
                </p:nvSpPr>
                <p:spPr>
                  <a:xfrm>
                    <a:off x="1095840" y="47872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42"/>
                  <p:cNvSpPr/>
                  <p:nvPr/>
                </p:nvSpPr>
                <p:spPr>
                  <a:xfrm>
                    <a:off x="1095840" y="49050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43"/>
                  <p:cNvSpPr/>
                  <p:nvPr/>
                </p:nvSpPr>
                <p:spPr>
                  <a:xfrm>
                    <a:off x="1095840" y="50230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44"/>
                  <p:cNvSpPr/>
                  <p:nvPr/>
                </p:nvSpPr>
                <p:spPr>
                  <a:xfrm>
                    <a:off x="1095840" y="51408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45"/>
                  <p:cNvSpPr/>
                  <p:nvPr/>
                </p:nvSpPr>
                <p:spPr>
                  <a:xfrm>
                    <a:off x="1095840" y="52588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46"/>
                  <p:cNvSpPr/>
                  <p:nvPr/>
                </p:nvSpPr>
                <p:spPr>
                  <a:xfrm>
                    <a:off x="1095840" y="5376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47"/>
                  <p:cNvSpPr/>
                  <p:nvPr/>
                </p:nvSpPr>
                <p:spPr>
                  <a:xfrm>
                    <a:off x="1095840" y="54943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48"/>
                  <p:cNvSpPr/>
                  <p:nvPr/>
                </p:nvSpPr>
                <p:spPr>
                  <a:xfrm>
                    <a:off x="1095840" y="56120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49"/>
                  <p:cNvSpPr/>
                  <p:nvPr/>
                </p:nvSpPr>
                <p:spPr>
                  <a:xfrm>
                    <a:off x="1095840" y="57301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50"/>
                  <p:cNvSpPr/>
                  <p:nvPr/>
                </p:nvSpPr>
                <p:spPr>
                  <a:xfrm>
                    <a:off x="1095840" y="41976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51"/>
                  <p:cNvSpPr/>
                  <p:nvPr/>
                </p:nvSpPr>
                <p:spPr>
                  <a:xfrm>
                    <a:off x="1095840" y="34905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" name="Line 52"/>
              <p:cNvSpPr/>
              <p:nvPr/>
            </p:nvSpPr>
            <p:spPr>
              <a:xfrm flipH="1">
                <a:off x="761760" y="4561920"/>
                <a:ext cx="296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3"/>
              <p:cNvSpPr/>
              <p:nvPr/>
            </p:nvSpPr>
            <p:spPr>
              <a:xfrm flipV="1">
                <a:off x="2276640" y="3049560"/>
                <a:ext cx="0" cy="28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695040" y="4402440"/>
                <a:ext cx="419760" cy="363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55"/>
            <p:cNvSpPr/>
            <p:nvPr/>
          </p:nvSpPr>
          <p:spPr>
            <a:xfrm>
              <a:off x="2119680" y="2743200"/>
              <a:ext cx="327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3" name="Straight Arrow Connector 56"/>
          <p:cNvCxnSpPr/>
          <p:nvPr/>
        </p:nvCxnSpPr>
        <p:spPr>
          <a:xfrm>
            <a:off x="762120" y="4114800"/>
            <a:ext cx="31248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74" name="Ink 57"/>
          <p:cNvSpPr/>
          <p:nvPr/>
        </p:nvSpPr>
        <p:spPr>
          <a:xfrm>
            <a:off x="1382760" y="2468520"/>
            <a:ext cx="1784160" cy="514440"/>
          </a:xfrm>
          <a:custGeom>
            <a:avLst/>
            <a:gdLst/>
            <a:ahLst/>
            <a:rect l="l" t="t" r="r" b="b"/>
            <a:pathLst>
              <a:path w="4954" h="1430">
                <a:moveTo>
                  <a:pt x="4382" y="7176"/>
                </a:moveTo>
                <a:cubicBezTo>
                  <a:pt x="4382" y="7106"/>
                  <a:pt x="4374" y="7112"/>
                  <a:pt x="4350" y="7080"/>
                </a:cubicBezTo>
                <a:cubicBezTo>
                  <a:pt x="4312" y="7028"/>
                  <a:pt x="4294" y="6990"/>
                  <a:pt x="4223" y="6985"/>
                </a:cubicBezTo>
                <a:cubicBezTo>
                  <a:pt x="4141" y="6979"/>
                  <a:pt x="4126" y="7004"/>
                  <a:pt x="4064" y="7017"/>
                </a:cubicBezTo>
                <a:cubicBezTo>
                  <a:pt x="4043" y="7017"/>
                  <a:pt x="4021" y="7017"/>
                  <a:pt x="4000" y="7017"/>
                </a:cubicBezTo>
                <a:cubicBezTo>
                  <a:pt x="3990" y="7090"/>
                  <a:pt x="3944" y="7111"/>
                  <a:pt x="3937" y="7176"/>
                </a:cubicBezTo>
                <a:cubicBezTo>
                  <a:pt x="3932" y="7223"/>
                  <a:pt x="3979" y="7265"/>
                  <a:pt x="4000" y="7302"/>
                </a:cubicBezTo>
                <a:cubicBezTo>
                  <a:pt x="4052" y="7393"/>
                  <a:pt x="4130" y="7390"/>
                  <a:pt x="4191" y="7461"/>
                </a:cubicBezTo>
                <a:cubicBezTo>
                  <a:pt x="4220" y="7495"/>
                  <a:pt x="4307" y="7612"/>
                  <a:pt x="4318" y="7652"/>
                </a:cubicBezTo>
                <a:cubicBezTo>
                  <a:pt x="4335" y="7713"/>
                  <a:pt x="4321" y="7798"/>
                  <a:pt x="4286" y="7842"/>
                </a:cubicBezTo>
                <a:cubicBezTo>
                  <a:pt x="4246" y="7892"/>
                  <a:pt x="4190" y="7949"/>
                  <a:pt x="4128" y="7969"/>
                </a:cubicBezTo>
                <a:cubicBezTo>
                  <a:pt x="4072" y="7987"/>
                  <a:pt x="3984" y="7969"/>
                  <a:pt x="3937" y="7938"/>
                </a:cubicBezTo>
                <a:cubicBezTo>
                  <a:pt x="3885" y="7904"/>
                  <a:pt x="3855" y="7872"/>
                  <a:pt x="3842" y="7810"/>
                </a:cubicBezTo>
                <a:cubicBezTo>
                  <a:pt x="3822" y="7712"/>
                  <a:pt x="3864" y="7640"/>
                  <a:pt x="3905" y="7556"/>
                </a:cubicBezTo>
              </a:path>
              <a:path w="4954" h="1430">
                <a:moveTo>
                  <a:pt x="4604" y="6858"/>
                </a:moveTo>
                <a:cubicBezTo>
                  <a:pt x="4604" y="6977"/>
                  <a:pt x="4589" y="7061"/>
                  <a:pt x="4572" y="7176"/>
                </a:cubicBezTo>
                <a:cubicBezTo>
                  <a:pt x="4555" y="7291"/>
                  <a:pt x="4556" y="7411"/>
                  <a:pt x="4540" y="7525"/>
                </a:cubicBezTo>
                <a:cubicBezTo>
                  <a:pt x="4522" y="7657"/>
                  <a:pt x="4540" y="7804"/>
                  <a:pt x="4540" y="7938"/>
                </a:cubicBezTo>
              </a:path>
              <a:path w="4954" h="1430">
                <a:moveTo>
                  <a:pt x="4953" y="7239"/>
                </a:moveTo>
                <a:cubicBezTo>
                  <a:pt x="4953" y="7181"/>
                  <a:pt x="4939" y="7269"/>
                  <a:pt x="4921" y="7302"/>
                </a:cubicBezTo>
                <a:cubicBezTo>
                  <a:pt x="4872" y="7389"/>
                  <a:pt x="4840" y="7490"/>
                  <a:pt x="4826" y="7588"/>
                </a:cubicBezTo>
                <a:cubicBezTo>
                  <a:pt x="4812" y="7686"/>
                  <a:pt x="4804" y="7852"/>
                  <a:pt x="4858" y="7938"/>
                </a:cubicBezTo>
                <a:cubicBezTo>
                  <a:pt x="4902" y="8009"/>
                  <a:pt x="4947" y="8014"/>
                  <a:pt x="5016" y="7969"/>
                </a:cubicBezTo>
                <a:cubicBezTo>
                  <a:pt x="5071" y="7933"/>
                  <a:pt x="5133" y="7842"/>
                  <a:pt x="5144" y="7779"/>
                </a:cubicBezTo>
                <a:cubicBezTo>
                  <a:pt x="5164" y="7664"/>
                  <a:pt x="5158" y="7501"/>
                  <a:pt x="5112" y="7398"/>
                </a:cubicBezTo>
                <a:cubicBezTo>
                  <a:pt x="5063" y="7287"/>
                  <a:pt x="5038" y="7314"/>
                  <a:pt x="4953" y="7271"/>
                </a:cubicBezTo>
                <a:cubicBezTo>
                  <a:pt x="4942" y="7260"/>
                  <a:pt x="4932" y="7250"/>
                  <a:pt x="4921" y="7239"/>
                </a:cubicBezTo>
              </a:path>
              <a:path w="4954" h="1430">
                <a:moveTo>
                  <a:pt x="5334" y="7207"/>
                </a:moveTo>
                <a:cubicBezTo>
                  <a:pt x="5334" y="7465"/>
                  <a:pt x="5332" y="7718"/>
                  <a:pt x="5366" y="7969"/>
                </a:cubicBezTo>
                <a:cubicBezTo>
                  <a:pt x="5375" y="8033"/>
                  <a:pt x="5366" y="8301"/>
                  <a:pt x="5366" y="8255"/>
                </a:cubicBezTo>
              </a:path>
              <a:path w="4954" h="1430">
                <a:moveTo>
                  <a:pt x="5366" y="7366"/>
                </a:moveTo>
                <a:cubicBezTo>
                  <a:pt x="5366" y="7294"/>
                  <a:pt x="5361" y="7250"/>
                  <a:pt x="5429" y="7207"/>
                </a:cubicBezTo>
                <a:cubicBezTo>
                  <a:pt x="5477" y="7176"/>
                  <a:pt x="5563" y="7157"/>
                  <a:pt x="5620" y="7176"/>
                </a:cubicBezTo>
                <a:cubicBezTo>
                  <a:pt x="5715" y="7207"/>
                  <a:pt x="5765" y="7249"/>
                  <a:pt x="5810" y="7334"/>
                </a:cubicBezTo>
                <a:cubicBezTo>
                  <a:pt x="5844" y="7398"/>
                  <a:pt x="5900" y="7479"/>
                  <a:pt x="5874" y="7556"/>
                </a:cubicBezTo>
                <a:cubicBezTo>
                  <a:pt x="5840" y="7657"/>
                  <a:pt x="5790" y="7717"/>
                  <a:pt x="5715" y="7779"/>
                </a:cubicBezTo>
                <a:cubicBezTo>
                  <a:pt x="5651" y="7832"/>
                  <a:pt x="5645" y="7842"/>
                  <a:pt x="5556" y="7842"/>
                </a:cubicBezTo>
                <a:cubicBezTo>
                  <a:pt x="5505" y="7842"/>
                  <a:pt x="5454" y="7834"/>
                  <a:pt x="5429" y="7779"/>
                </a:cubicBezTo>
                <a:cubicBezTo>
                  <a:pt x="5429" y="7768"/>
                  <a:pt x="5429" y="7758"/>
                  <a:pt x="5429" y="7747"/>
                </a:cubicBezTo>
              </a:path>
              <a:path w="4954" h="1430">
                <a:moveTo>
                  <a:pt x="6191" y="7525"/>
                </a:moveTo>
                <a:cubicBezTo>
                  <a:pt x="6263" y="7525"/>
                  <a:pt x="6235" y="7499"/>
                  <a:pt x="6286" y="7493"/>
                </a:cubicBezTo>
                <a:cubicBezTo>
                  <a:pt x="6389" y="7480"/>
                  <a:pt x="6500" y="7493"/>
                  <a:pt x="6604" y="7493"/>
                </a:cubicBezTo>
                <a:cubicBezTo>
                  <a:pt x="6604" y="7392"/>
                  <a:pt x="6606" y="7411"/>
                  <a:pt x="6540" y="7366"/>
                </a:cubicBezTo>
                <a:cubicBezTo>
                  <a:pt x="6482" y="7327"/>
                  <a:pt x="6457" y="7308"/>
                  <a:pt x="6382" y="7302"/>
                </a:cubicBezTo>
                <a:cubicBezTo>
                  <a:pt x="6291" y="7294"/>
                  <a:pt x="6262" y="7323"/>
                  <a:pt x="6191" y="7366"/>
                </a:cubicBezTo>
                <a:cubicBezTo>
                  <a:pt x="6115" y="7412"/>
                  <a:pt x="6053" y="7460"/>
                  <a:pt x="6032" y="7556"/>
                </a:cubicBezTo>
                <a:cubicBezTo>
                  <a:pt x="6010" y="7654"/>
                  <a:pt x="6050" y="7704"/>
                  <a:pt x="6096" y="7779"/>
                </a:cubicBezTo>
                <a:cubicBezTo>
                  <a:pt x="6150" y="7869"/>
                  <a:pt x="6212" y="7900"/>
                  <a:pt x="6318" y="7906"/>
                </a:cubicBezTo>
                <a:cubicBezTo>
                  <a:pt x="6413" y="7911"/>
                  <a:pt x="6495" y="7915"/>
                  <a:pt x="6572" y="7874"/>
                </a:cubicBezTo>
                <a:cubicBezTo>
                  <a:pt x="6593" y="7863"/>
                  <a:pt x="6615" y="7853"/>
                  <a:pt x="6636" y="7842"/>
                </a:cubicBezTo>
              </a:path>
              <a:path w="4954" h="1430">
                <a:moveTo>
                  <a:pt x="6985" y="7461"/>
                </a:moveTo>
                <a:cubicBezTo>
                  <a:pt x="7033" y="7426"/>
                  <a:pt x="7051" y="7430"/>
                  <a:pt x="7112" y="7430"/>
                </a:cubicBezTo>
                <a:cubicBezTo>
                  <a:pt x="7175" y="7430"/>
                  <a:pt x="7239" y="7430"/>
                  <a:pt x="7302" y="7430"/>
                </a:cubicBezTo>
              </a:path>
              <a:path w="4954" h="1430">
                <a:moveTo>
                  <a:pt x="7048" y="7652"/>
                </a:moveTo>
                <a:cubicBezTo>
                  <a:pt x="7059" y="7663"/>
                  <a:pt x="7069" y="7673"/>
                  <a:pt x="7080" y="7684"/>
                </a:cubicBezTo>
                <a:cubicBezTo>
                  <a:pt x="7144" y="7645"/>
                  <a:pt x="7192" y="7652"/>
                  <a:pt x="7271" y="7652"/>
                </a:cubicBezTo>
                <a:cubicBezTo>
                  <a:pt x="7324" y="7652"/>
                  <a:pt x="7377" y="7652"/>
                  <a:pt x="7430" y="7652"/>
                </a:cubicBezTo>
              </a:path>
              <a:path w="4954" h="1430">
                <a:moveTo>
                  <a:pt x="8541" y="7144"/>
                </a:moveTo>
                <a:cubicBezTo>
                  <a:pt x="8530" y="7091"/>
                  <a:pt x="8505" y="7011"/>
                  <a:pt x="8446" y="6985"/>
                </a:cubicBezTo>
                <a:cubicBezTo>
                  <a:pt x="8371" y="6951"/>
                  <a:pt x="8290" y="7054"/>
                  <a:pt x="8255" y="7080"/>
                </a:cubicBezTo>
                <a:cubicBezTo>
                  <a:pt x="8166" y="7145"/>
                  <a:pt x="8071" y="7212"/>
                  <a:pt x="8001" y="7302"/>
                </a:cubicBezTo>
                <a:cubicBezTo>
                  <a:pt x="7925" y="7400"/>
                  <a:pt x="7894" y="7510"/>
                  <a:pt x="7842" y="7620"/>
                </a:cubicBezTo>
                <a:cubicBezTo>
                  <a:pt x="7799" y="7710"/>
                  <a:pt x="7787" y="7817"/>
                  <a:pt x="7842" y="7906"/>
                </a:cubicBezTo>
                <a:cubicBezTo>
                  <a:pt x="7887" y="7979"/>
                  <a:pt x="7938" y="8007"/>
                  <a:pt x="8001" y="8033"/>
                </a:cubicBezTo>
                <a:cubicBezTo>
                  <a:pt x="8073" y="8062"/>
                  <a:pt x="8175" y="8086"/>
                  <a:pt x="8255" y="8064"/>
                </a:cubicBezTo>
                <a:cubicBezTo>
                  <a:pt x="8368" y="8033"/>
                  <a:pt x="8565" y="7935"/>
                  <a:pt x="8636" y="7842"/>
                </a:cubicBezTo>
                <a:cubicBezTo>
                  <a:pt x="8700" y="7759"/>
                  <a:pt x="8730" y="7644"/>
                  <a:pt x="8763" y="7556"/>
                </a:cubicBezTo>
                <a:cubicBezTo>
                  <a:pt x="8794" y="7472"/>
                  <a:pt x="8815" y="7364"/>
                  <a:pt x="8795" y="7271"/>
                </a:cubicBezTo>
                <a:cubicBezTo>
                  <a:pt x="8773" y="7172"/>
                  <a:pt x="8721" y="7076"/>
                  <a:pt x="8636" y="7017"/>
                </a:cubicBezTo>
                <a:cubicBezTo>
                  <a:pt x="8587" y="6982"/>
                  <a:pt x="8475" y="6967"/>
                  <a:pt x="8414" y="6985"/>
                </a:cubicBezTo>
                <a:cubicBezTo>
                  <a:pt x="8321" y="7012"/>
                  <a:pt x="8298" y="7063"/>
                  <a:pt x="8287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58"/>
          <p:cNvSpPr/>
          <p:nvPr/>
        </p:nvSpPr>
        <p:spPr>
          <a:xfrm>
            <a:off x="6297480" y="2822400"/>
            <a:ext cx="560520" cy="435240"/>
          </a:xfrm>
          <a:custGeom>
            <a:avLst/>
            <a:gdLst/>
            <a:ahLst/>
            <a:rect l="l" t="t" r="r" b="b"/>
            <a:pathLst>
              <a:path w="1557" h="1208">
                <a:moveTo>
                  <a:pt x="17494" y="8477"/>
                </a:moveTo>
                <a:cubicBezTo>
                  <a:pt x="17510" y="8430"/>
                  <a:pt x="17534" y="8446"/>
                  <a:pt x="17590" y="8446"/>
                </a:cubicBezTo>
                <a:cubicBezTo>
                  <a:pt x="17666" y="8446"/>
                  <a:pt x="17706" y="8368"/>
                  <a:pt x="17748" y="8318"/>
                </a:cubicBezTo>
                <a:cubicBezTo>
                  <a:pt x="17812" y="8242"/>
                  <a:pt x="17873" y="8169"/>
                  <a:pt x="17939" y="8096"/>
                </a:cubicBezTo>
                <a:cubicBezTo>
                  <a:pt x="17992" y="8038"/>
                  <a:pt x="18020" y="7967"/>
                  <a:pt x="18066" y="7906"/>
                </a:cubicBezTo>
                <a:cubicBezTo>
                  <a:pt x="18098" y="7874"/>
                  <a:pt x="18108" y="7864"/>
                  <a:pt x="18129" y="7842"/>
                </a:cubicBezTo>
                <a:cubicBezTo>
                  <a:pt x="18165" y="7854"/>
                  <a:pt x="18189" y="7886"/>
                  <a:pt x="18193" y="7938"/>
                </a:cubicBezTo>
                <a:cubicBezTo>
                  <a:pt x="18209" y="8163"/>
                  <a:pt x="18195" y="8383"/>
                  <a:pt x="18224" y="8604"/>
                </a:cubicBezTo>
                <a:cubicBezTo>
                  <a:pt x="18236" y="8696"/>
                  <a:pt x="18233" y="8766"/>
                  <a:pt x="18256" y="8858"/>
                </a:cubicBezTo>
              </a:path>
              <a:path w="1557" h="1208">
                <a:moveTo>
                  <a:pt x="18542" y="8954"/>
                </a:moveTo>
                <a:cubicBezTo>
                  <a:pt x="18590" y="8942"/>
                  <a:pt x="18621" y="8907"/>
                  <a:pt x="18637" y="8858"/>
                </a:cubicBezTo>
                <a:cubicBezTo>
                  <a:pt x="18660" y="8787"/>
                  <a:pt x="18679" y="8705"/>
                  <a:pt x="18701" y="8636"/>
                </a:cubicBezTo>
                <a:cubicBezTo>
                  <a:pt x="18726" y="8559"/>
                  <a:pt x="18763" y="8488"/>
                  <a:pt x="18796" y="8414"/>
                </a:cubicBezTo>
                <a:cubicBezTo>
                  <a:pt x="18830" y="8339"/>
                  <a:pt x="18828" y="8258"/>
                  <a:pt x="18860" y="8192"/>
                </a:cubicBezTo>
                <a:cubicBezTo>
                  <a:pt x="18870" y="8181"/>
                  <a:pt x="18881" y="8171"/>
                  <a:pt x="18891" y="8160"/>
                </a:cubicBezTo>
                <a:cubicBezTo>
                  <a:pt x="18915" y="8168"/>
                  <a:pt x="18947" y="8217"/>
                  <a:pt x="18955" y="8255"/>
                </a:cubicBezTo>
                <a:cubicBezTo>
                  <a:pt x="18970" y="8323"/>
                  <a:pt x="18975" y="8412"/>
                  <a:pt x="18986" y="8477"/>
                </a:cubicBezTo>
                <a:cubicBezTo>
                  <a:pt x="19006" y="8600"/>
                  <a:pt x="19000" y="8735"/>
                  <a:pt x="19018" y="8858"/>
                </a:cubicBezTo>
                <a:cubicBezTo>
                  <a:pt x="19029" y="8938"/>
                  <a:pt x="19021" y="8972"/>
                  <a:pt x="19050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59"/>
          <p:cNvSpPr/>
          <p:nvPr/>
        </p:nvSpPr>
        <p:spPr>
          <a:xfrm>
            <a:off x="7508880" y="2664000"/>
            <a:ext cx="1612800" cy="982440"/>
          </a:xfrm>
          <a:custGeom>
            <a:avLst/>
            <a:gdLst/>
            <a:ahLst/>
            <a:rect l="l" t="t" r="r" b="b"/>
            <a:pathLst>
              <a:path w="4477" h="2731">
                <a:moveTo>
                  <a:pt x="21431" y="7556"/>
                </a:moveTo>
                <a:cubicBezTo>
                  <a:pt x="21361" y="7556"/>
                  <a:pt x="21340" y="7571"/>
                  <a:pt x="21272" y="7588"/>
                </a:cubicBezTo>
                <a:cubicBezTo>
                  <a:pt x="21215" y="7602"/>
                  <a:pt x="21161" y="7642"/>
                  <a:pt x="21114" y="7684"/>
                </a:cubicBezTo>
                <a:cubicBezTo>
                  <a:pt x="21031" y="7758"/>
                  <a:pt x="21030" y="7756"/>
                  <a:pt x="20987" y="7842"/>
                </a:cubicBezTo>
                <a:cubicBezTo>
                  <a:pt x="20955" y="7907"/>
                  <a:pt x="20955" y="7918"/>
                  <a:pt x="20955" y="8001"/>
                </a:cubicBezTo>
                <a:cubicBezTo>
                  <a:pt x="20955" y="8048"/>
                  <a:pt x="21010" y="8083"/>
                  <a:pt x="21050" y="8096"/>
                </a:cubicBezTo>
                <a:cubicBezTo>
                  <a:pt x="21108" y="8115"/>
                  <a:pt x="21163" y="8119"/>
                  <a:pt x="21209" y="8160"/>
                </a:cubicBezTo>
                <a:cubicBezTo>
                  <a:pt x="21254" y="8200"/>
                  <a:pt x="21323" y="8227"/>
                  <a:pt x="21336" y="8287"/>
                </a:cubicBezTo>
                <a:cubicBezTo>
                  <a:pt x="21349" y="8349"/>
                  <a:pt x="21352" y="8493"/>
                  <a:pt x="21304" y="8541"/>
                </a:cubicBezTo>
                <a:cubicBezTo>
                  <a:pt x="21250" y="8595"/>
                  <a:pt x="21183" y="8685"/>
                  <a:pt x="21114" y="8731"/>
                </a:cubicBezTo>
                <a:cubicBezTo>
                  <a:pt x="21047" y="8775"/>
                  <a:pt x="20980" y="8781"/>
                  <a:pt x="20923" y="8731"/>
                </a:cubicBezTo>
                <a:cubicBezTo>
                  <a:pt x="20851" y="8667"/>
                  <a:pt x="20877" y="8556"/>
                  <a:pt x="20892" y="8477"/>
                </a:cubicBezTo>
              </a:path>
              <a:path w="4477" h="2731">
                <a:moveTo>
                  <a:pt x="21590" y="7398"/>
                </a:moveTo>
                <a:cubicBezTo>
                  <a:pt x="21590" y="7500"/>
                  <a:pt x="21568" y="7586"/>
                  <a:pt x="21558" y="7684"/>
                </a:cubicBezTo>
                <a:cubicBezTo>
                  <a:pt x="21525" y="8023"/>
                  <a:pt x="21621" y="8417"/>
                  <a:pt x="21526" y="8731"/>
                </a:cubicBezTo>
                <a:cubicBezTo>
                  <a:pt x="21526" y="8742"/>
                  <a:pt x="21526" y="8752"/>
                  <a:pt x="21526" y="8763"/>
                </a:cubicBezTo>
              </a:path>
              <a:path w="4477" h="2731">
                <a:moveTo>
                  <a:pt x="21876" y="7874"/>
                </a:moveTo>
                <a:cubicBezTo>
                  <a:pt x="21952" y="7899"/>
                  <a:pt x="21855" y="7993"/>
                  <a:pt x="21844" y="8064"/>
                </a:cubicBezTo>
                <a:cubicBezTo>
                  <a:pt x="21821" y="8213"/>
                  <a:pt x="21785" y="8356"/>
                  <a:pt x="21780" y="8509"/>
                </a:cubicBezTo>
                <a:cubicBezTo>
                  <a:pt x="21777" y="8611"/>
                  <a:pt x="21787" y="8680"/>
                  <a:pt x="21812" y="8763"/>
                </a:cubicBezTo>
                <a:cubicBezTo>
                  <a:pt x="21812" y="8774"/>
                  <a:pt x="21812" y="8784"/>
                  <a:pt x="21812" y="8795"/>
                </a:cubicBezTo>
                <a:cubicBezTo>
                  <a:pt x="21882" y="8777"/>
                  <a:pt x="21904" y="8734"/>
                  <a:pt x="21939" y="8668"/>
                </a:cubicBezTo>
                <a:cubicBezTo>
                  <a:pt x="21990" y="8570"/>
                  <a:pt x="22052" y="8428"/>
                  <a:pt x="22066" y="8318"/>
                </a:cubicBezTo>
                <a:cubicBezTo>
                  <a:pt x="22086" y="8155"/>
                  <a:pt x="22066" y="7975"/>
                  <a:pt x="22066" y="7810"/>
                </a:cubicBezTo>
                <a:cubicBezTo>
                  <a:pt x="22066" y="7916"/>
                  <a:pt x="22107" y="7888"/>
                  <a:pt x="22130" y="7969"/>
                </a:cubicBezTo>
                <a:cubicBezTo>
                  <a:pt x="22159" y="8070"/>
                  <a:pt x="22170" y="8183"/>
                  <a:pt x="22193" y="8287"/>
                </a:cubicBezTo>
                <a:cubicBezTo>
                  <a:pt x="22224" y="8424"/>
                  <a:pt x="22252" y="8558"/>
                  <a:pt x="22257" y="8700"/>
                </a:cubicBezTo>
                <a:cubicBezTo>
                  <a:pt x="22261" y="8816"/>
                  <a:pt x="22257" y="8933"/>
                  <a:pt x="22257" y="9049"/>
                </a:cubicBezTo>
                <a:cubicBezTo>
                  <a:pt x="22193" y="9028"/>
                  <a:pt x="22238" y="8960"/>
                  <a:pt x="22225" y="8890"/>
                </a:cubicBezTo>
                <a:cubicBezTo>
                  <a:pt x="22194" y="8717"/>
                  <a:pt x="22170" y="8528"/>
                  <a:pt x="22193" y="8350"/>
                </a:cubicBezTo>
                <a:cubicBezTo>
                  <a:pt x="22211" y="8209"/>
                  <a:pt x="22220" y="8036"/>
                  <a:pt x="22288" y="7906"/>
                </a:cubicBezTo>
                <a:cubicBezTo>
                  <a:pt x="22315" y="7856"/>
                  <a:pt x="22329" y="7824"/>
                  <a:pt x="22384" y="7810"/>
                </a:cubicBezTo>
                <a:cubicBezTo>
                  <a:pt x="22452" y="7827"/>
                  <a:pt x="22467" y="7898"/>
                  <a:pt x="22479" y="7969"/>
                </a:cubicBezTo>
                <a:cubicBezTo>
                  <a:pt x="22498" y="8084"/>
                  <a:pt x="22464" y="8185"/>
                  <a:pt x="22416" y="8287"/>
                </a:cubicBezTo>
                <a:cubicBezTo>
                  <a:pt x="22364" y="8396"/>
                  <a:pt x="22340" y="8482"/>
                  <a:pt x="22257" y="8572"/>
                </a:cubicBezTo>
                <a:cubicBezTo>
                  <a:pt x="22243" y="8588"/>
                  <a:pt x="22154" y="8635"/>
                  <a:pt x="22130" y="8604"/>
                </a:cubicBezTo>
                <a:cubicBezTo>
                  <a:pt x="22130" y="8559"/>
                  <a:pt x="22136" y="8537"/>
                  <a:pt x="22162" y="8509"/>
                </a:cubicBezTo>
              </a:path>
              <a:path w="4477" h="2731">
                <a:moveTo>
                  <a:pt x="22670" y="8064"/>
                </a:moveTo>
                <a:cubicBezTo>
                  <a:pt x="22738" y="8064"/>
                  <a:pt x="22717" y="8080"/>
                  <a:pt x="22765" y="8096"/>
                </a:cubicBezTo>
                <a:cubicBezTo>
                  <a:pt x="22778" y="8057"/>
                  <a:pt x="22818" y="8042"/>
                  <a:pt x="22860" y="8001"/>
                </a:cubicBezTo>
                <a:cubicBezTo>
                  <a:pt x="22905" y="7956"/>
                  <a:pt x="22933" y="7927"/>
                  <a:pt x="22955" y="7874"/>
                </a:cubicBezTo>
                <a:cubicBezTo>
                  <a:pt x="22997" y="7776"/>
                  <a:pt x="22976" y="7800"/>
                  <a:pt x="22955" y="7715"/>
                </a:cubicBezTo>
                <a:cubicBezTo>
                  <a:pt x="22864" y="7734"/>
                  <a:pt x="22839" y="7761"/>
                  <a:pt x="22796" y="7842"/>
                </a:cubicBezTo>
                <a:cubicBezTo>
                  <a:pt x="22737" y="7954"/>
                  <a:pt x="22705" y="8067"/>
                  <a:pt x="22701" y="8192"/>
                </a:cubicBezTo>
                <a:cubicBezTo>
                  <a:pt x="22698" y="8286"/>
                  <a:pt x="22683" y="8426"/>
                  <a:pt x="22733" y="8509"/>
                </a:cubicBezTo>
                <a:cubicBezTo>
                  <a:pt x="22755" y="8545"/>
                  <a:pt x="22854" y="8562"/>
                  <a:pt x="22892" y="8541"/>
                </a:cubicBezTo>
                <a:cubicBezTo>
                  <a:pt x="22951" y="8508"/>
                  <a:pt x="22974" y="8470"/>
                  <a:pt x="23019" y="8414"/>
                </a:cubicBezTo>
              </a:path>
              <a:path w="4477" h="2731">
                <a:moveTo>
                  <a:pt x="23082" y="7969"/>
                </a:moveTo>
                <a:lnTo>
                  <a:pt x="23082" y="7969"/>
                </a:lnTo>
              </a:path>
              <a:path w="4477" h="2731">
                <a:moveTo>
                  <a:pt x="23114" y="8192"/>
                </a:moveTo>
                <a:cubicBezTo>
                  <a:pt x="23173" y="8192"/>
                  <a:pt x="23189" y="8166"/>
                  <a:pt x="23241" y="8160"/>
                </a:cubicBezTo>
                <a:cubicBezTo>
                  <a:pt x="23277" y="8160"/>
                  <a:pt x="23291" y="8157"/>
                  <a:pt x="23304" y="8128"/>
                </a:cubicBezTo>
              </a:path>
              <a:path w="4477" h="2731">
                <a:moveTo>
                  <a:pt x="22320" y="9239"/>
                </a:moveTo>
                <a:cubicBezTo>
                  <a:pt x="22320" y="9306"/>
                  <a:pt x="22296" y="9349"/>
                  <a:pt x="22288" y="9398"/>
                </a:cubicBezTo>
                <a:cubicBezTo>
                  <a:pt x="22268" y="9523"/>
                  <a:pt x="22277" y="9657"/>
                  <a:pt x="22257" y="9779"/>
                </a:cubicBezTo>
                <a:cubicBezTo>
                  <a:pt x="22242" y="9873"/>
                  <a:pt x="22269" y="9948"/>
                  <a:pt x="22288" y="10033"/>
                </a:cubicBezTo>
                <a:cubicBezTo>
                  <a:pt x="22301" y="10091"/>
                  <a:pt x="22280" y="10076"/>
                  <a:pt x="22320" y="10128"/>
                </a:cubicBezTo>
                <a:cubicBezTo>
                  <a:pt x="22376" y="10114"/>
                  <a:pt x="22388" y="10083"/>
                  <a:pt x="22416" y="10033"/>
                </a:cubicBezTo>
                <a:cubicBezTo>
                  <a:pt x="22468" y="9942"/>
                  <a:pt x="22508" y="9846"/>
                  <a:pt x="22542" y="9747"/>
                </a:cubicBezTo>
                <a:cubicBezTo>
                  <a:pt x="22586" y="9621"/>
                  <a:pt x="22612" y="9464"/>
                  <a:pt x="22638" y="9334"/>
                </a:cubicBezTo>
                <a:cubicBezTo>
                  <a:pt x="22638" y="9268"/>
                  <a:pt x="22639" y="9245"/>
                  <a:pt x="22670" y="9208"/>
                </a:cubicBezTo>
                <a:cubicBezTo>
                  <a:pt x="22670" y="9357"/>
                  <a:pt x="22586" y="9992"/>
                  <a:pt x="22701" y="10065"/>
                </a:cubicBezTo>
                <a:cubicBezTo>
                  <a:pt x="22712" y="10065"/>
                  <a:pt x="22722" y="10065"/>
                  <a:pt x="22733" y="10065"/>
                </a:cubicBezTo>
              </a:path>
              <a:path w="4477" h="2731">
                <a:moveTo>
                  <a:pt x="22892" y="9208"/>
                </a:moveTo>
                <a:cubicBezTo>
                  <a:pt x="22892" y="9371"/>
                  <a:pt x="22874" y="9526"/>
                  <a:pt x="22860" y="9684"/>
                </a:cubicBezTo>
                <a:cubicBezTo>
                  <a:pt x="22851" y="9783"/>
                  <a:pt x="22832" y="9954"/>
                  <a:pt x="22892" y="10033"/>
                </a:cubicBezTo>
                <a:cubicBezTo>
                  <a:pt x="22892" y="9848"/>
                  <a:pt x="22909" y="9674"/>
                  <a:pt x="22924" y="9493"/>
                </a:cubicBezTo>
                <a:cubicBezTo>
                  <a:pt x="22936" y="9353"/>
                  <a:pt x="22951" y="9209"/>
                  <a:pt x="23019" y="9080"/>
                </a:cubicBezTo>
                <a:cubicBezTo>
                  <a:pt x="23042" y="9037"/>
                  <a:pt x="23075" y="9049"/>
                  <a:pt x="23114" y="9049"/>
                </a:cubicBezTo>
                <a:cubicBezTo>
                  <a:pt x="23127" y="9127"/>
                  <a:pt x="23123" y="9261"/>
                  <a:pt x="23146" y="9334"/>
                </a:cubicBezTo>
                <a:cubicBezTo>
                  <a:pt x="23176" y="9431"/>
                  <a:pt x="23194" y="9571"/>
                  <a:pt x="23209" y="9684"/>
                </a:cubicBezTo>
                <a:cubicBezTo>
                  <a:pt x="23221" y="9771"/>
                  <a:pt x="23204" y="9864"/>
                  <a:pt x="23241" y="9938"/>
                </a:cubicBezTo>
                <a:cubicBezTo>
                  <a:pt x="23252" y="9949"/>
                  <a:pt x="23262" y="9959"/>
                  <a:pt x="23273" y="9970"/>
                </a:cubicBezTo>
              </a:path>
              <a:path w="4477" h="2731">
                <a:moveTo>
                  <a:pt x="23622" y="8795"/>
                </a:moveTo>
                <a:cubicBezTo>
                  <a:pt x="23622" y="8901"/>
                  <a:pt x="23628" y="8979"/>
                  <a:pt x="23622" y="9080"/>
                </a:cubicBezTo>
                <a:cubicBezTo>
                  <a:pt x="23612" y="9235"/>
                  <a:pt x="23609" y="9373"/>
                  <a:pt x="23590" y="9525"/>
                </a:cubicBezTo>
                <a:cubicBezTo>
                  <a:pt x="23588" y="9538"/>
                  <a:pt x="23590" y="9738"/>
                  <a:pt x="23590" y="9652"/>
                </a:cubicBezTo>
                <a:cubicBezTo>
                  <a:pt x="23573" y="9565"/>
                  <a:pt x="23580" y="9451"/>
                  <a:pt x="23558" y="9366"/>
                </a:cubicBezTo>
                <a:cubicBezTo>
                  <a:pt x="23546" y="9318"/>
                  <a:pt x="23533" y="9252"/>
                  <a:pt x="23495" y="9239"/>
                </a:cubicBezTo>
                <a:cubicBezTo>
                  <a:pt x="23483" y="9338"/>
                  <a:pt x="23443" y="9421"/>
                  <a:pt x="23432" y="9525"/>
                </a:cubicBezTo>
                <a:cubicBezTo>
                  <a:pt x="23417" y="9667"/>
                  <a:pt x="23433" y="9806"/>
                  <a:pt x="23463" y="9938"/>
                </a:cubicBezTo>
                <a:cubicBezTo>
                  <a:pt x="23477" y="10002"/>
                  <a:pt x="23495" y="10001"/>
                  <a:pt x="23558" y="10001"/>
                </a:cubicBezTo>
                <a:cubicBezTo>
                  <a:pt x="23672" y="10001"/>
                  <a:pt x="23683" y="9921"/>
                  <a:pt x="23749" y="9842"/>
                </a:cubicBezTo>
                <a:cubicBezTo>
                  <a:pt x="23834" y="9739"/>
                  <a:pt x="23871" y="9624"/>
                  <a:pt x="23908" y="9493"/>
                </a:cubicBezTo>
                <a:cubicBezTo>
                  <a:pt x="23938" y="9387"/>
                  <a:pt x="23995" y="9283"/>
                  <a:pt x="24003" y="9176"/>
                </a:cubicBezTo>
                <a:cubicBezTo>
                  <a:pt x="24003" y="9165"/>
                  <a:pt x="24003" y="9155"/>
                  <a:pt x="24003" y="9144"/>
                </a:cubicBezTo>
                <a:cubicBezTo>
                  <a:pt x="23959" y="9159"/>
                  <a:pt x="23938" y="9214"/>
                  <a:pt x="23908" y="9271"/>
                </a:cubicBezTo>
                <a:cubicBezTo>
                  <a:pt x="23849" y="9381"/>
                  <a:pt x="23825" y="9497"/>
                  <a:pt x="23812" y="9620"/>
                </a:cubicBezTo>
                <a:cubicBezTo>
                  <a:pt x="23800" y="9727"/>
                  <a:pt x="23818" y="9819"/>
                  <a:pt x="23844" y="9906"/>
                </a:cubicBezTo>
                <a:cubicBezTo>
                  <a:pt x="23858" y="9952"/>
                  <a:pt x="23854" y="9938"/>
                  <a:pt x="23908" y="9938"/>
                </a:cubicBezTo>
              </a:path>
              <a:path w="4477" h="2731">
                <a:moveTo>
                  <a:pt x="24352" y="8890"/>
                </a:moveTo>
                <a:cubicBezTo>
                  <a:pt x="24352" y="8854"/>
                  <a:pt x="24349" y="8840"/>
                  <a:pt x="24320" y="8826"/>
                </a:cubicBezTo>
                <a:cubicBezTo>
                  <a:pt x="24306" y="8868"/>
                  <a:pt x="24256" y="8922"/>
                  <a:pt x="24225" y="8985"/>
                </a:cubicBezTo>
                <a:cubicBezTo>
                  <a:pt x="24161" y="9115"/>
                  <a:pt x="24162" y="9223"/>
                  <a:pt x="24162" y="9366"/>
                </a:cubicBezTo>
                <a:cubicBezTo>
                  <a:pt x="24162" y="9546"/>
                  <a:pt x="24162" y="9726"/>
                  <a:pt x="24162" y="9906"/>
                </a:cubicBezTo>
              </a:path>
              <a:path w="4477" h="2731">
                <a:moveTo>
                  <a:pt x="24098" y="9652"/>
                </a:moveTo>
                <a:cubicBezTo>
                  <a:pt x="24098" y="9620"/>
                  <a:pt x="24098" y="9609"/>
                  <a:pt x="24098" y="9588"/>
                </a:cubicBezTo>
                <a:cubicBezTo>
                  <a:pt x="24155" y="9574"/>
                  <a:pt x="24201" y="9525"/>
                  <a:pt x="24257" y="9493"/>
                </a:cubicBezTo>
              </a:path>
              <a:path w="4477" h="2731">
                <a:moveTo>
                  <a:pt x="24416" y="9271"/>
                </a:moveTo>
                <a:cubicBezTo>
                  <a:pt x="24396" y="9351"/>
                  <a:pt x="24384" y="9358"/>
                  <a:pt x="24384" y="9462"/>
                </a:cubicBezTo>
                <a:cubicBezTo>
                  <a:pt x="24384" y="9569"/>
                  <a:pt x="24352" y="9668"/>
                  <a:pt x="24352" y="9779"/>
                </a:cubicBezTo>
                <a:cubicBezTo>
                  <a:pt x="24352" y="9847"/>
                  <a:pt x="24327" y="9919"/>
                  <a:pt x="24384" y="9938"/>
                </a:cubicBezTo>
              </a:path>
              <a:path w="4477" h="2731">
                <a:moveTo>
                  <a:pt x="24511" y="9334"/>
                </a:moveTo>
                <a:cubicBezTo>
                  <a:pt x="24511" y="9413"/>
                  <a:pt x="24482" y="9478"/>
                  <a:pt x="24479" y="9557"/>
                </a:cubicBezTo>
                <a:cubicBezTo>
                  <a:pt x="24474" y="9683"/>
                  <a:pt x="24479" y="9811"/>
                  <a:pt x="24479" y="9938"/>
                </a:cubicBezTo>
                <a:cubicBezTo>
                  <a:pt x="24545" y="9916"/>
                  <a:pt x="24496" y="9849"/>
                  <a:pt x="24511" y="9779"/>
                </a:cubicBezTo>
                <a:cubicBezTo>
                  <a:pt x="24540" y="9647"/>
                  <a:pt x="24549" y="9492"/>
                  <a:pt x="24606" y="9366"/>
                </a:cubicBezTo>
                <a:cubicBezTo>
                  <a:pt x="24636" y="9299"/>
                  <a:pt x="24624" y="9271"/>
                  <a:pt x="24702" y="9271"/>
                </a:cubicBezTo>
                <a:cubicBezTo>
                  <a:pt x="24702" y="9386"/>
                  <a:pt x="24711" y="9399"/>
                  <a:pt x="24702" y="9525"/>
                </a:cubicBezTo>
                <a:cubicBezTo>
                  <a:pt x="24695" y="9631"/>
                  <a:pt x="24727" y="9710"/>
                  <a:pt x="24733" y="9811"/>
                </a:cubicBezTo>
                <a:cubicBezTo>
                  <a:pt x="24737" y="9883"/>
                  <a:pt x="24711" y="9888"/>
                  <a:pt x="24765" y="9906"/>
                </a:cubicBezTo>
                <a:cubicBezTo>
                  <a:pt x="24825" y="9886"/>
                  <a:pt x="24813" y="9815"/>
                  <a:pt x="24828" y="9747"/>
                </a:cubicBezTo>
                <a:cubicBezTo>
                  <a:pt x="24858" y="9606"/>
                  <a:pt x="24917" y="9478"/>
                  <a:pt x="24924" y="9334"/>
                </a:cubicBezTo>
                <a:cubicBezTo>
                  <a:pt x="24924" y="9281"/>
                  <a:pt x="24924" y="9271"/>
                  <a:pt x="24924" y="9239"/>
                </a:cubicBezTo>
                <a:cubicBezTo>
                  <a:pt x="24910" y="9294"/>
                  <a:pt x="24874" y="9338"/>
                  <a:pt x="24860" y="9398"/>
                </a:cubicBezTo>
                <a:cubicBezTo>
                  <a:pt x="24837" y="9495"/>
                  <a:pt x="24799" y="9644"/>
                  <a:pt x="24828" y="9747"/>
                </a:cubicBezTo>
                <a:cubicBezTo>
                  <a:pt x="24830" y="9756"/>
                  <a:pt x="24878" y="9920"/>
                  <a:pt x="24924" y="9874"/>
                </a:cubicBezTo>
                <a:cubicBezTo>
                  <a:pt x="24924" y="9838"/>
                  <a:pt x="24927" y="9824"/>
                  <a:pt x="24956" y="9811"/>
                </a:cubicBezTo>
              </a:path>
              <a:path w="4477" h="2731">
                <a:moveTo>
                  <a:pt x="25178" y="9017"/>
                </a:moveTo>
                <a:cubicBezTo>
                  <a:pt x="25178" y="9098"/>
                  <a:pt x="25207" y="9155"/>
                  <a:pt x="25210" y="9239"/>
                </a:cubicBezTo>
                <a:cubicBezTo>
                  <a:pt x="25216" y="9383"/>
                  <a:pt x="25204" y="9525"/>
                  <a:pt x="25241" y="9652"/>
                </a:cubicBezTo>
                <a:cubicBezTo>
                  <a:pt x="25241" y="9663"/>
                  <a:pt x="25241" y="9673"/>
                  <a:pt x="25241" y="9684"/>
                </a:cubicBezTo>
                <a:cubicBezTo>
                  <a:pt x="25185" y="9627"/>
                  <a:pt x="25203" y="9601"/>
                  <a:pt x="25178" y="9525"/>
                </a:cubicBezTo>
                <a:cubicBezTo>
                  <a:pt x="25178" y="9489"/>
                  <a:pt x="25175" y="9475"/>
                  <a:pt x="25146" y="9462"/>
                </a:cubicBezTo>
                <a:cubicBezTo>
                  <a:pt x="25095" y="9479"/>
                  <a:pt x="25105" y="9529"/>
                  <a:pt x="25082" y="9588"/>
                </a:cubicBezTo>
                <a:cubicBezTo>
                  <a:pt x="25038" y="9700"/>
                  <a:pt x="25064" y="9734"/>
                  <a:pt x="25082" y="9842"/>
                </a:cubicBezTo>
                <a:cubicBezTo>
                  <a:pt x="25093" y="9911"/>
                  <a:pt x="25058" y="9960"/>
                  <a:pt x="25146" y="9970"/>
                </a:cubicBezTo>
                <a:cubicBezTo>
                  <a:pt x="25190" y="9975"/>
                  <a:pt x="25279" y="9911"/>
                  <a:pt x="25305" y="9874"/>
                </a:cubicBezTo>
                <a:cubicBezTo>
                  <a:pt x="25315" y="9853"/>
                  <a:pt x="25326" y="9832"/>
                  <a:pt x="25336" y="9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60"/>
          <p:cNvSpPr/>
          <p:nvPr/>
        </p:nvSpPr>
        <p:spPr>
          <a:xfrm>
            <a:off x="5268960" y="2892600"/>
            <a:ext cx="2527200" cy="2788920"/>
          </a:xfrm>
          <a:custGeom>
            <a:avLst/>
            <a:gdLst/>
            <a:ahLst/>
            <a:rect l="l" t="t" r="r" b="b"/>
            <a:pathLst>
              <a:path w="7018" h="7748">
                <a:moveTo>
                  <a:pt x="18034" y="8033"/>
                </a:moveTo>
                <a:cubicBezTo>
                  <a:pt x="18018" y="8137"/>
                  <a:pt x="18002" y="8259"/>
                  <a:pt x="18002" y="8382"/>
                </a:cubicBezTo>
                <a:cubicBezTo>
                  <a:pt x="18002" y="8576"/>
                  <a:pt x="17944" y="8758"/>
                  <a:pt x="17939" y="8954"/>
                </a:cubicBezTo>
                <a:cubicBezTo>
                  <a:pt x="17933" y="9189"/>
                  <a:pt x="17888" y="9419"/>
                  <a:pt x="17875" y="9652"/>
                </a:cubicBezTo>
                <a:cubicBezTo>
                  <a:pt x="17860" y="9916"/>
                  <a:pt x="17849" y="10182"/>
                  <a:pt x="17844" y="10446"/>
                </a:cubicBezTo>
                <a:cubicBezTo>
                  <a:pt x="17833" y="11071"/>
                  <a:pt x="17845" y="11698"/>
                  <a:pt x="17875" y="12319"/>
                </a:cubicBezTo>
                <a:cubicBezTo>
                  <a:pt x="17888" y="12595"/>
                  <a:pt x="17878" y="12870"/>
                  <a:pt x="17907" y="13144"/>
                </a:cubicBezTo>
                <a:cubicBezTo>
                  <a:pt x="17934" y="13399"/>
                  <a:pt x="17965" y="13649"/>
                  <a:pt x="17970" y="13906"/>
                </a:cubicBezTo>
                <a:cubicBezTo>
                  <a:pt x="17974" y="14134"/>
                  <a:pt x="17977" y="14378"/>
                  <a:pt x="18002" y="14605"/>
                </a:cubicBezTo>
                <a:cubicBezTo>
                  <a:pt x="18025" y="14815"/>
                  <a:pt x="18009" y="15031"/>
                  <a:pt x="18034" y="15240"/>
                </a:cubicBezTo>
                <a:cubicBezTo>
                  <a:pt x="18052" y="15391"/>
                  <a:pt x="18066" y="15530"/>
                  <a:pt x="18066" y="15684"/>
                </a:cubicBezTo>
                <a:cubicBezTo>
                  <a:pt x="18066" y="15716"/>
                  <a:pt x="18066" y="15748"/>
                  <a:pt x="18066" y="15780"/>
                </a:cubicBezTo>
              </a:path>
              <a:path w="7018" h="7748">
                <a:moveTo>
                  <a:pt x="14668" y="12382"/>
                </a:moveTo>
                <a:cubicBezTo>
                  <a:pt x="14703" y="12360"/>
                  <a:pt x="14662" y="12369"/>
                  <a:pt x="14700" y="12351"/>
                </a:cubicBezTo>
                <a:cubicBezTo>
                  <a:pt x="14741" y="12332"/>
                  <a:pt x="14810" y="12297"/>
                  <a:pt x="14859" y="12287"/>
                </a:cubicBezTo>
                <a:cubicBezTo>
                  <a:pt x="14940" y="12271"/>
                  <a:pt x="15032" y="12263"/>
                  <a:pt x="15113" y="12256"/>
                </a:cubicBezTo>
                <a:cubicBezTo>
                  <a:pt x="15470" y="12227"/>
                  <a:pt x="15837" y="12250"/>
                  <a:pt x="16192" y="12224"/>
                </a:cubicBezTo>
                <a:cubicBezTo>
                  <a:pt x="16382" y="12210"/>
                  <a:pt x="16576" y="12205"/>
                  <a:pt x="16764" y="12192"/>
                </a:cubicBezTo>
                <a:cubicBezTo>
                  <a:pt x="16980" y="12177"/>
                  <a:pt x="17185" y="12116"/>
                  <a:pt x="17399" y="12097"/>
                </a:cubicBezTo>
                <a:cubicBezTo>
                  <a:pt x="17620" y="12078"/>
                  <a:pt x="17846" y="12046"/>
                  <a:pt x="18066" y="12033"/>
                </a:cubicBezTo>
                <a:cubicBezTo>
                  <a:pt x="18299" y="12019"/>
                  <a:pt x="18533" y="12031"/>
                  <a:pt x="18764" y="12002"/>
                </a:cubicBezTo>
                <a:cubicBezTo>
                  <a:pt x="18986" y="11974"/>
                  <a:pt x="19211" y="11944"/>
                  <a:pt x="19431" y="11906"/>
                </a:cubicBezTo>
                <a:cubicBezTo>
                  <a:pt x="19637" y="11870"/>
                  <a:pt x="19858" y="11829"/>
                  <a:pt x="20066" y="11811"/>
                </a:cubicBezTo>
                <a:cubicBezTo>
                  <a:pt x="20268" y="11793"/>
                  <a:pt x="20468" y="11788"/>
                  <a:pt x="20669" y="11748"/>
                </a:cubicBezTo>
                <a:cubicBezTo>
                  <a:pt x="20828" y="11716"/>
                  <a:pt x="20985" y="11687"/>
                  <a:pt x="21146" y="11684"/>
                </a:cubicBezTo>
                <a:cubicBezTo>
                  <a:pt x="21255" y="11682"/>
                  <a:pt x="21362" y="11647"/>
                  <a:pt x="21463" y="11652"/>
                </a:cubicBezTo>
                <a:cubicBezTo>
                  <a:pt x="21530" y="11656"/>
                  <a:pt x="21589" y="11672"/>
                  <a:pt x="21654" y="11684"/>
                </a:cubicBezTo>
              </a:path>
              <a:path w="7018" h="7748">
                <a:moveTo>
                  <a:pt x="18860" y="8223"/>
                </a:moveTo>
                <a:cubicBezTo>
                  <a:pt x="18850" y="8287"/>
                  <a:pt x="18834" y="8352"/>
                  <a:pt x="18828" y="8414"/>
                </a:cubicBezTo>
                <a:cubicBezTo>
                  <a:pt x="18812" y="8581"/>
                  <a:pt x="18809" y="8759"/>
                  <a:pt x="18796" y="8922"/>
                </a:cubicBezTo>
                <a:cubicBezTo>
                  <a:pt x="18785" y="9069"/>
                  <a:pt x="18775" y="9228"/>
                  <a:pt x="18764" y="9366"/>
                </a:cubicBezTo>
                <a:cubicBezTo>
                  <a:pt x="18709" y="10075"/>
                  <a:pt x="18732" y="10856"/>
                  <a:pt x="18796" y="11557"/>
                </a:cubicBezTo>
                <a:cubicBezTo>
                  <a:pt x="18812" y="11735"/>
                  <a:pt x="18814" y="11927"/>
                  <a:pt x="18828" y="12097"/>
                </a:cubicBezTo>
                <a:cubicBezTo>
                  <a:pt x="18846" y="12306"/>
                  <a:pt x="18844" y="12531"/>
                  <a:pt x="18860" y="12732"/>
                </a:cubicBezTo>
                <a:cubicBezTo>
                  <a:pt x="18876" y="12941"/>
                  <a:pt x="18877" y="13166"/>
                  <a:pt x="18891" y="13367"/>
                </a:cubicBezTo>
                <a:cubicBezTo>
                  <a:pt x="18901" y="13515"/>
                  <a:pt x="18912" y="13672"/>
                  <a:pt x="18923" y="13811"/>
                </a:cubicBezTo>
                <a:cubicBezTo>
                  <a:pt x="18933" y="13937"/>
                  <a:pt x="18945" y="14074"/>
                  <a:pt x="18955" y="14192"/>
                </a:cubicBezTo>
                <a:cubicBezTo>
                  <a:pt x="18965" y="14307"/>
                  <a:pt x="18955" y="14427"/>
                  <a:pt x="18955" y="14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1"/>
          <p:cNvSpPr/>
          <p:nvPr/>
        </p:nvSpPr>
        <p:spPr>
          <a:xfrm>
            <a:off x="6561000" y="4308480"/>
            <a:ext cx="22320" cy="81000"/>
          </a:xfrm>
          <a:custGeom>
            <a:avLst/>
            <a:gdLst/>
            <a:ahLst/>
            <a:rect l="l" t="t" r="r" b="b"/>
            <a:pathLst>
              <a:path w="65" h="223">
                <a:moveTo>
                  <a:pt x="18224" y="11970"/>
                </a:moveTo>
                <a:cubicBezTo>
                  <a:pt x="18237" y="12020"/>
                  <a:pt x="18256" y="12040"/>
                  <a:pt x="18256" y="12097"/>
                </a:cubicBezTo>
                <a:cubicBezTo>
                  <a:pt x="18256" y="12137"/>
                  <a:pt x="18278" y="12154"/>
                  <a:pt x="18288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62"/>
          <p:cNvSpPr/>
          <p:nvPr/>
        </p:nvSpPr>
        <p:spPr>
          <a:xfrm>
            <a:off x="6721560" y="4251240"/>
            <a:ext cx="79200" cy="173160"/>
          </a:xfrm>
          <a:custGeom>
            <a:avLst/>
            <a:gdLst/>
            <a:ahLst/>
            <a:rect l="l" t="t" r="r" b="b"/>
            <a:pathLst>
              <a:path w="223" h="477">
                <a:moveTo>
                  <a:pt x="18764" y="11811"/>
                </a:moveTo>
                <a:cubicBezTo>
                  <a:pt x="18764" y="11905"/>
                  <a:pt x="18741" y="12024"/>
                  <a:pt x="18796" y="12097"/>
                </a:cubicBezTo>
              </a:path>
              <a:path w="223" h="477">
                <a:moveTo>
                  <a:pt x="18796" y="11938"/>
                </a:moveTo>
                <a:cubicBezTo>
                  <a:pt x="18775" y="11945"/>
                  <a:pt x="18718" y="11967"/>
                  <a:pt x="18701" y="12002"/>
                </a:cubicBezTo>
                <a:cubicBezTo>
                  <a:pt x="18688" y="12029"/>
                  <a:pt x="18672" y="12100"/>
                  <a:pt x="18669" y="12128"/>
                </a:cubicBezTo>
                <a:cubicBezTo>
                  <a:pt x="18667" y="12144"/>
                  <a:pt x="18691" y="12238"/>
                  <a:pt x="18701" y="12256"/>
                </a:cubicBezTo>
                <a:cubicBezTo>
                  <a:pt x="18729" y="12284"/>
                  <a:pt x="18736" y="12295"/>
                  <a:pt x="18764" y="12287"/>
                </a:cubicBezTo>
                <a:cubicBezTo>
                  <a:pt x="18802" y="12259"/>
                  <a:pt x="18849" y="12243"/>
                  <a:pt x="18860" y="12192"/>
                </a:cubicBezTo>
                <a:cubicBezTo>
                  <a:pt x="18871" y="12139"/>
                  <a:pt x="18886" y="12080"/>
                  <a:pt x="18891" y="12033"/>
                </a:cubicBezTo>
                <a:cubicBezTo>
                  <a:pt x="18897" y="11975"/>
                  <a:pt x="18837" y="11956"/>
                  <a:pt x="18828" y="11938"/>
                </a:cubicBezTo>
                <a:cubicBezTo>
                  <a:pt x="18828" y="11906"/>
                  <a:pt x="18828" y="11895"/>
                  <a:pt x="18796" y="11906"/>
                </a:cubicBezTo>
                <a:cubicBezTo>
                  <a:pt x="18780" y="11970"/>
                  <a:pt x="18764" y="11988"/>
                  <a:pt x="18764" y="12065"/>
                </a:cubicBezTo>
                <a:cubicBezTo>
                  <a:pt x="18764" y="12114"/>
                  <a:pt x="18741" y="12197"/>
                  <a:pt x="18796" y="12224"/>
                </a:cubicBezTo>
                <a:cubicBezTo>
                  <a:pt x="18807" y="12224"/>
                  <a:pt x="18817" y="12224"/>
                  <a:pt x="18828" y="12224"/>
                </a:cubicBezTo>
                <a:cubicBezTo>
                  <a:pt x="18865" y="12212"/>
                  <a:pt x="18885" y="12180"/>
                  <a:pt x="18891" y="12128"/>
                </a:cubicBezTo>
                <a:cubicBezTo>
                  <a:pt x="18895" y="12089"/>
                  <a:pt x="18890" y="11990"/>
                  <a:pt x="18860" y="11970"/>
                </a:cubicBezTo>
                <a:cubicBezTo>
                  <a:pt x="18824" y="11970"/>
                  <a:pt x="18810" y="11967"/>
                  <a:pt x="18796" y="11938"/>
                </a:cubicBezTo>
                <a:cubicBezTo>
                  <a:pt x="18780" y="11986"/>
                  <a:pt x="18764" y="11965"/>
                  <a:pt x="18764" y="12033"/>
                </a:cubicBezTo>
                <a:cubicBezTo>
                  <a:pt x="18764" y="12088"/>
                  <a:pt x="18810" y="12122"/>
                  <a:pt x="18860" y="12128"/>
                </a:cubicBezTo>
                <a:cubicBezTo>
                  <a:pt x="18913" y="12134"/>
                  <a:pt x="18891" y="12073"/>
                  <a:pt x="18891" y="12033"/>
                </a:cubicBezTo>
                <a:cubicBezTo>
                  <a:pt x="18891" y="11963"/>
                  <a:pt x="18882" y="11979"/>
                  <a:pt x="18828" y="11938"/>
                </a:cubicBezTo>
                <a:cubicBezTo>
                  <a:pt x="18779" y="12003"/>
                  <a:pt x="18811" y="11996"/>
                  <a:pt x="18828" y="12065"/>
                </a:cubicBezTo>
                <a:cubicBezTo>
                  <a:pt x="18846" y="12059"/>
                  <a:pt x="18906" y="12033"/>
                  <a:pt x="18891" y="12002"/>
                </a:cubicBezTo>
                <a:cubicBezTo>
                  <a:pt x="18863" y="11973"/>
                  <a:pt x="18853" y="11967"/>
                  <a:pt x="18860" y="11938"/>
                </a:cubicBezTo>
                <a:cubicBezTo>
                  <a:pt x="18824" y="11950"/>
                  <a:pt x="18802" y="11981"/>
                  <a:pt x="18796" y="12033"/>
                </a:cubicBezTo>
                <a:cubicBezTo>
                  <a:pt x="18791" y="12075"/>
                  <a:pt x="18788" y="12081"/>
                  <a:pt x="18828" y="12065"/>
                </a:cubicBezTo>
                <a:cubicBezTo>
                  <a:pt x="18860" y="12065"/>
                  <a:pt x="18871" y="12065"/>
                  <a:pt x="18860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63"/>
          <p:cNvSpPr/>
          <p:nvPr/>
        </p:nvSpPr>
        <p:spPr>
          <a:xfrm>
            <a:off x="7612200" y="4057560"/>
            <a:ext cx="195120" cy="320760"/>
          </a:xfrm>
          <a:custGeom>
            <a:avLst/>
            <a:gdLst/>
            <a:ahLst/>
            <a:rect l="l" t="t" r="r" b="b"/>
            <a:pathLst>
              <a:path w="540" h="890">
                <a:moveTo>
                  <a:pt x="21146" y="11271"/>
                </a:moveTo>
                <a:cubicBezTo>
                  <a:pt x="21156" y="11312"/>
                  <a:pt x="21204" y="11404"/>
                  <a:pt x="21241" y="11430"/>
                </a:cubicBezTo>
                <a:cubicBezTo>
                  <a:pt x="21283" y="11460"/>
                  <a:pt x="21355" y="11510"/>
                  <a:pt x="21400" y="11525"/>
                </a:cubicBezTo>
                <a:cubicBezTo>
                  <a:pt x="21446" y="11540"/>
                  <a:pt x="21483" y="11574"/>
                  <a:pt x="21526" y="11589"/>
                </a:cubicBezTo>
                <a:cubicBezTo>
                  <a:pt x="21574" y="11605"/>
                  <a:pt x="21614" y="11616"/>
                  <a:pt x="21654" y="11652"/>
                </a:cubicBezTo>
                <a:cubicBezTo>
                  <a:pt x="21735" y="11725"/>
                  <a:pt x="21640" y="11738"/>
                  <a:pt x="21590" y="11779"/>
                </a:cubicBezTo>
                <a:cubicBezTo>
                  <a:pt x="21466" y="11881"/>
                  <a:pt x="21374" y="12005"/>
                  <a:pt x="21241" y="12097"/>
                </a:cubicBezTo>
                <a:cubicBezTo>
                  <a:pt x="21209" y="12118"/>
                  <a:pt x="21178" y="12139"/>
                  <a:pt x="21146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64"/>
          <p:cNvSpPr/>
          <p:nvPr/>
        </p:nvSpPr>
        <p:spPr>
          <a:xfrm>
            <a:off x="5165640" y="4240080"/>
            <a:ext cx="252360" cy="331920"/>
          </a:xfrm>
          <a:custGeom>
            <a:avLst/>
            <a:gdLst/>
            <a:ahLst/>
            <a:rect l="l" t="t" r="r" b="b"/>
            <a:pathLst>
              <a:path w="700" h="922">
                <a:moveTo>
                  <a:pt x="14827" y="11779"/>
                </a:moveTo>
                <a:cubicBezTo>
                  <a:pt x="14859" y="11779"/>
                  <a:pt x="14870" y="11779"/>
                  <a:pt x="14891" y="11779"/>
                </a:cubicBezTo>
                <a:cubicBezTo>
                  <a:pt x="14891" y="11858"/>
                  <a:pt x="14878" y="11895"/>
                  <a:pt x="14859" y="11970"/>
                </a:cubicBezTo>
                <a:cubicBezTo>
                  <a:pt x="14838" y="12054"/>
                  <a:pt x="14785" y="12123"/>
                  <a:pt x="14732" y="12192"/>
                </a:cubicBezTo>
                <a:cubicBezTo>
                  <a:pt x="14654" y="12294"/>
                  <a:pt x="14545" y="12372"/>
                  <a:pt x="14446" y="12446"/>
                </a:cubicBezTo>
                <a:cubicBezTo>
                  <a:pt x="14412" y="12472"/>
                  <a:pt x="14326" y="12478"/>
                  <a:pt x="14383" y="12478"/>
                </a:cubicBezTo>
                <a:cubicBezTo>
                  <a:pt x="14441" y="12478"/>
                  <a:pt x="14458" y="12506"/>
                  <a:pt x="14510" y="12510"/>
                </a:cubicBezTo>
                <a:cubicBezTo>
                  <a:pt x="14587" y="12516"/>
                  <a:pt x="14657" y="12540"/>
                  <a:pt x="14732" y="12573"/>
                </a:cubicBezTo>
                <a:cubicBezTo>
                  <a:pt x="14820" y="12612"/>
                  <a:pt x="14901" y="12639"/>
                  <a:pt x="14986" y="12668"/>
                </a:cubicBezTo>
                <a:cubicBezTo>
                  <a:pt x="15007" y="12679"/>
                  <a:pt x="15029" y="12689"/>
                  <a:pt x="1505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65"/>
          <p:cNvSpPr/>
          <p:nvPr/>
        </p:nvSpPr>
        <p:spPr>
          <a:xfrm>
            <a:off x="6365880" y="5532480"/>
            <a:ext cx="217440" cy="307800"/>
          </a:xfrm>
          <a:custGeom>
            <a:avLst/>
            <a:gdLst/>
            <a:ahLst/>
            <a:rect l="l" t="t" r="r" b="b"/>
            <a:pathLst>
              <a:path w="604" h="858">
                <a:moveTo>
                  <a:pt x="17685" y="15621"/>
                </a:moveTo>
                <a:cubicBezTo>
                  <a:pt x="17762" y="15641"/>
                  <a:pt x="17776" y="15709"/>
                  <a:pt x="17812" y="15780"/>
                </a:cubicBezTo>
                <a:cubicBezTo>
                  <a:pt x="17855" y="15865"/>
                  <a:pt x="17894" y="15954"/>
                  <a:pt x="17939" y="16034"/>
                </a:cubicBezTo>
                <a:cubicBezTo>
                  <a:pt x="17967" y="16084"/>
                  <a:pt x="18018" y="16143"/>
                  <a:pt x="18034" y="16192"/>
                </a:cubicBezTo>
                <a:cubicBezTo>
                  <a:pt x="18034" y="16224"/>
                  <a:pt x="18034" y="16235"/>
                  <a:pt x="18066" y="16224"/>
                </a:cubicBezTo>
                <a:cubicBezTo>
                  <a:pt x="18091" y="16216"/>
                  <a:pt x="18121" y="16168"/>
                  <a:pt x="18129" y="16129"/>
                </a:cubicBezTo>
                <a:cubicBezTo>
                  <a:pt x="18147" y="16043"/>
                  <a:pt x="18148" y="15930"/>
                  <a:pt x="18161" y="15843"/>
                </a:cubicBezTo>
                <a:cubicBezTo>
                  <a:pt x="18177" y="15732"/>
                  <a:pt x="18238" y="15635"/>
                  <a:pt x="18256" y="15526"/>
                </a:cubicBezTo>
                <a:cubicBezTo>
                  <a:pt x="18256" y="15450"/>
                  <a:pt x="18260" y="15417"/>
                  <a:pt x="18288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66"/>
          <p:cNvSpPr/>
          <p:nvPr/>
        </p:nvSpPr>
        <p:spPr>
          <a:xfrm>
            <a:off x="6743880" y="5005440"/>
            <a:ext cx="149040" cy="252360"/>
          </a:xfrm>
          <a:custGeom>
            <a:avLst/>
            <a:gdLst/>
            <a:ahLst/>
            <a:rect l="l" t="t" r="r" b="b"/>
            <a:pathLst>
              <a:path w="414" h="700">
                <a:moveTo>
                  <a:pt x="18732" y="13906"/>
                </a:moveTo>
                <a:cubicBezTo>
                  <a:pt x="18732" y="13952"/>
                  <a:pt x="18741" y="14000"/>
                  <a:pt x="18764" y="14034"/>
                </a:cubicBezTo>
                <a:cubicBezTo>
                  <a:pt x="18804" y="14094"/>
                  <a:pt x="18842" y="14152"/>
                  <a:pt x="18860" y="14224"/>
                </a:cubicBezTo>
                <a:cubicBezTo>
                  <a:pt x="18876" y="14286"/>
                  <a:pt x="18898" y="14391"/>
                  <a:pt x="18923" y="14446"/>
                </a:cubicBezTo>
                <a:cubicBezTo>
                  <a:pt x="18936" y="14474"/>
                  <a:pt x="18964" y="14590"/>
                  <a:pt x="18986" y="14605"/>
                </a:cubicBezTo>
                <a:cubicBezTo>
                  <a:pt x="18997" y="14605"/>
                  <a:pt x="19007" y="14605"/>
                  <a:pt x="19018" y="14605"/>
                </a:cubicBezTo>
                <a:cubicBezTo>
                  <a:pt x="19018" y="14469"/>
                  <a:pt x="19018" y="14351"/>
                  <a:pt x="19050" y="14224"/>
                </a:cubicBezTo>
                <a:cubicBezTo>
                  <a:pt x="19061" y="14178"/>
                  <a:pt x="19057" y="14135"/>
                  <a:pt x="19082" y="14097"/>
                </a:cubicBezTo>
                <a:cubicBezTo>
                  <a:pt x="19115" y="14048"/>
                  <a:pt x="19131" y="13994"/>
                  <a:pt x="19145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the graph and identify the slope of y =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057040" y="1523880"/>
            <a:ext cx="5562720" cy="5105160"/>
            <a:chOff x="2057040" y="1523880"/>
            <a:chExt cx="5562720" cy="5105160"/>
          </a:xfrm>
        </p:grpSpPr>
        <p:grpSp>
          <p:nvGrpSpPr>
            <p:cNvPr id="186" name="Group 6"/>
            <p:cNvGrpSpPr/>
            <p:nvPr/>
          </p:nvGrpSpPr>
          <p:grpSpPr>
            <a:xfrm>
              <a:off x="2057040" y="2013120"/>
              <a:ext cx="5562720" cy="4615920"/>
              <a:chOff x="2057040" y="2013120"/>
              <a:chExt cx="5562720" cy="4615920"/>
            </a:xfrm>
          </p:grpSpPr>
          <p:grpSp>
            <p:nvGrpSpPr>
              <p:cNvPr id="187" name="Group 7"/>
              <p:cNvGrpSpPr/>
              <p:nvPr/>
            </p:nvGrpSpPr>
            <p:grpSpPr>
              <a:xfrm>
                <a:off x="2583720" y="2529000"/>
                <a:ext cx="3944520" cy="3760560"/>
                <a:chOff x="2583720" y="2529000"/>
                <a:chExt cx="3944520" cy="3760560"/>
              </a:xfrm>
            </p:grpSpPr>
            <p:grpSp>
              <p:nvGrpSpPr>
                <p:cNvPr id="188" name="Group 8"/>
                <p:cNvGrpSpPr/>
                <p:nvPr/>
              </p:nvGrpSpPr>
              <p:grpSpPr>
                <a:xfrm>
                  <a:off x="2583720" y="2529000"/>
                  <a:ext cx="3944520" cy="3733560"/>
                  <a:chOff x="2583720" y="2529000"/>
                  <a:chExt cx="3944520" cy="3733560"/>
                </a:xfrm>
              </p:grpSpPr>
              <p:sp>
                <p:nvSpPr>
                  <p:cNvPr id="189" name="Line 9"/>
                  <p:cNvSpPr/>
                  <p:nvPr/>
                </p:nvSpPr>
                <p:spPr>
                  <a:xfrm flipV="1">
                    <a:off x="2583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0"/>
                  <p:cNvSpPr/>
                  <p:nvPr/>
                </p:nvSpPr>
                <p:spPr>
                  <a:xfrm flipV="1">
                    <a:off x="2977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"/>
                  <p:cNvSpPr/>
                  <p:nvPr/>
                </p:nvSpPr>
                <p:spPr>
                  <a:xfrm flipV="1">
                    <a:off x="3174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2"/>
                  <p:cNvSpPr/>
                  <p:nvPr/>
                </p:nvSpPr>
                <p:spPr>
                  <a:xfrm flipV="1">
                    <a:off x="3372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3"/>
                  <p:cNvSpPr/>
                  <p:nvPr/>
                </p:nvSpPr>
                <p:spPr>
                  <a:xfrm flipV="1">
                    <a:off x="35694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4"/>
                  <p:cNvSpPr/>
                  <p:nvPr/>
                </p:nvSpPr>
                <p:spPr>
                  <a:xfrm flipV="1">
                    <a:off x="3767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5"/>
                  <p:cNvSpPr/>
                  <p:nvPr/>
                </p:nvSpPr>
                <p:spPr>
                  <a:xfrm flipV="1">
                    <a:off x="4161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6"/>
                  <p:cNvSpPr/>
                  <p:nvPr/>
                </p:nvSpPr>
                <p:spPr>
                  <a:xfrm flipV="1">
                    <a:off x="4358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7"/>
                  <p:cNvSpPr/>
                  <p:nvPr/>
                </p:nvSpPr>
                <p:spPr>
                  <a:xfrm flipV="1">
                    <a:off x="4556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8"/>
                  <p:cNvSpPr/>
                  <p:nvPr/>
                </p:nvSpPr>
                <p:spPr>
                  <a:xfrm flipV="1">
                    <a:off x="4752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9"/>
                  <p:cNvSpPr/>
                  <p:nvPr/>
                </p:nvSpPr>
                <p:spPr>
                  <a:xfrm flipV="1">
                    <a:off x="49503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20"/>
                  <p:cNvSpPr/>
                  <p:nvPr/>
                </p:nvSpPr>
                <p:spPr>
                  <a:xfrm flipV="1">
                    <a:off x="5146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21"/>
                  <p:cNvSpPr/>
                  <p:nvPr/>
                </p:nvSpPr>
                <p:spPr>
                  <a:xfrm flipV="1">
                    <a:off x="5344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22"/>
                  <p:cNvSpPr/>
                  <p:nvPr/>
                </p:nvSpPr>
                <p:spPr>
                  <a:xfrm flipV="1">
                    <a:off x="5541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23"/>
                  <p:cNvSpPr/>
                  <p:nvPr/>
                </p:nvSpPr>
                <p:spPr>
                  <a:xfrm flipV="1">
                    <a:off x="5739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24"/>
                  <p:cNvSpPr/>
                  <p:nvPr/>
                </p:nvSpPr>
                <p:spPr>
                  <a:xfrm flipV="1">
                    <a:off x="5936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25"/>
                  <p:cNvSpPr/>
                  <p:nvPr/>
                </p:nvSpPr>
                <p:spPr>
                  <a:xfrm flipV="1">
                    <a:off x="61336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26"/>
                  <p:cNvSpPr/>
                  <p:nvPr/>
                </p:nvSpPr>
                <p:spPr>
                  <a:xfrm flipV="1">
                    <a:off x="6330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27"/>
                  <p:cNvSpPr/>
                  <p:nvPr/>
                </p:nvSpPr>
                <p:spPr>
                  <a:xfrm flipV="1">
                    <a:off x="6528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28"/>
                  <p:cNvSpPr/>
                  <p:nvPr/>
                </p:nvSpPr>
                <p:spPr>
                  <a:xfrm flipV="1">
                    <a:off x="3963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29"/>
                  <p:cNvSpPr/>
                  <p:nvPr/>
                </p:nvSpPr>
                <p:spPr>
                  <a:xfrm flipV="1">
                    <a:off x="27802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30"/>
                <p:cNvGrpSpPr/>
                <p:nvPr/>
              </p:nvGrpSpPr>
              <p:grpSpPr>
                <a:xfrm>
                  <a:off x="2611440" y="2529360"/>
                  <a:ext cx="3916440" cy="3760200"/>
                  <a:chOff x="2611440" y="2529360"/>
                  <a:chExt cx="3916440" cy="3760200"/>
                </a:xfrm>
              </p:grpSpPr>
              <p:sp>
                <p:nvSpPr>
                  <p:cNvPr id="211" name="Line 31"/>
                  <p:cNvSpPr/>
                  <p:nvPr/>
                </p:nvSpPr>
                <p:spPr>
                  <a:xfrm>
                    <a:off x="2611440" y="25293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32"/>
                  <p:cNvSpPr/>
                  <p:nvPr/>
                </p:nvSpPr>
                <p:spPr>
                  <a:xfrm>
                    <a:off x="2611440" y="29052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33"/>
                  <p:cNvSpPr/>
                  <p:nvPr/>
                </p:nvSpPr>
                <p:spPr>
                  <a:xfrm>
                    <a:off x="2611440" y="30927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34"/>
                  <p:cNvSpPr/>
                  <p:nvPr/>
                </p:nvSpPr>
                <p:spPr>
                  <a:xfrm>
                    <a:off x="2611440" y="32814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35"/>
                  <p:cNvSpPr/>
                  <p:nvPr/>
                </p:nvSpPr>
                <p:spPr>
                  <a:xfrm>
                    <a:off x="2611440" y="34689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36"/>
                  <p:cNvSpPr/>
                  <p:nvPr/>
                </p:nvSpPr>
                <p:spPr>
                  <a:xfrm>
                    <a:off x="2611440" y="3657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37"/>
                  <p:cNvSpPr/>
                  <p:nvPr/>
                </p:nvSpPr>
                <p:spPr>
                  <a:xfrm>
                    <a:off x="2611440" y="40334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38"/>
                  <p:cNvSpPr/>
                  <p:nvPr/>
                </p:nvSpPr>
                <p:spPr>
                  <a:xfrm>
                    <a:off x="2611440" y="42210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39"/>
                  <p:cNvSpPr/>
                  <p:nvPr/>
                </p:nvSpPr>
                <p:spPr>
                  <a:xfrm>
                    <a:off x="2611440" y="44096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0"/>
                  <p:cNvSpPr/>
                  <p:nvPr/>
                </p:nvSpPr>
                <p:spPr>
                  <a:xfrm>
                    <a:off x="2611440" y="45968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1"/>
                  <p:cNvSpPr/>
                  <p:nvPr/>
                </p:nvSpPr>
                <p:spPr>
                  <a:xfrm>
                    <a:off x="2611440" y="47854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2"/>
                  <p:cNvSpPr/>
                  <p:nvPr/>
                </p:nvSpPr>
                <p:spPr>
                  <a:xfrm>
                    <a:off x="2611440" y="49730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43"/>
                  <p:cNvSpPr/>
                  <p:nvPr/>
                </p:nvSpPr>
                <p:spPr>
                  <a:xfrm>
                    <a:off x="2611440" y="51613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44"/>
                  <p:cNvSpPr/>
                  <p:nvPr/>
                </p:nvSpPr>
                <p:spPr>
                  <a:xfrm>
                    <a:off x="2611440" y="5349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45"/>
                  <p:cNvSpPr/>
                  <p:nvPr/>
                </p:nvSpPr>
                <p:spPr>
                  <a:xfrm>
                    <a:off x="2611440" y="55375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46"/>
                  <p:cNvSpPr/>
                  <p:nvPr/>
                </p:nvSpPr>
                <p:spPr>
                  <a:xfrm>
                    <a:off x="2611440" y="57250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47"/>
                  <p:cNvSpPr/>
                  <p:nvPr/>
                </p:nvSpPr>
                <p:spPr>
                  <a:xfrm>
                    <a:off x="2611440" y="59137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48"/>
                  <p:cNvSpPr/>
                  <p:nvPr/>
                </p:nvSpPr>
                <p:spPr>
                  <a:xfrm>
                    <a:off x="2611440" y="6100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49"/>
                  <p:cNvSpPr/>
                  <p:nvPr/>
                </p:nvSpPr>
                <p:spPr>
                  <a:xfrm>
                    <a:off x="2611440" y="62895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50"/>
                  <p:cNvSpPr/>
                  <p:nvPr/>
                </p:nvSpPr>
                <p:spPr>
                  <a:xfrm>
                    <a:off x="2611440" y="38448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51"/>
                  <p:cNvSpPr/>
                  <p:nvPr/>
                </p:nvSpPr>
                <p:spPr>
                  <a:xfrm>
                    <a:off x="2611440" y="2716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Line 52"/>
              <p:cNvSpPr/>
              <p:nvPr/>
            </p:nvSpPr>
            <p:spPr>
              <a:xfrm flipH="1">
                <a:off x="2057040" y="4425120"/>
                <a:ext cx="492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53"/>
              <p:cNvSpPr/>
              <p:nvPr/>
            </p:nvSpPr>
            <p:spPr>
              <a:xfrm flipV="1">
                <a:off x="4570560" y="2013120"/>
                <a:ext cx="0" cy="46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6923520" y="4170960"/>
                <a:ext cx="696240" cy="579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4309920" y="1523880"/>
              <a:ext cx="54432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Ink 54"/>
          <p:cNvSpPr/>
          <p:nvPr/>
        </p:nvSpPr>
        <p:spPr>
          <a:xfrm>
            <a:off x="2389320" y="4869000"/>
            <a:ext cx="2217600" cy="183960"/>
          </a:xfrm>
          <a:custGeom>
            <a:avLst/>
            <a:gdLst/>
            <a:ahLst/>
            <a:rect l="l" t="t" r="r" b="b"/>
            <a:pathLst>
              <a:path w="6160" h="509">
                <a:moveTo>
                  <a:pt x="12668" y="13843"/>
                </a:moveTo>
                <a:cubicBezTo>
                  <a:pt x="12649" y="13785"/>
                  <a:pt x="12622" y="13824"/>
                  <a:pt x="12605" y="13875"/>
                </a:cubicBezTo>
                <a:cubicBezTo>
                  <a:pt x="12587" y="13930"/>
                  <a:pt x="12607" y="13994"/>
                  <a:pt x="12636" y="14034"/>
                </a:cubicBezTo>
                <a:cubicBezTo>
                  <a:pt x="12701" y="14018"/>
                  <a:pt x="12699" y="13960"/>
                  <a:pt x="12732" y="13938"/>
                </a:cubicBezTo>
                <a:cubicBezTo>
                  <a:pt x="12772" y="13911"/>
                  <a:pt x="12764" y="13908"/>
                  <a:pt x="12764" y="13843"/>
                </a:cubicBezTo>
                <a:cubicBezTo>
                  <a:pt x="12764" y="13811"/>
                  <a:pt x="12764" y="13800"/>
                  <a:pt x="12732" y="13811"/>
                </a:cubicBezTo>
                <a:cubicBezTo>
                  <a:pt x="12697" y="13823"/>
                  <a:pt x="12673" y="13835"/>
                  <a:pt x="12668" y="13875"/>
                </a:cubicBezTo>
                <a:cubicBezTo>
                  <a:pt x="12661" y="13933"/>
                  <a:pt x="12667" y="13958"/>
                  <a:pt x="12700" y="14002"/>
                </a:cubicBezTo>
                <a:cubicBezTo>
                  <a:pt x="12755" y="14002"/>
                  <a:pt x="12776" y="13996"/>
                  <a:pt x="12795" y="13938"/>
                </a:cubicBezTo>
                <a:cubicBezTo>
                  <a:pt x="12807" y="13901"/>
                  <a:pt x="12801" y="13830"/>
                  <a:pt x="12764" y="13811"/>
                </a:cubicBezTo>
                <a:cubicBezTo>
                  <a:pt x="12722" y="13790"/>
                  <a:pt x="12672" y="13808"/>
                  <a:pt x="12668" y="13843"/>
                </a:cubicBezTo>
                <a:cubicBezTo>
                  <a:pt x="12660" y="13910"/>
                  <a:pt x="12672" y="13906"/>
                  <a:pt x="12732" y="13906"/>
                </a:cubicBezTo>
                <a:cubicBezTo>
                  <a:pt x="12743" y="13906"/>
                  <a:pt x="12753" y="13906"/>
                  <a:pt x="12764" y="13906"/>
                </a:cubicBezTo>
                <a:cubicBezTo>
                  <a:pt x="12744" y="13829"/>
                  <a:pt x="12749" y="13859"/>
                  <a:pt x="12700" y="13875"/>
                </a:cubicBezTo>
              </a:path>
              <a:path w="6160" h="509">
                <a:moveTo>
                  <a:pt x="12732" y="13970"/>
                </a:moveTo>
                <a:cubicBezTo>
                  <a:pt x="12732" y="13959"/>
                  <a:pt x="12732" y="13949"/>
                  <a:pt x="12732" y="13938"/>
                </a:cubicBezTo>
                <a:cubicBezTo>
                  <a:pt x="12700" y="13938"/>
                  <a:pt x="12668" y="13938"/>
                  <a:pt x="12636" y="13938"/>
                </a:cubicBezTo>
                <a:cubicBezTo>
                  <a:pt x="12596" y="13924"/>
                  <a:pt x="12581" y="13920"/>
                  <a:pt x="12541" y="13906"/>
                </a:cubicBezTo>
                <a:cubicBezTo>
                  <a:pt x="12539" y="13905"/>
                  <a:pt x="12488" y="13879"/>
                  <a:pt x="12446" y="13875"/>
                </a:cubicBezTo>
                <a:cubicBezTo>
                  <a:pt x="12363" y="13867"/>
                  <a:pt x="12275" y="13875"/>
                  <a:pt x="12192" y="13875"/>
                </a:cubicBezTo>
                <a:cubicBezTo>
                  <a:pt x="12182" y="13872"/>
                  <a:pt x="12146" y="13848"/>
                  <a:pt x="12097" y="13843"/>
                </a:cubicBezTo>
                <a:cubicBezTo>
                  <a:pt x="11649" y="13796"/>
                  <a:pt x="11163" y="13857"/>
                  <a:pt x="10732" y="13811"/>
                </a:cubicBezTo>
                <a:cubicBezTo>
                  <a:pt x="10540" y="13790"/>
                  <a:pt x="10331" y="13827"/>
                  <a:pt x="10160" y="13843"/>
                </a:cubicBezTo>
                <a:cubicBezTo>
                  <a:pt x="10077" y="13851"/>
                  <a:pt x="9973" y="13869"/>
                  <a:pt x="9906" y="13875"/>
                </a:cubicBezTo>
                <a:cubicBezTo>
                  <a:pt x="9839" y="13881"/>
                  <a:pt x="9769" y="13899"/>
                  <a:pt x="9716" y="13906"/>
                </a:cubicBezTo>
                <a:cubicBezTo>
                  <a:pt x="9498" y="13937"/>
                  <a:pt x="9247" y="13893"/>
                  <a:pt x="9049" y="13875"/>
                </a:cubicBezTo>
                <a:cubicBezTo>
                  <a:pt x="8975" y="13868"/>
                  <a:pt x="8883" y="13848"/>
                  <a:pt x="8826" y="13843"/>
                </a:cubicBezTo>
                <a:cubicBezTo>
                  <a:pt x="8733" y="13834"/>
                  <a:pt x="8617" y="13818"/>
                  <a:pt x="8541" y="13811"/>
                </a:cubicBezTo>
                <a:cubicBezTo>
                  <a:pt x="8485" y="13806"/>
                  <a:pt x="8424" y="13785"/>
                  <a:pt x="8382" y="13780"/>
                </a:cubicBezTo>
                <a:cubicBezTo>
                  <a:pt x="8329" y="13773"/>
                  <a:pt x="8262" y="13753"/>
                  <a:pt x="8223" y="13748"/>
                </a:cubicBezTo>
                <a:cubicBezTo>
                  <a:pt x="8132" y="13737"/>
                  <a:pt x="8014" y="13724"/>
                  <a:pt x="7938" y="13716"/>
                </a:cubicBezTo>
                <a:cubicBezTo>
                  <a:pt x="7866" y="13708"/>
                  <a:pt x="7771" y="13689"/>
                  <a:pt x="7715" y="13684"/>
                </a:cubicBezTo>
                <a:cubicBezTo>
                  <a:pt x="7572" y="13670"/>
                  <a:pt x="7424" y="13705"/>
                  <a:pt x="7302" y="13716"/>
                </a:cubicBezTo>
                <a:cubicBezTo>
                  <a:pt x="7239" y="13722"/>
                  <a:pt x="7175" y="13712"/>
                  <a:pt x="7112" y="13716"/>
                </a:cubicBezTo>
                <a:cubicBezTo>
                  <a:pt x="7099" y="13722"/>
                  <a:pt x="7057" y="13734"/>
                  <a:pt x="7017" y="13748"/>
                </a:cubicBezTo>
                <a:cubicBezTo>
                  <a:pt x="6971" y="13763"/>
                  <a:pt x="6940" y="13768"/>
                  <a:pt x="6890" y="13780"/>
                </a:cubicBezTo>
                <a:cubicBezTo>
                  <a:pt x="6885" y="13782"/>
                  <a:pt x="6832" y="13802"/>
                  <a:pt x="6794" y="13811"/>
                </a:cubicBezTo>
                <a:cubicBezTo>
                  <a:pt x="6756" y="13821"/>
                  <a:pt x="6715" y="13833"/>
                  <a:pt x="6668" y="13843"/>
                </a:cubicBezTo>
              </a:path>
              <a:path w="6160" h="509">
                <a:moveTo>
                  <a:pt x="6763" y="13526"/>
                </a:moveTo>
                <a:cubicBezTo>
                  <a:pt x="6755" y="13556"/>
                  <a:pt x="6746" y="13625"/>
                  <a:pt x="6731" y="13652"/>
                </a:cubicBezTo>
                <a:cubicBezTo>
                  <a:pt x="6703" y="13702"/>
                  <a:pt x="6699" y="13689"/>
                  <a:pt x="6699" y="13748"/>
                </a:cubicBezTo>
                <a:cubicBezTo>
                  <a:pt x="6655" y="13763"/>
                  <a:pt x="6668" y="13758"/>
                  <a:pt x="6668" y="13811"/>
                </a:cubicBezTo>
                <a:cubicBezTo>
                  <a:pt x="6622" y="13796"/>
                  <a:pt x="6622" y="13795"/>
                  <a:pt x="6668" y="13780"/>
                </a:cubicBezTo>
                <a:cubicBezTo>
                  <a:pt x="6690" y="13713"/>
                  <a:pt x="6722" y="13770"/>
                  <a:pt x="6763" y="13811"/>
                </a:cubicBezTo>
                <a:cubicBezTo>
                  <a:pt x="6806" y="13854"/>
                  <a:pt x="6848" y="13878"/>
                  <a:pt x="6890" y="13906"/>
                </a:cubicBezTo>
                <a:cubicBezTo>
                  <a:pt x="6949" y="13945"/>
                  <a:pt x="6942" y="13970"/>
                  <a:pt x="7017" y="13970"/>
                </a:cubicBezTo>
                <a:cubicBezTo>
                  <a:pt x="7070" y="13970"/>
                  <a:pt x="7080" y="13970"/>
                  <a:pt x="7112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Ink 55"/>
          <p:cNvSpPr/>
          <p:nvPr/>
        </p:nvSpPr>
        <p:spPr>
          <a:xfrm>
            <a:off x="4606920" y="4937040"/>
            <a:ext cx="2239920" cy="81000"/>
          </a:xfrm>
          <a:custGeom>
            <a:avLst/>
            <a:gdLst/>
            <a:ahLst/>
            <a:rect l="l" t="t" r="r" b="b"/>
            <a:pathLst>
              <a:path w="6224" h="223">
                <a:moveTo>
                  <a:pt x="12795" y="13938"/>
                </a:moveTo>
                <a:cubicBezTo>
                  <a:pt x="12851" y="13925"/>
                  <a:pt x="12850" y="13910"/>
                  <a:pt x="12890" y="13906"/>
                </a:cubicBezTo>
                <a:cubicBezTo>
                  <a:pt x="12959" y="13899"/>
                  <a:pt x="12991" y="13894"/>
                  <a:pt x="13049" y="13875"/>
                </a:cubicBezTo>
                <a:cubicBezTo>
                  <a:pt x="13088" y="13862"/>
                  <a:pt x="13138" y="13848"/>
                  <a:pt x="13176" y="13843"/>
                </a:cubicBezTo>
                <a:cubicBezTo>
                  <a:pt x="13358" y="13820"/>
                  <a:pt x="13582" y="13824"/>
                  <a:pt x="13748" y="13811"/>
                </a:cubicBezTo>
                <a:cubicBezTo>
                  <a:pt x="13871" y="13801"/>
                  <a:pt x="14022" y="13787"/>
                  <a:pt x="14129" y="13780"/>
                </a:cubicBezTo>
                <a:cubicBezTo>
                  <a:pt x="14658" y="13743"/>
                  <a:pt x="15239" y="13772"/>
                  <a:pt x="15748" y="13811"/>
                </a:cubicBezTo>
                <a:cubicBezTo>
                  <a:pt x="15872" y="13821"/>
                  <a:pt x="15984" y="13790"/>
                  <a:pt x="16097" y="13780"/>
                </a:cubicBezTo>
                <a:cubicBezTo>
                  <a:pt x="16186" y="13772"/>
                  <a:pt x="16243" y="13805"/>
                  <a:pt x="16320" y="13811"/>
                </a:cubicBezTo>
                <a:cubicBezTo>
                  <a:pt x="16435" y="13820"/>
                  <a:pt x="16571" y="13834"/>
                  <a:pt x="16669" y="13843"/>
                </a:cubicBezTo>
                <a:cubicBezTo>
                  <a:pt x="16851" y="13859"/>
                  <a:pt x="17047" y="13825"/>
                  <a:pt x="17208" y="13811"/>
                </a:cubicBezTo>
                <a:cubicBezTo>
                  <a:pt x="17489" y="13786"/>
                  <a:pt x="17802" y="13802"/>
                  <a:pt x="18066" y="13780"/>
                </a:cubicBezTo>
                <a:cubicBezTo>
                  <a:pt x="18136" y="13774"/>
                  <a:pt x="18192" y="13756"/>
                  <a:pt x="18256" y="13748"/>
                </a:cubicBezTo>
                <a:cubicBezTo>
                  <a:pt x="18480" y="13721"/>
                  <a:pt x="18777" y="13746"/>
                  <a:pt x="18955" y="13716"/>
                </a:cubicBezTo>
                <a:cubicBezTo>
                  <a:pt x="18986" y="13711"/>
                  <a:pt x="18957" y="13729"/>
                  <a:pt x="18986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nk 56"/>
          <p:cNvSpPr/>
          <p:nvPr/>
        </p:nvSpPr>
        <p:spPr>
          <a:xfrm>
            <a:off x="7097760" y="2754360"/>
            <a:ext cx="1542960" cy="744480"/>
          </a:xfrm>
          <a:custGeom>
            <a:avLst/>
            <a:gdLst/>
            <a:ahLst/>
            <a:rect l="l" t="t" r="r" b="b"/>
            <a:pathLst>
              <a:path w="4287" h="2065">
                <a:moveTo>
                  <a:pt x="20384" y="8096"/>
                </a:moveTo>
                <a:cubicBezTo>
                  <a:pt x="20312" y="8096"/>
                  <a:pt x="20341" y="8071"/>
                  <a:pt x="20288" y="8064"/>
                </a:cubicBezTo>
                <a:cubicBezTo>
                  <a:pt x="20224" y="8056"/>
                  <a:pt x="20177" y="8086"/>
                  <a:pt x="20130" y="8096"/>
                </a:cubicBezTo>
                <a:cubicBezTo>
                  <a:pt x="20069" y="8108"/>
                  <a:pt x="19986" y="8138"/>
                  <a:pt x="19939" y="8192"/>
                </a:cubicBezTo>
                <a:cubicBezTo>
                  <a:pt x="19888" y="8251"/>
                  <a:pt x="19838" y="8292"/>
                  <a:pt x="19780" y="8350"/>
                </a:cubicBezTo>
                <a:cubicBezTo>
                  <a:pt x="19755" y="8375"/>
                  <a:pt x="19726" y="8437"/>
                  <a:pt x="19748" y="8477"/>
                </a:cubicBezTo>
                <a:cubicBezTo>
                  <a:pt x="19781" y="8536"/>
                  <a:pt x="19800" y="8553"/>
                  <a:pt x="19876" y="8572"/>
                </a:cubicBezTo>
                <a:cubicBezTo>
                  <a:pt x="19932" y="8586"/>
                  <a:pt x="19987" y="8626"/>
                  <a:pt x="20034" y="8668"/>
                </a:cubicBezTo>
                <a:cubicBezTo>
                  <a:pt x="20092" y="8720"/>
                  <a:pt x="20168" y="8782"/>
                  <a:pt x="20193" y="8858"/>
                </a:cubicBezTo>
                <a:cubicBezTo>
                  <a:pt x="20216" y="8928"/>
                  <a:pt x="20189" y="9027"/>
                  <a:pt x="20161" y="9080"/>
                </a:cubicBezTo>
                <a:cubicBezTo>
                  <a:pt x="20125" y="9149"/>
                  <a:pt x="20050" y="9213"/>
                  <a:pt x="19971" y="9239"/>
                </a:cubicBezTo>
                <a:cubicBezTo>
                  <a:pt x="19904" y="9261"/>
                  <a:pt x="19831" y="9214"/>
                  <a:pt x="19780" y="9176"/>
                </a:cubicBezTo>
                <a:cubicBezTo>
                  <a:pt x="19713" y="9126"/>
                  <a:pt x="19717" y="9059"/>
                  <a:pt x="19717" y="8985"/>
                </a:cubicBezTo>
                <a:cubicBezTo>
                  <a:pt x="19717" y="8964"/>
                  <a:pt x="19717" y="8943"/>
                  <a:pt x="19717" y="8922"/>
                </a:cubicBezTo>
              </a:path>
              <a:path w="4287" h="2065">
                <a:moveTo>
                  <a:pt x="20447" y="7906"/>
                </a:moveTo>
                <a:cubicBezTo>
                  <a:pt x="20447" y="8060"/>
                  <a:pt x="20465" y="8202"/>
                  <a:pt x="20479" y="8350"/>
                </a:cubicBezTo>
                <a:cubicBezTo>
                  <a:pt x="20496" y="8541"/>
                  <a:pt x="20490" y="8734"/>
                  <a:pt x="20510" y="8922"/>
                </a:cubicBezTo>
                <a:cubicBezTo>
                  <a:pt x="20522" y="9035"/>
                  <a:pt x="20487" y="9130"/>
                  <a:pt x="20479" y="9239"/>
                </a:cubicBezTo>
                <a:cubicBezTo>
                  <a:pt x="20477" y="9267"/>
                  <a:pt x="20479" y="9382"/>
                  <a:pt x="20479" y="9239"/>
                </a:cubicBezTo>
              </a:path>
              <a:path w="4287" h="2065">
                <a:moveTo>
                  <a:pt x="20764" y="8350"/>
                </a:moveTo>
                <a:cubicBezTo>
                  <a:pt x="20764" y="8469"/>
                  <a:pt x="20755" y="8585"/>
                  <a:pt x="20733" y="8700"/>
                </a:cubicBezTo>
                <a:cubicBezTo>
                  <a:pt x="20707" y="8840"/>
                  <a:pt x="20675" y="8999"/>
                  <a:pt x="20701" y="9144"/>
                </a:cubicBezTo>
                <a:cubicBezTo>
                  <a:pt x="20712" y="9207"/>
                  <a:pt x="20733" y="9320"/>
                  <a:pt x="20796" y="9334"/>
                </a:cubicBezTo>
                <a:cubicBezTo>
                  <a:pt x="20859" y="9348"/>
                  <a:pt x="20882" y="9312"/>
                  <a:pt x="20923" y="9271"/>
                </a:cubicBezTo>
                <a:cubicBezTo>
                  <a:pt x="20990" y="9205"/>
                  <a:pt x="21065" y="9053"/>
                  <a:pt x="21082" y="8954"/>
                </a:cubicBezTo>
                <a:cubicBezTo>
                  <a:pt x="21104" y="8830"/>
                  <a:pt x="21116" y="8695"/>
                  <a:pt x="21082" y="8572"/>
                </a:cubicBezTo>
                <a:cubicBezTo>
                  <a:pt x="21061" y="8497"/>
                  <a:pt x="21008" y="8435"/>
                  <a:pt x="20955" y="8382"/>
                </a:cubicBezTo>
                <a:cubicBezTo>
                  <a:pt x="20926" y="8353"/>
                  <a:pt x="20920" y="8343"/>
                  <a:pt x="20892" y="8350"/>
                </a:cubicBezTo>
              </a:path>
              <a:path w="4287" h="2065">
                <a:moveTo>
                  <a:pt x="21146" y="8446"/>
                </a:moveTo>
                <a:cubicBezTo>
                  <a:pt x="21146" y="8546"/>
                  <a:pt x="21173" y="8631"/>
                  <a:pt x="21177" y="8731"/>
                </a:cubicBezTo>
                <a:cubicBezTo>
                  <a:pt x="21182" y="8871"/>
                  <a:pt x="21186" y="9037"/>
                  <a:pt x="21209" y="9176"/>
                </a:cubicBezTo>
                <a:cubicBezTo>
                  <a:pt x="21228" y="9290"/>
                  <a:pt x="21258" y="9414"/>
                  <a:pt x="21272" y="9525"/>
                </a:cubicBezTo>
                <a:cubicBezTo>
                  <a:pt x="21279" y="9585"/>
                  <a:pt x="21272" y="9655"/>
                  <a:pt x="21272" y="9716"/>
                </a:cubicBezTo>
                <a:cubicBezTo>
                  <a:pt x="21237" y="9656"/>
                  <a:pt x="21218" y="9537"/>
                  <a:pt x="21209" y="9462"/>
                </a:cubicBezTo>
                <a:cubicBezTo>
                  <a:pt x="21193" y="9324"/>
                  <a:pt x="21160" y="9186"/>
                  <a:pt x="21146" y="9049"/>
                </a:cubicBezTo>
                <a:cubicBezTo>
                  <a:pt x="21128" y="8877"/>
                  <a:pt x="21154" y="8707"/>
                  <a:pt x="21177" y="8541"/>
                </a:cubicBezTo>
                <a:cubicBezTo>
                  <a:pt x="21188" y="8464"/>
                  <a:pt x="21199" y="8397"/>
                  <a:pt x="21272" y="8350"/>
                </a:cubicBezTo>
                <a:cubicBezTo>
                  <a:pt x="21355" y="8297"/>
                  <a:pt x="21395" y="8321"/>
                  <a:pt x="21463" y="8382"/>
                </a:cubicBezTo>
                <a:cubicBezTo>
                  <a:pt x="21523" y="8437"/>
                  <a:pt x="21584" y="8487"/>
                  <a:pt x="21590" y="8572"/>
                </a:cubicBezTo>
                <a:cubicBezTo>
                  <a:pt x="21596" y="8658"/>
                  <a:pt x="21594" y="8783"/>
                  <a:pt x="21558" y="8858"/>
                </a:cubicBezTo>
                <a:cubicBezTo>
                  <a:pt x="21529" y="8919"/>
                  <a:pt x="21433" y="9048"/>
                  <a:pt x="21368" y="9080"/>
                </a:cubicBezTo>
                <a:cubicBezTo>
                  <a:pt x="21241" y="9143"/>
                  <a:pt x="21346" y="9156"/>
                  <a:pt x="21272" y="9080"/>
                </a:cubicBezTo>
                <a:cubicBezTo>
                  <a:pt x="21241" y="9080"/>
                  <a:pt x="21231" y="9080"/>
                  <a:pt x="21241" y="9049"/>
                </a:cubicBezTo>
              </a:path>
              <a:path w="4287" h="2065">
                <a:moveTo>
                  <a:pt x="21812" y="8668"/>
                </a:moveTo>
                <a:cubicBezTo>
                  <a:pt x="21877" y="8668"/>
                  <a:pt x="21887" y="8653"/>
                  <a:pt x="21939" y="8636"/>
                </a:cubicBezTo>
                <a:cubicBezTo>
                  <a:pt x="21996" y="8617"/>
                  <a:pt x="22036" y="8593"/>
                  <a:pt x="22098" y="8572"/>
                </a:cubicBezTo>
                <a:cubicBezTo>
                  <a:pt x="22145" y="8556"/>
                  <a:pt x="22220" y="8519"/>
                  <a:pt x="22225" y="8477"/>
                </a:cubicBezTo>
                <a:cubicBezTo>
                  <a:pt x="22232" y="8421"/>
                  <a:pt x="22228" y="8391"/>
                  <a:pt x="22193" y="8350"/>
                </a:cubicBezTo>
                <a:cubicBezTo>
                  <a:pt x="22147" y="8298"/>
                  <a:pt x="22092" y="8273"/>
                  <a:pt x="22034" y="8255"/>
                </a:cubicBezTo>
                <a:cubicBezTo>
                  <a:pt x="21974" y="8237"/>
                  <a:pt x="21945" y="8281"/>
                  <a:pt x="21908" y="8318"/>
                </a:cubicBezTo>
                <a:cubicBezTo>
                  <a:pt x="21830" y="8396"/>
                  <a:pt x="21844" y="8468"/>
                  <a:pt x="21844" y="8572"/>
                </a:cubicBezTo>
                <a:cubicBezTo>
                  <a:pt x="21844" y="8686"/>
                  <a:pt x="21830" y="8787"/>
                  <a:pt x="21876" y="8890"/>
                </a:cubicBezTo>
                <a:cubicBezTo>
                  <a:pt x="21897" y="8937"/>
                  <a:pt x="21951" y="9026"/>
                  <a:pt x="22003" y="9049"/>
                </a:cubicBezTo>
                <a:cubicBezTo>
                  <a:pt x="22071" y="9080"/>
                  <a:pt x="22204" y="9048"/>
                  <a:pt x="22257" y="9017"/>
                </a:cubicBezTo>
                <a:cubicBezTo>
                  <a:pt x="22312" y="8989"/>
                  <a:pt x="22327" y="8984"/>
                  <a:pt x="22352" y="8954"/>
                </a:cubicBezTo>
              </a:path>
              <a:path w="4287" h="2065">
                <a:moveTo>
                  <a:pt x="22638" y="8318"/>
                </a:moveTo>
                <a:cubicBezTo>
                  <a:pt x="22580" y="8333"/>
                  <a:pt x="22557" y="8356"/>
                  <a:pt x="22542" y="8414"/>
                </a:cubicBezTo>
                <a:cubicBezTo>
                  <a:pt x="22597" y="8414"/>
                  <a:pt x="22619" y="8407"/>
                  <a:pt x="22638" y="8350"/>
                </a:cubicBezTo>
                <a:cubicBezTo>
                  <a:pt x="22656" y="8296"/>
                  <a:pt x="22617" y="8318"/>
                  <a:pt x="22606" y="8350"/>
                </a:cubicBezTo>
              </a:path>
              <a:path w="4287" h="2065">
                <a:moveTo>
                  <a:pt x="22701" y="8795"/>
                </a:moveTo>
                <a:cubicBezTo>
                  <a:pt x="22658" y="8766"/>
                  <a:pt x="22646" y="8790"/>
                  <a:pt x="22638" y="8858"/>
                </a:cubicBezTo>
                <a:cubicBezTo>
                  <a:pt x="22632" y="8916"/>
                  <a:pt x="22640" y="8947"/>
                  <a:pt x="22701" y="8954"/>
                </a:cubicBezTo>
                <a:cubicBezTo>
                  <a:pt x="22712" y="8954"/>
                  <a:pt x="22722" y="8954"/>
                  <a:pt x="22733" y="8954"/>
                </a:cubicBezTo>
                <a:cubicBezTo>
                  <a:pt x="22733" y="8865"/>
                  <a:pt x="22749" y="8922"/>
                  <a:pt x="22733" y="8858"/>
                </a:cubicBezTo>
                <a:cubicBezTo>
                  <a:pt x="22733" y="8847"/>
                  <a:pt x="22733" y="8837"/>
                  <a:pt x="22733" y="8826"/>
                </a:cubicBezTo>
                <a:cubicBezTo>
                  <a:pt x="22692" y="8840"/>
                  <a:pt x="22683" y="8849"/>
                  <a:pt x="22670" y="8890"/>
                </a:cubicBezTo>
              </a:path>
              <a:path w="4287" h="2065">
                <a:moveTo>
                  <a:pt x="23527" y="7810"/>
                </a:moveTo>
                <a:cubicBezTo>
                  <a:pt x="23508" y="7785"/>
                  <a:pt x="23514" y="7773"/>
                  <a:pt x="23495" y="7747"/>
                </a:cubicBezTo>
                <a:cubicBezTo>
                  <a:pt x="23450" y="7773"/>
                  <a:pt x="23412" y="7798"/>
                  <a:pt x="23368" y="7842"/>
                </a:cubicBezTo>
                <a:cubicBezTo>
                  <a:pt x="23283" y="7926"/>
                  <a:pt x="23248" y="7982"/>
                  <a:pt x="23209" y="8096"/>
                </a:cubicBezTo>
                <a:cubicBezTo>
                  <a:pt x="23145" y="8282"/>
                  <a:pt x="23072" y="8504"/>
                  <a:pt x="23050" y="8700"/>
                </a:cubicBezTo>
                <a:cubicBezTo>
                  <a:pt x="23033" y="8849"/>
                  <a:pt x="23036" y="9033"/>
                  <a:pt x="23082" y="9176"/>
                </a:cubicBezTo>
                <a:cubicBezTo>
                  <a:pt x="23120" y="9294"/>
                  <a:pt x="23185" y="9359"/>
                  <a:pt x="23304" y="9366"/>
                </a:cubicBezTo>
                <a:cubicBezTo>
                  <a:pt x="23401" y="9371"/>
                  <a:pt x="23504" y="9380"/>
                  <a:pt x="23590" y="9334"/>
                </a:cubicBezTo>
                <a:cubicBezTo>
                  <a:pt x="23719" y="9264"/>
                  <a:pt x="23805" y="9111"/>
                  <a:pt x="23876" y="8985"/>
                </a:cubicBezTo>
                <a:cubicBezTo>
                  <a:pt x="23963" y="8832"/>
                  <a:pt x="23990" y="8649"/>
                  <a:pt x="24003" y="8477"/>
                </a:cubicBezTo>
                <a:cubicBezTo>
                  <a:pt x="24017" y="8288"/>
                  <a:pt x="23992" y="8118"/>
                  <a:pt x="23940" y="7938"/>
                </a:cubicBezTo>
                <a:cubicBezTo>
                  <a:pt x="23908" y="7828"/>
                  <a:pt x="23839" y="7686"/>
                  <a:pt x="23717" y="7652"/>
                </a:cubicBezTo>
                <a:cubicBezTo>
                  <a:pt x="23613" y="7623"/>
                  <a:pt x="23499" y="7670"/>
                  <a:pt x="23432" y="7747"/>
                </a:cubicBezTo>
                <a:cubicBezTo>
                  <a:pt x="23411" y="7779"/>
                  <a:pt x="23389" y="7810"/>
                  <a:pt x="23368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Ink 57"/>
          <p:cNvSpPr/>
          <p:nvPr/>
        </p:nvSpPr>
        <p:spPr>
          <a:xfrm>
            <a:off x="6697800" y="4835520"/>
            <a:ext cx="228600" cy="297000"/>
          </a:xfrm>
          <a:custGeom>
            <a:avLst/>
            <a:gdLst/>
            <a:ahLst/>
            <a:rect l="l" t="t" r="r" b="b"/>
            <a:pathLst>
              <a:path w="635" h="827">
                <a:moveTo>
                  <a:pt x="18860" y="13430"/>
                </a:moveTo>
                <a:cubicBezTo>
                  <a:pt x="18860" y="13462"/>
                  <a:pt x="18860" y="13494"/>
                  <a:pt x="18860" y="13526"/>
                </a:cubicBezTo>
                <a:cubicBezTo>
                  <a:pt x="18902" y="13540"/>
                  <a:pt x="18900" y="13570"/>
                  <a:pt x="18955" y="13589"/>
                </a:cubicBezTo>
                <a:cubicBezTo>
                  <a:pt x="18998" y="13604"/>
                  <a:pt x="19044" y="13596"/>
                  <a:pt x="19082" y="13621"/>
                </a:cubicBezTo>
                <a:cubicBezTo>
                  <a:pt x="19108" y="13638"/>
                  <a:pt x="19197" y="13692"/>
                  <a:pt x="19209" y="13716"/>
                </a:cubicBezTo>
                <a:cubicBezTo>
                  <a:pt x="19209" y="13727"/>
                  <a:pt x="19209" y="13737"/>
                  <a:pt x="19209" y="13748"/>
                </a:cubicBezTo>
                <a:cubicBezTo>
                  <a:pt x="19254" y="13763"/>
                  <a:pt x="19254" y="13765"/>
                  <a:pt x="19209" y="13780"/>
                </a:cubicBezTo>
                <a:cubicBezTo>
                  <a:pt x="19200" y="13808"/>
                  <a:pt x="19154" y="13849"/>
                  <a:pt x="19114" y="13875"/>
                </a:cubicBezTo>
                <a:cubicBezTo>
                  <a:pt x="19045" y="13919"/>
                  <a:pt x="19014" y="13910"/>
                  <a:pt x="18955" y="13970"/>
                </a:cubicBezTo>
                <a:cubicBezTo>
                  <a:pt x="18896" y="14029"/>
                  <a:pt x="18826" y="14068"/>
                  <a:pt x="18764" y="14129"/>
                </a:cubicBezTo>
                <a:cubicBezTo>
                  <a:pt x="18713" y="14179"/>
                  <a:pt x="18660" y="14212"/>
                  <a:pt x="18606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- y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m(x -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nk 3"/>
          <p:cNvSpPr/>
          <p:nvPr/>
        </p:nvSpPr>
        <p:spPr>
          <a:xfrm>
            <a:off x="2446200" y="3371760"/>
            <a:ext cx="2194200" cy="1224000"/>
          </a:xfrm>
          <a:custGeom>
            <a:avLst/>
            <a:gdLst/>
            <a:ahLst/>
            <a:rect l="l" t="t" r="r" b="b"/>
            <a:pathLst>
              <a:path w="6097" h="3399">
                <a:moveTo>
                  <a:pt x="10541" y="9366"/>
                </a:moveTo>
                <a:cubicBezTo>
                  <a:pt x="10472" y="9416"/>
                  <a:pt x="10472" y="9455"/>
                  <a:pt x="10414" y="9525"/>
                </a:cubicBezTo>
                <a:cubicBezTo>
                  <a:pt x="10346" y="9607"/>
                  <a:pt x="10243" y="9686"/>
                  <a:pt x="10192" y="9779"/>
                </a:cubicBezTo>
                <a:cubicBezTo>
                  <a:pt x="10117" y="9917"/>
                  <a:pt x="10024" y="10075"/>
                  <a:pt x="9970" y="10224"/>
                </a:cubicBezTo>
                <a:cubicBezTo>
                  <a:pt x="9912" y="10385"/>
                  <a:pt x="9879" y="10563"/>
                  <a:pt x="9874" y="10732"/>
                </a:cubicBezTo>
                <a:cubicBezTo>
                  <a:pt x="9870" y="10891"/>
                  <a:pt x="9869" y="11060"/>
                  <a:pt x="9938" y="11208"/>
                </a:cubicBezTo>
                <a:cubicBezTo>
                  <a:pt x="9995" y="11329"/>
                  <a:pt x="10118" y="11417"/>
                  <a:pt x="10192" y="11525"/>
                </a:cubicBezTo>
                <a:cubicBezTo>
                  <a:pt x="10247" y="11605"/>
                  <a:pt x="10302" y="11687"/>
                  <a:pt x="10382" y="11748"/>
                </a:cubicBezTo>
                <a:cubicBezTo>
                  <a:pt x="10411" y="11776"/>
                  <a:pt x="10417" y="11786"/>
                  <a:pt x="10446" y="11779"/>
                </a:cubicBezTo>
              </a:path>
              <a:path w="6097" h="3399">
                <a:moveTo>
                  <a:pt x="10795" y="9842"/>
                </a:moveTo>
                <a:cubicBezTo>
                  <a:pt x="10795" y="9832"/>
                  <a:pt x="10795" y="9821"/>
                  <a:pt x="10795" y="9811"/>
                </a:cubicBezTo>
                <a:cubicBezTo>
                  <a:pt x="10808" y="9824"/>
                  <a:pt x="10878" y="9865"/>
                  <a:pt x="10890" y="9906"/>
                </a:cubicBezTo>
                <a:cubicBezTo>
                  <a:pt x="10917" y="10002"/>
                  <a:pt x="10952" y="10093"/>
                  <a:pt x="10986" y="10192"/>
                </a:cubicBezTo>
                <a:cubicBezTo>
                  <a:pt x="11033" y="10329"/>
                  <a:pt x="11118" y="10442"/>
                  <a:pt x="11176" y="10573"/>
                </a:cubicBezTo>
                <a:cubicBezTo>
                  <a:pt x="11250" y="10738"/>
                  <a:pt x="11357" y="10885"/>
                  <a:pt x="11430" y="11049"/>
                </a:cubicBezTo>
                <a:cubicBezTo>
                  <a:pt x="11473" y="11144"/>
                  <a:pt x="11527" y="11219"/>
                  <a:pt x="11589" y="11303"/>
                </a:cubicBezTo>
                <a:cubicBezTo>
                  <a:pt x="11617" y="11332"/>
                  <a:pt x="11627" y="11347"/>
                  <a:pt x="11620" y="11303"/>
                </a:cubicBezTo>
              </a:path>
              <a:path w="6097" h="3399">
                <a:moveTo>
                  <a:pt x="11557" y="9906"/>
                </a:moveTo>
                <a:cubicBezTo>
                  <a:pt x="11525" y="9994"/>
                  <a:pt x="11472" y="10048"/>
                  <a:pt x="11430" y="10128"/>
                </a:cubicBezTo>
                <a:cubicBezTo>
                  <a:pt x="11362" y="10259"/>
                  <a:pt x="11281" y="10379"/>
                  <a:pt x="11208" y="10509"/>
                </a:cubicBezTo>
                <a:cubicBezTo>
                  <a:pt x="11131" y="10646"/>
                  <a:pt x="11022" y="10781"/>
                  <a:pt x="10954" y="10922"/>
                </a:cubicBezTo>
                <a:cubicBezTo>
                  <a:pt x="10905" y="11024"/>
                  <a:pt x="10871" y="11145"/>
                  <a:pt x="10827" y="11240"/>
                </a:cubicBezTo>
                <a:cubicBezTo>
                  <a:pt x="10807" y="11282"/>
                  <a:pt x="10748" y="11319"/>
                  <a:pt x="10732" y="11335"/>
                </a:cubicBezTo>
              </a:path>
              <a:path w="6097" h="3399">
                <a:moveTo>
                  <a:pt x="12128" y="11049"/>
                </a:moveTo>
                <a:cubicBezTo>
                  <a:pt x="12128" y="11119"/>
                  <a:pt x="12101" y="11169"/>
                  <a:pt x="12097" y="11240"/>
                </a:cubicBezTo>
                <a:cubicBezTo>
                  <a:pt x="12093" y="11321"/>
                  <a:pt x="12084" y="11445"/>
                  <a:pt x="12065" y="11525"/>
                </a:cubicBezTo>
                <a:cubicBezTo>
                  <a:pt x="12046" y="11606"/>
                  <a:pt x="12033" y="11660"/>
                  <a:pt x="12033" y="11748"/>
                </a:cubicBezTo>
              </a:path>
              <a:path w="6097" h="3399">
                <a:moveTo>
                  <a:pt x="12890" y="11208"/>
                </a:moveTo>
                <a:cubicBezTo>
                  <a:pt x="12890" y="11320"/>
                  <a:pt x="12872" y="11421"/>
                  <a:pt x="12859" y="11525"/>
                </a:cubicBezTo>
                <a:cubicBezTo>
                  <a:pt x="12842" y="11663"/>
                  <a:pt x="12854" y="11803"/>
                  <a:pt x="12827" y="11938"/>
                </a:cubicBezTo>
                <a:cubicBezTo>
                  <a:pt x="12803" y="12058"/>
                  <a:pt x="12743" y="12174"/>
                  <a:pt x="12700" y="12287"/>
                </a:cubicBezTo>
                <a:cubicBezTo>
                  <a:pt x="12660" y="12394"/>
                  <a:pt x="12593" y="12469"/>
                  <a:pt x="12541" y="12573"/>
                </a:cubicBezTo>
                <a:cubicBezTo>
                  <a:pt x="12503" y="12649"/>
                  <a:pt x="12415" y="12658"/>
                  <a:pt x="12382" y="12732"/>
                </a:cubicBezTo>
                <a:cubicBezTo>
                  <a:pt x="12382" y="12743"/>
                  <a:pt x="12382" y="12753"/>
                  <a:pt x="12382" y="12764"/>
                </a:cubicBezTo>
              </a:path>
              <a:path w="6097" h="3399">
                <a:moveTo>
                  <a:pt x="6890" y="10096"/>
                </a:moveTo>
                <a:cubicBezTo>
                  <a:pt x="6910" y="10174"/>
                  <a:pt x="6895" y="10196"/>
                  <a:pt x="6890" y="10287"/>
                </a:cubicBezTo>
                <a:cubicBezTo>
                  <a:pt x="6864" y="10752"/>
                  <a:pt x="7137" y="12025"/>
                  <a:pt x="6858" y="11652"/>
                </a:cubicBezTo>
                <a:cubicBezTo>
                  <a:pt x="6858" y="11641"/>
                  <a:pt x="6858" y="11631"/>
                  <a:pt x="6858" y="11620"/>
                </a:cubicBezTo>
              </a:path>
              <a:path w="6097" h="3399">
                <a:moveTo>
                  <a:pt x="6794" y="10414"/>
                </a:moveTo>
                <a:cubicBezTo>
                  <a:pt x="6794" y="10306"/>
                  <a:pt x="6793" y="10195"/>
                  <a:pt x="6826" y="10096"/>
                </a:cubicBezTo>
                <a:cubicBezTo>
                  <a:pt x="6855" y="10010"/>
                  <a:pt x="6903" y="9975"/>
                  <a:pt x="6985" y="9970"/>
                </a:cubicBezTo>
                <a:cubicBezTo>
                  <a:pt x="7093" y="9964"/>
                  <a:pt x="7152" y="10016"/>
                  <a:pt x="7207" y="10096"/>
                </a:cubicBezTo>
                <a:cubicBezTo>
                  <a:pt x="7290" y="10218"/>
                  <a:pt x="7327" y="10332"/>
                  <a:pt x="7334" y="10478"/>
                </a:cubicBezTo>
                <a:cubicBezTo>
                  <a:pt x="7338" y="10557"/>
                  <a:pt x="7301" y="10705"/>
                  <a:pt x="7239" y="10763"/>
                </a:cubicBezTo>
                <a:cubicBezTo>
                  <a:pt x="7190" y="10809"/>
                  <a:pt x="7052" y="10873"/>
                  <a:pt x="6985" y="10858"/>
                </a:cubicBezTo>
                <a:cubicBezTo>
                  <a:pt x="6908" y="10841"/>
                  <a:pt x="6883" y="10822"/>
                  <a:pt x="6858" y="10763"/>
                </a:cubicBezTo>
                <a:cubicBezTo>
                  <a:pt x="6830" y="10708"/>
                  <a:pt x="6813" y="10693"/>
                  <a:pt x="6858" y="10668"/>
                </a:cubicBezTo>
              </a:path>
              <a:path w="6097" h="3399">
                <a:moveTo>
                  <a:pt x="7652" y="10096"/>
                </a:moveTo>
                <a:cubicBezTo>
                  <a:pt x="7599" y="10149"/>
                  <a:pt x="7560" y="10188"/>
                  <a:pt x="7525" y="10255"/>
                </a:cubicBezTo>
                <a:cubicBezTo>
                  <a:pt x="7464" y="10372"/>
                  <a:pt x="7435" y="10506"/>
                  <a:pt x="7430" y="10636"/>
                </a:cubicBezTo>
                <a:cubicBezTo>
                  <a:pt x="7427" y="10731"/>
                  <a:pt x="7413" y="10828"/>
                  <a:pt x="7525" y="10858"/>
                </a:cubicBezTo>
                <a:cubicBezTo>
                  <a:pt x="7589" y="10875"/>
                  <a:pt x="7703" y="10842"/>
                  <a:pt x="7747" y="10795"/>
                </a:cubicBezTo>
                <a:cubicBezTo>
                  <a:pt x="7835" y="10701"/>
                  <a:pt x="7818" y="10553"/>
                  <a:pt x="7779" y="10446"/>
                </a:cubicBezTo>
                <a:cubicBezTo>
                  <a:pt x="7741" y="10340"/>
                  <a:pt x="7695" y="10265"/>
                  <a:pt x="7652" y="10192"/>
                </a:cubicBezTo>
                <a:cubicBezTo>
                  <a:pt x="7631" y="10157"/>
                  <a:pt x="7624" y="10132"/>
                  <a:pt x="7588" y="10096"/>
                </a:cubicBezTo>
              </a:path>
              <a:path w="6097" h="3399">
                <a:moveTo>
                  <a:pt x="7906" y="10096"/>
                </a:moveTo>
                <a:cubicBezTo>
                  <a:pt x="7922" y="10175"/>
                  <a:pt x="7938" y="10234"/>
                  <a:pt x="7938" y="10319"/>
                </a:cubicBezTo>
                <a:cubicBezTo>
                  <a:pt x="7938" y="10485"/>
                  <a:pt x="7932" y="10639"/>
                  <a:pt x="7906" y="10795"/>
                </a:cubicBezTo>
                <a:cubicBezTo>
                  <a:pt x="7906" y="10848"/>
                  <a:pt x="7906" y="10858"/>
                  <a:pt x="7906" y="10890"/>
                </a:cubicBezTo>
              </a:path>
              <a:path w="6097" h="3399">
                <a:moveTo>
                  <a:pt x="8160" y="10192"/>
                </a:moveTo>
                <a:cubicBezTo>
                  <a:pt x="8217" y="10211"/>
                  <a:pt x="8192" y="10282"/>
                  <a:pt x="8192" y="10350"/>
                </a:cubicBezTo>
                <a:cubicBezTo>
                  <a:pt x="8192" y="10516"/>
                  <a:pt x="8185" y="10670"/>
                  <a:pt x="8160" y="10827"/>
                </a:cubicBezTo>
                <a:cubicBezTo>
                  <a:pt x="8160" y="10880"/>
                  <a:pt x="8160" y="10890"/>
                  <a:pt x="8160" y="10922"/>
                </a:cubicBezTo>
                <a:cubicBezTo>
                  <a:pt x="8160" y="10816"/>
                  <a:pt x="8170" y="10705"/>
                  <a:pt x="8192" y="10604"/>
                </a:cubicBezTo>
                <a:cubicBezTo>
                  <a:pt x="8217" y="10487"/>
                  <a:pt x="8267" y="10363"/>
                  <a:pt x="8318" y="10255"/>
                </a:cubicBezTo>
                <a:cubicBezTo>
                  <a:pt x="8345" y="10197"/>
                  <a:pt x="8370" y="10172"/>
                  <a:pt x="8414" y="10128"/>
                </a:cubicBezTo>
                <a:cubicBezTo>
                  <a:pt x="8480" y="10128"/>
                  <a:pt x="8495" y="10144"/>
                  <a:pt x="8509" y="10224"/>
                </a:cubicBezTo>
                <a:cubicBezTo>
                  <a:pt x="8528" y="10333"/>
                  <a:pt x="8562" y="10459"/>
                  <a:pt x="8541" y="10573"/>
                </a:cubicBezTo>
                <a:cubicBezTo>
                  <a:pt x="8513" y="10721"/>
                  <a:pt x="8519" y="10813"/>
                  <a:pt x="8541" y="10954"/>
                </a:cubicBezTo>
                <a:cubicBezTo>
                  <a:pt x="8555" y="11042"/>
                  <a:pt x="8554" y="11147"/>
                  <a:pt x="8668" y="11081"/>
                </a:cubicBezTo>
                <a:cubicBezTo>
                  <a:pt x="8679" y="11070"/>
                  <a:pt x="8689" y="11060"/>
                  <a:pt x="8700" y="11049"/>
                </a:cubicBezTo>
              </a:path>
              <a:path w="6097" h="3399">
                <a:moveTo>
                  <a:pt x="8922" y="9874"/>
                </a:moveTo>
                <a:cubicBezTo>
                  <a:pt x="8922" y="10266"/>
                  <a:pt x="8901" y="10666"/>
                  <a:pt x="8954" y="11049"/>
                </a:cubicBezTo>
                <a:cubicBezTo>
                  <a:pt x="8963" y="11111"/>
                  <a:pt x="8978" y="11190"/>
                  <a:pt x="9017" y="11144"/>
                </a:cubicBezTo>
                <a:cubicBezTo>
                  <a:pt x="9028" y="11133"/>
                  <a:pt x="9038" y="11123"/>
                  <a:pt x="9049" y="11112"/>
                </a:cubicBezTo>
              </a:path>
              <a:path w="6097" h="3399">
                <a:moveTo>
                  <a:pt x="8731" y="10382"/>
                </a:moveTo>
                <a:cubicBezTo>
                  <a:pt x="8784" y="10382"/>
                  <a:pt x="8837" y="10382"/>
                  <a:pt x="8890" y="10382"/>
                </a:cubicBezTo>
              </a:path>
              <a:path w="6097" h="3399">
                <a:moveTo>
                  <a:pt x="9398" y="10414"/>
                </a:moveTo>
                <a:cubicBezTo>
                  <a:pt x="9398" y="10403"/>
                  <a:pt x="9398" y="10393"/>
                  <a:pt x="9398" y="10382"/>
                </a:cubicBezTo>
                <a:cubicBezTo>
                  <a:pt x="9345" y="10395"/>
                  <a:pt x="9310" y="10418"/>
                  <a:pt x="9303" y="10478"/>
                </a:cubicBezTo>
                <a:cubicBezTo>
                  <a:pt x="9295" y="10553"/>
                  <a:pt x="9361" y="10487"/>
                  <a:pt x="9366" y="10446"/>
                </a:cubicBezTo>
                <a:cubicBezTo>
                  <a:pt x="9366" y="10414"/>
                  <a:pt x="9366" y="10403"/>
                  <a:pt x="9366" y="10382"/>
                </a:cubicBezTo>
                <a:cubicBezTo>
                  <a:pt x="9315" y="10399"/>
                  <a:pt x="9353" y="10397"/>
                  <a:pt x="9303" y="10414"/>
                </a:cubicBezTo>
              </a:path>
              <a:path w="6097" h="3399">
                <a:moveTo>
                  <a:pt x="9366" y="10986"/>
                </a:moveTo>
                <a:cubicBezTo>
                  <a:pt x="9314" y="11003"/>
                  <a:pt x="9308" y="11046"/>
                  <a:pt x="9303" y="11112"/>
                </a:cubicBezTo>
                <a:cubicBezTo>
                  <a:pt x="9299" y="11165"/>
                  <a:pt x="9293" y="11162"/>
                  <a:pt x="9334" y="11176"/>
                </a:cubicBezTo>
                <a:cubicBezTo>
                  <a:pt x="9370" y="11164"/>
                  <a:pt x="9392" y="11133"/>
                  <a:pt x="9398" y="11081"/>
                </a:cubicBezTo>
                <a:cubicBezTo>
                  <a:pt x="9398" y="11049"/>
                  <a:pt x="9398" y="11038"/>
                  <a:pt x="9398" y="11017"/>
                </a:cubicBezTo>
                <a:cubicBezTo>
                  <a:pt x="9358" y="11017"/>
                  <a:pt x="9314" y="11027"/>
                  <a:pt x="9303" y="11049"/>
                </a:cubicBezTo>
                <a:cubicBezTo>
                  <a:pt x="9303" y="11081"/>
                  <a:pt x="9303" y="11092"/>
                  <a:pt x="9271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Ink 4"/>
          <p:cNvSpPr/>
          <p:nvPr/>
        </p:nvSpPr>
        <p:spPr>
          <a:xfrm>
            <a:off x="4879800" y="3646440"/>
            <a:ext cx="298800" cy="777960"/>
          </a:xfrm>
          <a:custGeom>
            <a:avLst/>
            <a:gdLst/>
            <a:ahLst/>
            <a:rect l="l" t="t" r="r" b="b"/>
            <a:pathLst>
              <a:path w="827" h="2160">
                <a:moveTo>
                  <a:pt x="13684" y="10128"/>
                </a:moveTo>
                <a:cubicBezTo>
                  <a:pt x="13677" y="10184"/>
                  <a:pt x="13672" y="10235"/>
                  <a:pt x="13652" y="10287"/>
                </a:cubicBezTo>
                <a:cubicBezTo>
                  <a:pt x="13612" y="10394"/>
                  <a:pt x="13614" y="10495"/>
                  <a:pt x="13589" y="10604"/>
                </a:cubicBezTo>
                <a:cubicBezTo>
                  <a:pt x="13554" y="10755"/>
                  <a:pt x="13572" y="10837"/>
                  <a:pt x="13589" y="10986"/>
                </a:cubicBezTo>
                <a:cubicBezTo>
                  <a:pt x="13599" y="11071"/>
                  <a:pt x="13612" y="11204"/>
                  <a:pt x="13684" y="11271"/>
                </a:cubicBezTo>
                <a:cubicBezTo>
                  <a:pt x="13760" y="11342"/>
                  <a:pt x="13817" y="11343"/>
                  <a:pt x="13906" y="11303"/>
                </a:cubicBezTo>
                <a:cubicBezTo>
                  <a:pt x="14040" y="11243"/>
                  <a:pt x="14059" y="11202"/>
                  <a:pt x="14129" y="11081"/>
                </a:cubicBezTo>
                <a:cubicBezTo>
                  <a:pt x="14218" y="10926"/>
                  <a:pt x="14276" y="10768"/>
                  <a:pt x="14319" y="10604"/>
                </a:cubicBezTo>
                <a:cubicBezTo>
                  <a:pt x="14341" y="10520"/>
                  <a:pt x="14351" y="10466"/>
                  <a:pt x="14351" y="10382"/>
                </a:cubicBezTo>
                <a:cubicBezTo>
                  <a:pt x="14351" y="10371"/>
                  <a:pt x="14351" y="10361"/>
                  <a:pt x="14351" y="10350"/>
                </a:cubicBezTo>
                <a:cubicBezTo>
                  <a:pt x="14366" y="10379"/>
                  <a:pt x="14406" y="10398"/>
                  <a:pt x="14383" y="10478"/>
                </a:cubicBezTo>
                <a:cubicBezTo>
                  <a:pt x="14353" y="10585"/>
                  <a:pt x="14330" y="10714"/>
                  <a:pt x="14319" y="10827"/>
                </a:cubicBezTo>
                <a:cubicBezTo>
                  <a:pt x="14302" y="11008"/>
                  <a:pt x="14293" y="11186"/>
                  <a:pt x="14256" y="11366"/>
                </a:cubicBezTo>
                <a:cubicBezTo>
                  <a:pt x="14221" y="11537"/>
                  <a:pt x="14202" y="11702"/>
                  <a:pt x="14160" y="11874"/>
                </a:cubicBezTo>
                <a:cubicBezTo>
                  <a:pt x="14133" y="11982"/>
                  <a:pt x="14087" y="12144"/>
                  <a:pt x="14002" y="12224"/>
                </a:cubicBezTo>
                <a:cubicBezTo>
                  <a:pt x="13968" y="12256"/>
                  <a:pt x="13792" y="12304"/>
                  <a:pt x="13748" y="12287"/>
                </a:cubicBezTo>
                <a:cubicBezTo>
                  <a:pt x="13697" y="12267"/>
                  <a:pt x="13623" y="12207"/>
                  <a:pt x="13589" y="12160"/>
                </a:cubicBezTo>
                <a:cubicBezTo>
                  <a:pt x="13529" y="12079"/>
                  <a:pt x="13565" y="12025"/>
                  <a:pt x="13589" y="11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nk 5"/>
          <p:cNvSpPr/>
          <p:nvPr/>
        </p:nvSpPr>
        <p:spPr>
          <a:xfrm>
            <a:off x="5326200" y="3440160"/>
            <a:ext cx="377640" cy="1052640"/>
          </a:xfrm>
          <a:custGeom>
            <a:avLst/>
            <a:gdLst/>
            <a:ahLst/>
            <a:rect l="l" t="t" r="r" b="b"/>
            <a:pathLst>
              <a:path w="1048" h="2922">
                <a:moveTo>
                  <a:pt x="14859" y="11335"/>
                </a:moveTo>
                <a:cubicBezTo>
                  <a:pt x="14813" y="11394"/>
                  <a:pt x="14827" y="11446"/>
                  <a:pt x="14827" y="11525"/>
                </a:cubicBezTo>
                <a:cubicBezTo>
                  <a:pt x="14827" y="11601"/>
                  <a:pt x="14808" y="11655"/>
                  <a:pt x="14796" y="11716"/>
                </a:cubicBezTo>
                <a:cubicBezTo>
                  <a:pt x="14796" y="11769"/>
                  <a:pt x="14796" y="11779"/>
                  <a:pt x="14796" y="11811"/>
                </a:cubicBezTo>
              </a:path>
              <a:path w="1048" h="2922">
                <a:moveTo>
                  <a:pt x="15145" y="9557"/>
                </a:moveTo>
                <a:cubicBezTo>
                  <a:pt x="15190" y="9628"/>
                  <a:pt x="15240" y="9698"/>
                  <a:pt x="15272" y="9779"/>
                </a:cubicBezTo>
                <a:cubicBezTo>
                  <a:pt x="15337" y="9943"/>
                  <a:pt x="15423" y="10094"/>
                  <a:pt x="15494" y="10255"/>
                </a:cubicBezTo>
                <a:cubicBezTo>
                  <a:pt x="15580" y="10451"/>
                  <a:pt x="15656" y="10684"/>
                  <a:pt x="15716" y="10890"/>
                </a:cubicBezTo>
                <a:cubicBezTo>
                  <a:pt x="15776" y="11097"/>
                  <a:pt x="15783" y="11315"/>
                  <a:pt x="15812" y="11525"/>
                </a:cubicBezTo>
                <a:cubicBezTo>
                  <a:pt x="15836" y="11696"/>
                  <a:pt x="15834" y="11864"/>
                  <a:pt x="15780" y="12033"/>
                </a:cubicBezTo>
                <a:cubicBezTo>
                  <a:pt x="15747" y="12136"/>
                  <a:pt x="15690" y="12237"/>
                  <a:pt x="15621" y="12319"/>
                </a:cubicBezTo>
                <a:cubicBezTo>
                  <a:pt x="15564" y="12387"/>
                  <a:pt x="15498" y="12427"/>
                  <a:pt x="15430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Ink 6"/>
          <p:cNvSpPr/>
          <p:nvPr/>
        </p:nvSpPr>
        <p:spPr>
          <a:xfrm>
            <a:off x="2514600" y="4365720"/>
            <a:ext cx="2023920" cy="755640"/>
          </a:xfrm>
          <a:custGeom>
            <a:avLst/>
            <a:gdLst/>
            <a:ahLst/>
            <a:rect l="l" t="t" r="r" b="b"/>
            <a:pathLst>
              <a:path w="5621" h="2097">
                <a:moveTo>
                  <a:pt x="7493" y="12573"/>
                </a:moveTo>
                <a:cubicBezTo>
                  <a:pt x="7493" y="12522"/>
                  <a:pt x="7501" y="12455"/>
                  <a:pt x="7525" y="12414"/>
                </a:cubicBezTo>
                <a:cubicBezTo>
                  <a:pt x="7563" y="12349"/>
                  <a:pt x="7577" y="12289"/>
                  <a:pt x="7525" y="12224"/>
                </a:cubicBezTo>
                <a:cubicBezTo>
                  <a:pt x="7459" y="12140"/>
                  <a:pt x="7455" y="12145"/>
                  <a:pt x="7366" y="12160"/>
                </a:cubicBezTo>
                <a:cubicBezTo>
                  <a:pt x="7296" y="12172"/>
                  <a:pt x="7272" y="12225"/>
                  <a:pt x="7239" y="12287"/>
                </a:cubicBezTo>
                <a:cubicBezTo>
                  <a:pt x="7196" y="12368"/>
                  <a:pt x="7156" y="12445"/>
                  <a:pt x="7176" y="12541"/>
                </a:cubicBezTo>
                <a:cubicBezTo>
                  <a:pt x="7200" y="12652"/>
                  <a:pt x="7222" y="12755"/>
                  <a:pt x="7271" y="12859"/>
                </a:cubicBezTo>
                <a:cubicBezTo>
                  <a:pt x="7315" y="12953"/>
                  <a:pt x="7372" y="13042"/>
                  <a:pt x="7398" y="13144"/>
                </a:cubicBezTo>
                <a:cubicBezTo>
                  <a:pt x="7415" y="13213"/>
                  <a:pt x="7438" y="13269"/>
                  <a:pt x="7398" y="13335"/>
                </a:cubicBezTo>
                <a:cubicBezTo>
                  <a:pt x="7376" y="13372"/>
                  <a:pt x="7326" y="13478"/>
                  <a:pt x="7271" y="13462"/>
                </a:cubicBezTo>
                <a:cubicBezTo>
                  <a:pt x="7187" y="13438"/>
                  <a:pt x="7142" y="13397"/>
                  <a:pt x="7080" y="13335"/>
                </a:cubicBezTo>
                <a:cubicBezTo>
                  <a:pt x="7033" y="13288"/>
                  <a:pt x="6996" y="13199"/>
                  <a:pt x="6985" y="13144"/>
                </a:cubicBezTo>
                <a:cubicBezTo>
                  <a:pt x="6968" y="13059"/>
                  <a:pt x="7044" y="12963"/>
                  <a:pt x="7080" y="12890"/>
                </a:cubicBezTo>
              </a:path>
              <a:path w="5621" h="2097">
                <a:moveTo>
                  <a:pt x="7906" y="12192"/>
                </a:moveTo>
                <a:cubicBezTo>
                  <a:pt x="7906" y="12247"/>
                  <a:pt x="7892" y="12302"/>
                  <a:pt x="7874" y="12351"/>
                </a:cubicBezTo>
                <a:cubicBezTo>
                  <a:pt x="7832" y="12470"/>
                  <a:pt x="7814" y="12602"/>
                  <a:pt x="7810" y="12732"/>
                </a:cubicBezTo>
                <a:cubicBezTo>
                  <a:pt x="7805" y="12885"/>
                  <a:pt x="7761" y="13027"/>
                  <a:pt x="7747" y="13176"/>
                </a:cubicBezTo>
                <a:cubicBezTo>
                  <a:pt x="7737" y="13289"/>
                  <a:pt x="7715" y="13381"/>
                  <a:pt x="7715" y="13494"/>
                </a:cubicBezTo>
              </a:path>
              <a:path w="5621" h="2097">
                <a:moveTo>
                  <a:pt x="8255" y="12668"/>
                </a:moveTo>
                <a:cubicBezTo>
                  <a:pt x="8229" y="12590"/>
                  <a:pt x="8210" y="12681"/>
                  <a:pt x="8192" y="12732"/>
                </a:cubicBezTo>
                <a:cubicBezTo>
                  <a:pt x="8146" y="12859"/>
                  <a:pt x="8099" y="12982"/>
                  <a:pt x="8064" y="13113"/>
                </a:cubicBezTo>
                <a:cubicBezTo>
                  <a:pt x="8022" y="13270"/>
                  <a:pt x="8012" y="13430"/>
                  <a:pt x="8128" y="13557"/>
                </a:cubicBezTo>
                <a:cubicBezTo>
                  <a:pt x="8139" y="13568"/>
                  <a:pt x="8149" y="13578"/>
                  <a:pt x="8160" y="13589"/>
                </a:cubicBezTo>
                <a:cubicBezTo>
                  <a:pt x="8285" y="13517"/>
                  <a:pt x="8298" y="13511"/>
                  <a:pt x="8350" y="13367"/>
                </a:cubicBezTo>
                <a:cubicBezTo>
                  <a:pt x="8398" y="13233"/>
                  <a:pt x="8382" y="13095"/>
                  <a:pt x="8382" y="12954"/>
                </a:cubicBezTo>
                <a:cubicBezTo>
                  <a:pt x="8382" y="12825"/>
                  <a:pt x="8354" y="12785"/>
                  <a:pt x="8318" y="12668"/>
                </a:cubicBezTo>
                <a:cubicBezTo>
                  <a:pt x="8307" y="12632"/>
                  <a:pt x="8296" y="12610"/>
                  <a:pt x="8287" y="12573"/>
                </a:cubicBezTo>
              </a:path>
              <a:path w="5621" h="2097">
                <a:moveTo>
                  <a:pt x="8572" y="12954"/>
                </a:moveTo>
                <a:cubicBezTo>
                  <a:pt x="8572" y="13057"/>
                  <a:pt x="8557" y="13144"/>
                  <a:pt x="8541" y="13240"/>
                </a:cubicBezTo>
                <a:cubicBezTo>
                  <a:pt x="8520" y="13369"/>
                  <a:pt x="8522" y="13522"/>
                  <a:pt x="8509" y="13652"/>
                </a:cubicBezTo>
                <a:cubicBezTo>
                  <a:pt x="8503" y="13707"/>
                  <a:pt x="8543" y="14193"/>
                  <a:pt x="8477" y="14192"/>
                </a:cubicBezTo>
                <a:cubicBezTo>
                  <a:pt x="8477" y="14181"/>
                  <a:pt x="8477" y="14171"/>
                  <a:pt x="8477" y="14160"/>
                </a:cubicBezTo>
              </a:path>
              <a:path w="5621" h="2097">
                <a:moveTo>
                  <a:pt x="8572" y="12890"/>
                </a:moveTo>
                <a:cubicBezTo>
                  <a:pt x="8591" y="12814"/>
                  <a:pt x="8622" y="12802"/>
                  <a:pt x="8700" y="12795"/>
                </a:cubicBezTo>
                <a:cubicBezTo>
                  <a:pt x="8756" y="12790"/>
                  <a:pt x="8811" y="12862"/>
                  <a:pt x="8858" y="12890"/>
                </a:cubicBezTo>
                <a:cubicBezTo>
                  <a:pt x="8935" y="12936"/>
                  <a:pt x="8970" y="13004"/>
                  <a:pt x="9017" y="13081"/>
                </a:cubicBezTo>
                <a:cubicBezTo>
                  <a:pt x="9065" y="13159"/>
                  <a:pt x="9066" y="13257"/>
                  <a:pt x="9017" y="13335"/>
                </a:cubicBezTo>
                <a:cubicBezTo>
                  <a:pt x="8975" y="13403"/>
                  <a:pt x="8926" y="13453"/>
                  <a:pt x="8858" y="13494"/>
                </a:cubicBezTo>
                <a:cubicBezTo>
                  <a:pt x="8801" y="13528"/>
                  <a:pt x="8701" y="13553"/>
                  <a:pt x="8636" y="13557"/>
                </a:cubicBezTo>
                <a:cubicBezTo>
                  <a:pt x="8560" y="13562"/>
                  <a:pt x="8536" y="13579"/>
                  <a:pt x="8572" y="13526"/>
                </a:cubicBezTo>
              </a:path>
              <a:path w="5621" h="2097">
                <a:moveTo>
                  <a:pt x="9366" y="13240"/>
                </a:moveTo>
                <a:cubicBezTo>
                  <a:pt x="9411" y="13195"/>
                  <a:pt x="9441" y="13166"/>
                  <a:pt x="9493" y="13144"/>
                </a:cubicBezTo>
                <a:cubicBezTo>
                  <a:pt x="9553" y="13119"/>
                  <a:pt x="9636" y="13080"/>
                  <a:pt x="9684" y="13049"/>
                </a:cubicBezTo>
                <a:cubicBezTo>
                  <a:pt x="9704" y="13036"/>
                  <a:pt x="9769" y="12946"/>
                  <a:pt x="9779" y="12922"/>
                </a:cubicBezTo>
                <a:cubicBezTo>
                  <a:pt x="9779" y="12890"/>
                  <a:pt x="9779" y="12880"/>
                  <a:pt x="9779" y="12859"/>
                </a:cubicBezTo>
                <a:cubicBezTo>
                  <a:pt x="9730" y="12843"/>
                  <a:pt x="9753" y="12827"/>
                  <a:pt x="9684" y="12827"/>
                </a:cubicBezTo>
                <a:cubicBezTo>
                  <a:pt x="9598" y="12827"/>
                  <a:pt x="9518" y="12886"/>
                  <a:pt x="9462" y="12954"/>
                </a:cubicBezTo>
                <a:cubicBezTo>
                  <a:pt x="9372" y="13064"/>
                  <a:pt x="9338" y="13198"/>
                  <a:pt x="9334" y="13335"/>
                </a:cubicBezTo>
                <a:cubicBezTo>
                  <a:pt x="9330" y="13463"/>
                  <a:pt x="9374" y="13622"/>
                  <a:pt x="9462" y="13716"/>
                </a:cubicBezTo>
                <a:cubicBezTo>
                  <a:pt x="9528" y="13787"/>
                  <a:pt x="9671" y="13809"/>
                  <a:pt x="9747" y="13780"/>
                </a:cubicBezTo>
                <a:cubicBezTo>
                  <a:pt x="9811" y="13748"/>
                  <a:pt x="9832" y="13738"/>
                  <a:pt x="9874" y="13716"/>
                </a:cubicBezTo>
              </a:path>
              <a:path w="5621" h="2097">
                <a:moveTo>
                  <a:pt x="10414" y="12859"/>
                </a:moveTo>
                <a:cubicBezTo>
                  <a:pt x="10376" y="12896"/>
                  <a:pt x="10362" y="12907"/>
                  <a:pt x="10350" y="12954"/>
                </a:cubicBezTo>
                <a:cubicBezTo>
                  <a:pt x="10390" y="12954"/>
                  <a:pt x="10435" y="12944"/>
                  <a:pt x="10446" y="12922"/>
                </a:cubicBezTo>
                <a:cubicBezTo>
                  <a:pt x="10446" y="12911"/>
                  <a:pt x="10446" y="12901"/>
                  <a:pt x="10446" y="12890"/>
                </a:cubicBezTo>
                <a:cubicBezTo>
                  <a:pt x="10396" y="12866"/>
                  <a:pt x="10368" y="12869"/>
                  <a:pt x="10350" y="12922"/>
                </a:cubicBezTo>
              </a:path>
              <a:path w="5621" h="2097">
                <a:moveTo>
                  <a:pt x="10414" y="13526"/>
                </a:moveTo>
                <a:cubicBezTo>
                  <a:pt x="10425" y="13526"/>
                  <a:pt x="10435" y="13526"/>
                  <a:pt x="10446" y="13526"/>
                </a:cubicBezTo>
                <a:cubicBezTo>
                  <a:pt x="10422" y="13478"/>
                  <a:pt x="10388" y="13539"/>
                  <a:pt x="10382" y="13589"/>
                </a:cubicBezTo>
                <a:cubicBezTo>
                  <a:pt x="10375" y="13649"/>
                  <a:pt x="10459" y="13627"/>
                  <a:pt x="10478" y="13589"/>
                </a:cubicBezTo>
                <a:cubicBezTo>
                  <a:pt x="10499" y="13548"/>
                  <a:pt x="10494" y="13570"/>
                  <a:pt x="10509" y="13526"/>
                </a:cubicBezTo>
                <a:cubicBezTo>
                  <a:pt x="10459" y="13538"/>
                  <a:pt x="10433" y="13580"/>
                  <a:pt x="10414" y="13589"/>
                </a:cubicBezTo>
                <a:cubicBezTo>
                  <a:pt x="10382" y="13589"/>
                  <a:pt x="10371" y="13589"/>
                  <a:pt x="10414" y="13589"/>
                </a:cubicBezTo>
              </a:path>
              <a:path w="5621" h="2097">
                <a:moveTo>
                  <a:pt x="11144" y="12827"/>
                </a:moveTo>
                <a:cubicBezTo>
                  <a:pt x="11135" y="12895"/>
                  <a:pt x="11115" y="12949"/>
                  <a:pt x="11112" y="13018"/>
                </a:cubicBezTo>
                <a:cubicBezTo>
                  <a:pt x="11107" y="13127"/>
                  <a:pt x="11071" y="13228"/>
                  <a:pt x="11049" y="13335"/>
                </a:cubicBezTo>
                <a:cubicBezTo>
                  <a:pt x="11023" y="13459"/>
                  <a:pt x="10987" y="13600"/>
                  <a:pt x="10954" y="13716"/>
                </a:cubicBezTo>
                <a:cubicBezTo>
                  <a:pt x="10942" y="13759"/>
                  <a:pt x="10927" y="13760"/>
                  <a:pt x="10922" y="13811"/>
                </a:cubicBezTo>
                <a:cubicBezTo>
                  <a:pt x="10929" y="13751"/>
                  <a:pt x="10944" y="13709"/>
                  <a:pt x="10954" y="13652"/>
                </a:cubicBezTo>
                <a:cubicBezTo>
                  <a:pt x="10969" y="13564"/>
                  <a:pt x="11004" y="13412"/>
                  <a:pt x="11049" y="13335"/>
                </a:cubicBezTo>
                <a:cubicBezTo>
                  <a:pt x="11102" y="13244"/>
                  <a:pt x="11188" y="13175"/>
                  <a:pt x="11240" y="13081"/>
                </a:cubicBezTo>
                <a:cubicBezTo>
                  <a:pt x="11270" y="13028"/>
                  <a:pt x="11330" y="12950"/>
                  <a:pt x="11398" y="12954"/>
                </a:cubicBezTo>
                <a:cubicBezTo>
                  <a:pt x="11455" y="12957"/>
                  <a:pt x="11505" y="13030"/>
                  <a:pt x="11525" y="13081"/>
                </a:cubicBezTo>
                <a:cubicBezTo>
                  <a:pt x="11558" y="13164"/>
                  <a:pt x="11520" y="13352"/>
                  <a:pt x="11494" y="13430"/>
                </a:cubicBezTo>
                <a:cubicBezTo>
                  <a:pt x="11464" y="13521"/>
                  <a:pt x="11419" y="13622"/>
                  <a:pt x="11398" y="13716"/>
                </a:cubicBezTo>
                <a:cubicBezTo>
                  <a:pt x="11381" y="13793"/>
                  <a:pt x="11390" y="13780"/>
                  <a:pt x="11366" y="13843"/>
                </a:cubicBezTo>
                <a:cubicBezTo>
                  <a:pt x="11388" y="13793"/>
                  <a:pt x="11397" y="13738"/>
                  <a:pt x="11430" y="13684"/>
                </a:cubicBezTo>
                <a:cubicBezTo>
                  <a:pt x="11497" y="13575"/>
                  <a:pt x="11558" y="13474"/>
                  <a:pt x="11620" y="13367"/>
                </a:cubicBezTo>
                <a:cubicBezTo>
                  <a:pt x="11671" y="13279"/>
                  <a:pt x="11760" y="13193"/>
                  <a:pt x="11843" y="13144"/>
                </a:cubicBezTo>
                <a:cubicBezTo>
                  <a:pt x="11881" y="13122"/>
                  <a:pt x="11900" y="13102"/>
                  <a:pt x="11938" y="13081"/>
                </a:cubicBezTo>
                <a:cubicBezTo>
                  <a:pt x="11997" y="13159"/>
                  <a:pt x="12002" y="13166"/>
                  <a:pt x="12002" y="13272"/>
                </a:cubicBezTo>
                <a:cubicBezTo>
                  <a:pt x="12002" y="13385"/>
                  <a:pt x="12012" y="13540"/>
                  <a:pt x="12033" y="13652"/>
                </a:cubicBezTo>
                <a:cubicBezTo>
                  <a:pt x="12060" y="13799"/>
                  <a:pt x="12088" y="13902"/>
                  <a:pt x="12160" y="14034"/>
                </a:cubicBezTo>
                <a:cubicBezTo>
                  <a:pt x="12213" y="14130"/>
                  <a:pt x="12274" y="14212"/>
                  <a:pt x="12382" y="14224"/>
                </a:cubicBezTo>
                <a:cubicBezTo>
                  <a:pt x="12475" y="14234"/>
                  <a:pt x="12531" y="14176"/>
                  <a:pt x="12605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oint and slop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- 3 = 1/2 (x +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Ink 3"/>
          <p:cNvSpPr/>
          <p:nvPr/>
        </p:nvSpPr>
        <p:spPr>
          <a:xfrm>
            <a:off x="2606760" y="1886040"/>
            <a:ext cx="718920" cy="446040"/>
          </a:xfrm>
          <a:custGeom>
            <a:avLst/>
            <a:gdLst/>
            <a:ahLst/>
            <a:rect l="l" t="t" r="r" b="b"/>
            <a:pathLst>
              <a:path w="2001" h="1239">
                <a:moveTo>
                  <a:pt x="7334" y="5270"/>
                </a:moveTo>
                <a:cubicBezTo>
                  <a:pt x="7303" y="5209"/>
                  <a:pt x="7282" y="5349"/>
                  <a:pt x="7271" y="5398"/>
                </a:cubicBezTo>
                <a:cubicBezTo>
                  <a:pt x="7247" y="5502"/>
                  <a:pt x="7281" y="5620"/>
                  <a:pt x="7302" y="5715"/>
                </a:cubicBezTo>
                <a:cubicBezTo>
                  <a:pt x="7315" y="5772"/>
                  <a:pt x="7302" y="5827"/>
                  <a:pt x="7334" y="5874"/>
                </a:cubicBezTo>
                <a:cubicBezTo>
                  <a:pt x="7371" y="5930"/>
                  <a:pt x="7362" y="5937"/>
                  <a:pt x="7430" y="5937"/>
                </a:cubicBezTo>
                <a:cubicBezTo>
                  <a:pt x="7476" y="5937"/>
                  <a:pt x="7531" y="5882"/>
                  <a:pt x="7556" y="5842"/>
                </a:cubicBezTo>
                <a:cubicBezTo>
                  <a:pt x="7602" y="5770"/>
                  <a:pt x="7617" y="5694"/>
                  <a:pt x="7652" y="5620"/>
                </a:cubicBezTo>
                <a:cubicBezTo>
                  <a:pt x="7681" y="5558"/>
                  <a:pt x="7728" y="5486"/>
                  <a:pt x="7747" y="5429"/>
                </a:cubicBezTo>
                <a:cubicBezTo>
                  <a:pt x="7747" y="5387"/>
                  <a:pt x="7747" y="5366"/>
                  <a:pt x="7747" y="5334"/>
                </a:cubicBezTo>
                <a:cubicBezTo>
                  <a:pt x="7747" y="5612"/>
                  <a:pt x="7752" y="5888"/>
                  <a:pt x="7715" y="6160"/>
                </a:cubicBezTo>
                <a:cubicBezTo>
                  <a:pt x="7705" y="6236"/>
                  <a:pt x="7691" y="6331"/>
                  <a:pt x="7620" y="6382"/>
                </a:cubicBezTo>
                <a:cubicBezTo>
                  <a:pt x="7566" y="6421"/>
                  <a:pt x="7494" y="6461"/>
                  <a:pt x="7430" y="6477"/>
                </a:cubicBezTo>
                <a:cubicBezTo>
                  <a:pt x="7391" y="6487"/>
                  <a:pt x="7294" y="6447"/>
                  <a:pt x="7271" y="6414"/>
                </a:cubicBezTo>
                <a:cubicBezTo>
                  <a:pt x="7235" y="6362"/>
                  <a:pt x="7239" y="6341"/>
                  <a:pt x="7239" y="6286"/>
                </a:cubicBezTo>
              </a:path>
              <a:path w="2001" h="1239">
                <a:moveTo>
                  <a:pt x="8001" y="5747"/>
                </a:moveTo>
                <a:cubicBezTo>
                  <a:pt x="8128" y="5747"/>
                  <a:pt x="8255" y="5747"/>
                  <a:pt x="8382" y="5747"/>
                </a:cubicBezTo>
              </a:path>
              <a:path w="2001" h="1239">
                <a:moveTo>
                  <a:pt x="8668" y="5398"/>
                </a:moveTo>
                <a:cubicBezTo>
                  <a:pt x="8668" y="5482"/>
                  <a:pt x="8644" y="5436"/>
                  <a:pt x="8636" y="5524"/>
                </a:cubicBezTo>
                <a:cubicBezTo>
                  <a:pt x="8629" y="5602"/>
                  <a:pt x="8604" y="5662"/>
                  <a:pt x="8604" y="5747"/>
                </a:cubicBezTo>
                <a:cubicBezTo>
                  <a:pt x="8604" y="5826"/>
                  <a:pt x="8629" y="5872"/>
                  <a:pt x="8636" y="5937"/>
                </a:cubicBezTo>
                <a:cubicBezTo>
                  <a:pt x="8640" y="5970"/>
                  <a:pt x="8681" y="6054"/>
                  <a:pt x="8731" y="6032"/>
                </a:cubicBezTo>
                <a:cubicBezTo>
                  <a:pt x="8794" y="6004"/>
                  <a:pt x="8860" y="5898"/>
                  <a:pt x="8890" y="5842"/>
                </a:cubicBezTo>
                <a:cubicBezTo>
                  <a:pt x="8927" y="5773"/>
                  <a:pt x="8916" y="5684"/>
                  <a:pt x="8954" y="5620"/>
                </a:cubicBezTo>
                <a:cubicBezTo>
                  <a:pt x="8969" y="5595"/>
                  <a:pt x="9019" y="5449"/>
                  <a:pt x="8985" y="5588"/>
                </a:cubicBezTo>
                <a:cubicBezTo>
                  <a:pt x="8960" y="5691"/>
                  <a:pt x="8954" y="5767"/>
                  <a:pt x="8954" y="5874"/>
                </a:cubicBezTo>
                <a:cubicBezTo>
                  <a:pt x="8954" y="6020"/>
                  <a:pt x="8956" y="6150"/>
                  <a:pt x="8922" y="6286"/>
                </a:cubicBezTo>
                <a:cubicBezTo>
                  <a:pt x="8911" y="6329"/>
                  <a:pt x="8873" y="6372"/>
                  <a:pt x="8826" y="6382"/>
                </a:cubicBezTo>
                <a:cubicBezTo>
                  <a:pt x="8733" y="6402"/>
                  <a:pt x="8743" y="6407"/>
                  <a:pt x="8668" y="6382"/>
                </a:cubicBezTo>
                <a:cubicBezTo>
                  <a:pt x="8617" y="6365"/>
                  <a:pt x="8636" y="6358"/>
                  <a:pt x="8636" y="6286"/>
                </a:cubicBezTo>
              </a:path>
              <a:path w="2001" h="1239">
                <a:moveTo>
                  <a:pt x="9208" y="5842"/>
                </a:moveTo>
                <a:cubicBezTo>
                  <a:pt x="9264" y="5919"/>
                  <a:pt x="9223" y="5912"/>
                  <a:pt x="9208" y="6001"/>
                </a:cubicBezTo>
                <a:cubicBezTo>
                  <a:pt x="9198" y="6060"/>
                  <a:pt x="9208" y="6131"/>
                  <a:pt x="9208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nk 4"/>
          <p:cNvSpPr/>
          <p:nvPr/>
        </p:nvSpPr>
        <p:spPr>
          <a:xfrm>
            <a:off x="3521160" y="2000160"/>
            <a:ext cx="182520" cy="127080"/>
          </a:xfrm>
          <a:custGeom>
            <a:avLst/>
            <a:gdLst/>
            <a:ahLst/>
            <a:rect l="l" t="t" r="r" b="b"/>
            <a:pathLst>
              <a:path w="509" h="351">
                <a:moveTo>
                  <a:pt x="9842" y="5556"/>
                </a:moveTo>
                <a:cubicBezTo>
                  <a:pt x="9853" y="5556"/>
                  <a:pt x="9863" y="5556"/>
                  <a:pt x="9874" y="5556"/>
                </a:cubicBezTo>
                <a:cubicBezTo>
                  <a:pt x="9890" y="5604"/>
                  <a:pt x="9913" y="5588"/>
                  <a:pt x="9970" y="5588"/>
                </a:cubicBezTo>
                <a:cubicBezTo>
                  <a:pt x="10035" y="5588"/>
                  <a:pt x="10089" y="5556"/>
                  <a:pt x="10160" y="5556"/>
                </a:cubicBezTo>
                <a:cubicBezTo>
                  <a:pt x="10192" y="5556"/>
                  <a:pt x="10223" y="5556"/>
                  <a:pt x="10255" y="5556"/>
                </a:cubicBezTo>
              </a:path>
              <a:path w="509" h="351">
                <a:moveTo>
                  <a:pt x="9842" y="5842"/>
                </a:moveTo>
                <a:cubicBezTo>
                  <a:pt x="9806" y="5842"/>
                  <a:pt x="9793" y="5845"/>
                  <a:pt x="9779" y="5874"/>
                </a:cubicBezTo>
                <a:cubicBezTo>
                  <a:pt x="9886" y="5874"/>
                  <a:pt x="9965" y="5883"/>
                  <a:pt x="10065" y="5906"/>
                </a:cubicBezTo>
                <a:cubicBezTo>
                  <a:pt x="10132" y="5922"/>
                  <a:pt x="10217" y="5906"/>
                  <a:pt x="1028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Ink 5"/>
          <p:cNvSpPr/>
          <p:nvPr/>
        </p:nvSpPr>
        <p:spPr>
          <a:xfrm>
            <a:off x="3978360" y="1954080"/>
            <a:ext cx="296640" cy="228600"/>
          </a:xfrm>
          <a:custGeom>
            <a:avLst/>
            <a:gdLst/>
            <a:ahLst/>
            <a:rect l="l" t="t" r="r" b="b"/>
            <a:pathLst>
              <a:path w="826" h="636">
                <a:moveTo>
                  <a:pt x="11081" y="5461"/>
                </a:moveTo>
                <a:cubicBezTo>
                  <a:pt x="11081" y="5376"/>
                  <a:pt x="11081" y="5509"/>
                  <a:pt x="11081" y="5524"/>
                </a:cubicBezTo>
                <a:cubicBezTo>
                  <a:pt x="11081" y="5660"/>
                  <a:pt x="11070" y="5779"/>
                  <a:pt x="11049" y="5906"/>
                </a:cubicBezTo>
                <a:cubicBezTo>
                  <a:pt x="11042" y="5950"/>
                  <a:pt x="11049" y="6019"/>
                  <a:pt x="11049" y="6064"/>
                </a:cubicBezTo>
                <a:cubicBezTo>
                  <a:pt x="11049" y="5972"/>
                  <a:pt x="11076" y="5924"/>
                  <a:pt x="11081" y="5842"/>
                </a:cubicBezTo>
                <a:cubicBezTo>
                  <a:pt x="11086" y="5755"/>
                  <a:pt x="11108" y="5668"/>
                  <a:pt x="11144" y="5588"/>
                </a:cubicBezTo>
                <a:cubicBezTo>
                  <a:pt x="11171" y="5527"/>
                  <a:pt x="11169" y="5469"/>
                  <a:pt x="11240" y="5461"/>
                </a:cubicBezTo>
                <a:cubicBezTo>
                  <a:pt x="11299" y="5454"/>
                  <a:pt x="11317" y="5452"/>
                  <a:pt x="11335" y="5493"/>
                </a:cubicBezTo>
                <a:cubicBezTo>
                  <a:pt x="11371" y="5572"/>
                  <a:pt x="11393" y="5661"/>
                  <a:pt x="11398" y="5747"/>
                </a:cubicBezTo>
                <a:cubicBezTo>
                  <a:pt x="11401" y="5792"/>
                  <a:pt x="11398" y="6094"/>
                  <a:pt x="11398" y="5937"/>
                </a:cubicBezTo>
                <a:cubicBezTo>
                  <a:pt x="11398" y="5863"/>
                  <a:pt x="11407" y="5783"/>
                  <a:pt x="11430" y="5715"/>
                </a:cubicBezTo>
                <a:cubicBezTo>
                  <a:pt x="11459" y="5629"/>
                  <a:pt x="11479" y="5596"/>
                  <a:pt x="11525" y="5524"/>
                </a:cubicBezTo>
                <a:cubicBezTo>
                  <a:pt x="11574" y="5447"/>
                  <a:pt x="11568" y="5461"/>
                  <a:pt x="11652" y="5461"/>
                </a:cubicBezTo>
                <a:cubicBezTo>
                  <a:pt x="11698" y="5461"/>
                  <a:pt x="11763" y="5467"/>
                  <a:pt x="11779" y="5524"/>
                </a:cubicBezTo>
                <a:cubicBezTo>
                  <a:pt x="11802" y="5606"/>
                  <a:pt x="11811" y="5689"/>
                  <a:pt x="11811" y="5778"/>
                </a:cubicBezTo>
                <a:cubicBezTo>
                  <a:pt x="11811" y="5872"/>
                  <a:pt x="11803" y="5925"/>
                  <a:pt x="11843" y="6001"/>
                </a:cubicBezTo>
                <a:cubicBezTo>
                  <a:pt x="11853" y="6022"/>
                  <a:pt x="11864" y="6043"/>
                  <a:pt x="11874" y="6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Ink 6"/>
          <p:cNvSpPr/>
          <p:nvPr/>
        </p:nvSpPr>
        <p:spPr>
          <a:xfrm>
            <a:off x="4446720" y="1817640"/>
            <a:ext cx="903240" cy="446040"/>
          </a:xfrm>
          <a:custGeom>
            <a:avLst/>
            <a:gdLst/>
            <a:ahLst/>
            <a:rect l="l" t="t" r="r" b="b"/>
            <a:pathLst>
              <a:path w="2509" h="1239">
                <a:moveTo>
                  <a:pt x="12827" y="5048"/>
                </a:moveTo>
                <a:cubicBezTo>
                  <a:pt x="12769" y="5106"/>
                  <a:pt x="12719" y="5149"/>
                  <a:pt x="12668" y="5207"/>
                </a:cubicBezTo>
                <a:cubicBezTo>
                  <a:pt x="12584" y="5302"/>
                  <a:pt x="12496" y="5404"/>
                  <a:pt x="12446" y="5524"/>
                </a:cubicBezTo>
                <a:cubicBezTo>
                  <a:pt x="12390" y="5657"/>
                  <a:pt x="12356" y="5794"/>
                  <a:pt x="12351" y="5937"/>
                </a:cubicBezTo>
                <a:cubicBezTo>
                  <a:pt x="12347" y="6046"/>
                  <a:pt x="12349" y="6130"/>
                  <a:pt x="12414" y="6223"/>
                </a:cubicBezTo>
                <a:cubicBezTo>
                  <a:pt x="12444" y="6266"/>
                  <a:pt x="12524" y="6268"/>
                  <a:pt x="12573" y="6286"/>
                </a:cubicBezTo>
              </a:path>
              <a:path w="2509" h="1239">
                <a:moveTo>
                  <a:pt x="13018" y="5429"/>
                </a:moveTo>
                <a:cubicBezTo>
                  <a:pt x="13007" y="5429"/>
                  <a:pt x="12997" y="5429"/>
                  <a:pt x="12986" y="5429"/>
                </a:cubicBezTo>
                <a:cubicBezTo>
                  <a:pt x="13002" y="5478"/>
                  <a:pt x="13030" y="5476"/>
                  <a:pt x="13049" y="5556"/>
                </a:cubicBezTo>
                <a:cubicBezTo>
                  <a:pt x="13072" y="5650"/>
                  <a:pt x="13134" y="5721"/>
                  <a:pt x="13176" y="5810"/>
                </a:cubicBezTo>
                <a:cubicBezTo>
                  <a:pt x="13214" y="5889"/>
                  <a:pt x="13272" y="5939"/>
                  <a:pt x="13335" y="6001"/>
                </a:cubicBezTo>
                <a:cubicBezTo>
                  <a:pt x="13372" y="6038"/>
                  <a:pt x="13384" y="6052"/>
                  <a:pt x="13430" y="6064"/>
                </a:cubicBezTo>
              </a:path>
              <a:path w="2509" h="1239">
                <a:moveTo>
                  <a:pt x="13462" y="5461"/>
                </a:moveTo>
                <a:cubicBezTo>
                  <a:pt x="13414" y="5477"/>
                  <a:pt x="13396" y="5545"/>
                  <a:pt x="13335" y="5588"/>
                </a:cubicBezTo>
                <a:cubicBezTo>
                  <a:pt x="13258" y="5643"/>
                  <a:pt x="13172" y="5728"/>
                  <a:pt x="13113" y="5810"/>
                </a:cubicBezTo>
                <a:cubicBezTo>
                  <a:pt x="13060" y="5884"/>
                  <a:pt x="13015" y="5965"/>
                  <a:pt x="12954" y="6032"/>
                </a:cubicBezTo>
                <a:cubicBezTo>
                  <a:pt x="12943" y="6043"/>
                  <a:pt x="12933" y="6053"/>
                  <a:pt x="12922" y="6064"/>
                </a:cubicBezTo>
              </a:path>
              <a:path w="2509" h="1239">
                <a:moveTo>
                  <a:pt x="13652" y="5778"/>
                </a:moveTo>
                <a:cubicBezTo>
                  <a:pt x="13716" y="5763"/>
                  <a:pt x="13735" y="5747"/>
                  <a:pt x="13811" y="5747"/>
                </a:cubicBezTo>
                <a:cubicBezTo>
                  <a:pt x="13853" y="5747"/>
                  <a:pt x="13896" y="5747"/>
                  <a:pt x="13938" y="5747"/>
                </a:cubicBezTo>
              </a:path>
              <a:path w="2509" h="1239">
                <a:moveTo>
                  <a:pt x="14288" y="5429"/>
                </a:moveTo>
                <a:cubicBezTo>
                  <a:pt x="14344" y="5501"/>
                  <a:pt x="14357" y="5544"/>
                  <a:pt x="14383" y="5620"/>
                </a:cubicBezTo>
                <a:cubicBezTo>
                  <a:pt x="14414" y="5708"/>
                  <a:pt x="14452" y="5831"/>
                  <a:pt x="14510" y="5906"/>
                </a:cubicBezTo>
                <a:cubicBezTo>
                  <a:pt x="14548" y="5955"/>
                  <a:pt x="14626" y="6043"/>
                  <a:pt x="14668" y="6064"/>
                </a:cubicBezTo>
              </a:path>
              <a:path w="2509" h="1239">
                <a:moveTo>
                  <a:pt x="14700" y="5461"/>
                </a:moveTo>
                <a:cubicBezTo>
                  <a:pt x="14684" y="5523"/>
                  <a:pt x="14637" y="5589"/>
                  <a:pt x="14605" y="5652"/>
                </a:cubicBezTo>
                <a:cubicBezTo>
                  <a:pt x="14557" y="5748"/>
                  <a:pt x="14504" y="5820"/>
                  <a:pt x="14446" y="5906"/>
                </a:cubicBezTo>
                <a:cubicBezTo>
                  <a:pt x="14398" y="5977"/>
                  <a:pt x="14358" y="6051"/>
                  <a:pt x="14319" y="6128"/>
                </a:cubicBezTo>
              </a:path>
              <a:path w="2509" h="1239">
                <a:moveTo>
                  <a:pt x="14859" y="5842"/>
                </a:moveTo>
                <a:cubicBezTo>
                  <a:pt x="14859" y="5916"/>
                  <a:pt x="14820" y="6088"/>
                  <a:pt x="14827" y="6128"/>
                </a:cubicBezTo>
                <a:cubicBezTo>
                  <a:pt x="14856" y="6157"/>
                  <a:pt x="14867" y="6172"/>
                  <a:pt x="14859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nk 7"/>
          <p:cNvSpPr/>
          <p:nvPr/>
        </p:nvSpPr>
        <p:spPr>
          <a:xfrm>
            <a:off x="5486400" y="1805040"/>
            <a:ext cx="103320" cy="412560"/>
          </a:xfrm>
          <a:custGeom>
            <a:avLst/>
            <a:gdLst/>
            <a:ahLst/>
            <a:rect l="l" t="t" r="r" b="b"/>
            <a:pathLst>
              <a:path w="287" h="1145">
                <a:moveTo>
                  <a:pt x="15240" y="5016"/>
                </a:moveTo>
                <a:cubicBezTo>
                  <a:pt x="15251" y="5059"/>
                  <a:pt x="15285" y="5136"/>
                  <a:pt x="15304" y="5175"/>
                </a:cubicBezTo>
                <a:cubicBezTo>
                  <a:pt x="15343" y="5254"/>
                  <a:pt x="15372" y="5316"/>
                  <a:pt x="15399" y="5398"/>
                </a:cubicBezTo>
                <a:cubicBezTo>
                  <a:pt x="15429" y="5489"/>
                  <a:pt x="15478" y="5553"/>
                  <a:pt x="15494" y="5652"/>
                </a:cubicBezTo>
                <a:cubicBezTo>
                  <a:pt x="15513" y="5769"/>
                  <a:pt x="15512" y="5828"/>
                  <a:pt x="15494" y="5937"/>
                </a:cubicBezTo>
                <a:cubicBezTo>
                  <a:pt x="15478" y="6032"/>
                  <a:pt x="15446" y="6076"/>
                  <a:pt x="15399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k 8"/>
          <p:cNvSpPr/>
          <p:nvPr/>
        </p:nvSpPr>
        <p:spPr>
          <a:xfrm>
            <a:off x="2079720" y="2879640"/>
            <a:ext cx="3852720" cy="1189080"/>
          </a:xfrm>
          <a:custGeom>
            <a:avLst/>
            <a:gdLst/>
            <a:ahLst/>
            <a:rect l="l" t="t" r="r" b="b"/>
            <a:pathLst>
              <a:path w="10701" h="3303">
                <a:moveTo>
                  <a:pt x="6572" y="8001"/>
                </a:moveTo>
                <a:cubicBezTo>
                  <a:pt x="6547" y="8042"/>
                  <a:pt x="6528" y="8094"/>
                  <a:pt x="6477" y="8128"/>
                </a:cubicBezTo>
                <a:cubicBezTo>
                  <a:pt x="6383" y="8192"/>
                  <a:pt x="6333" y="8263"/>
                  <a:pt x="6255" y="8350"/>
                </a:cubicBezTo>
                <a:cubicBezTo>
                  <a:pt x="6160" y="8456"/>
                  <a:pt x="6072" y="8575"/>
                  <a:pt x="6001" y="8700"/>
                </a:cubicBezTo>
                <a:cubicBezTo>
                  <a:pt x="5909" y="8863"/>
                  <a:pt x="5862" y="8997"/>
                  <a:pt x="5810" y="9176"/>
                </a:cubicBezTo>
                <a:cubicBezTo>
                  <a:pt x="5765" y="9331"/>
                  <a:pt x="5796" y="9435"/>
                  <a:pt x="5810" y="9588"/>
                </a:cubicBezTo>
                <a:cubicBezTo>
                  <a:pt x="5825" y="9747"/>
                  <a:pt x="5862" y="9796"/>
                  <a:pt x="5937" y="9938"/>
                </a:cubicBezTo>
                <a:cubicBezTo>
                  <a:pt x="5987" y="10033"/>
                  <a:pt x="6020" y="10059"/>
                  <a:pt x="6096" y="10128"/>
                </a:cubicBezTo>
                <a:cubicBezTo>
                  <a:pt x="6128" y="10157"/>
                  <a:pt x="6142" y="10174"/>
                  <a:pt x="6160" y="10192"/>
                </a:cubicBezTo>
              </a:path>
              <a:path w="10701" h="3303">
                <a:moveTo>
                  <a:pt x="6794" y="8795"/>
                </a:moveTo>
                <a:cubicBezTo>
                  <a:pt x="6794" y="8842"/>
                  <a:pt x="6807" y="8917"/>
                  <a:pt x="6826" y="8954"/>
                </a:cubicBezTo>
                <a:cubicBezTo>
                  <a:pt x="6875" y="9051"/>
                  <a:pt x="6911" y="9100"/>
                  <a:pt x="6953" y="9208"/>
                </a:cubicBezTo>
                <a:cubicBezTo>
                  <a:pt x="6996" y="9318"/>
                  <a:pt x="7046" y="9462"/>
                  <a:pt x="7112" y="9557"/>
                </a:cubicBezTo>
                <a:cubicBezTo>
                  <a:pt x="7177" y="9651"/>
                  <a:pt x="7231" y="9750"/>
                  <a:pt x="7302" y="9842"/>
                </a:cubicBezTo>
                <a:cubicBezTo>
                  <a:pt x="7340" y="9891"/>
                  <a:pt x="7328" y="9912"/>
                  <a:pt x="7366" y="9938"/>
                </a:cubicBezTo>
              </a:path>
              <a:path w="10701" h="3303">
                <a:moveTo>
                  <a:pt x="7334" y="8954"/>
                </a:moveTo>
                <a:cubicBezTo>
                  <a:pt x="7273" y="9029"/>
                  <a:pt x="7253" y="9094"/>
                  <a:pt x="7207" y="9176"/>
                </a:cubicBezTo>
                <a:cubicBezTo>
                  <a:pt x="7136" y="9302"/>
                  <a:pt x="7045" y="9445"/>
                  <a:pt x="6953" y="9557"/>
                </a:cubicBezTo>
                <a:cubicBezTo>
                  <a:pt x="6872" y="9656"/>
                  <a:pt x="6825" y="9748"/>
                  <a:pt x="6731" y="9842"/>
                </a:cubicBezTo>
                <a:cubicBezTo>
                  <a:pt x="6689" y="9884"/>
                  <a:pt x="6675" y="9925"/>
                  <a:pt x="6636" y="9938"/>
                </a:cubicBezTo>
              </a:path>
              <a:path w="10701" h="3303">
                <a:moveTo>
                  <a:pt x="7588" y="9620"/>
                </a:moveTo>
                <a:cubicBezTo>
                  <a:pt x="7588" y="9694"/>
                  <a:pt x="7568" y="9752"/>
                  <a:pt x="7556" y="9811"/>
                </a:cubicBezTo>
                <a:cubicBezTo>
                  <a:pt x="7543" y="9878"/>
                  <a:pt x="7529" y="9968"/>
                  <a:pt x="7525" y="10033"/>
                </a:cubicBezTo>
                <a:cubicBezTo>
                  <a:pt x="7525" y="10096"/>
                  <a:pt x="7525" y="10118"/>
                  <a:pt x="7525" y="10160"/>
                </a:cubicBezTo>
              </a:path>
              <a:path w="10701" h="3303">
                <a:moveTo>
                  <a:pt x="8192" y="9684"/>
                </a:moveTo>
                <a:cubicBezTo>
                  <a:pt x="8192" y="9768"/>
                  <a:pt x="8170" y="9830"/>
                  <a:pt x="8160" y="9906"/>
                </a:cubicBezTo>
                <a:cubicBezTo>
                  <a:pt x="8145" y="10024"/>
                  <a:pt x="8109" y="10137"/>
                  <a:pt x="8096" y="10255"/>
                </a:cubicBezTo>
                <a:cubicBezTo>
                  <a:pt x="8085" y="10354"/>
                  <a:pt x="8089" y="10476"/>
                  <a:pt x="8064" y="10573"/>
                </a:cubicBezTo>
                <a:cubicBezTo>
                  <a:pt x="8047" y="10637"/>
                  <a:pt x="8033" y="10638"/>
                  <a:pt x="8033" y="10700"/>
                </a:cubicBezTo>
              </a:path>
              <a:path w="10701" h="3303">
                <a:moveTo>
                  <a:pt x="8795" y="8890"/>
                </a:moveTo>
                <a:cubicBezTo>
                  <a:pt x="8777" y="8954"/>
                  <a:pt x="8776" y="9014"/>
                  <a:pt x="8763" y="9080"/>
                </a:cubicBezTo>
                <a:cubicBezTo>
                  <a:pt x="8727" y="9264"/>
                  <a:pt x="8716" y="9441"/>
                  <a:pt x="8731" y="9620"/>
                </a:cubicBezTo>
                <a:cubicBezTo>
                  <a:pt x="8743" y="9760"/>
                  <a:pt x="8720" y="9785"/>
                  <a:pt x="8826" y="9874"/>
                </a:cubicBezTo>
                <a:cubicBezTo>
                  <a:pt x="8892" y="9929"/>
                  <a:pt x="8939" y="9958"/>
                  <a:pt x="9017" y="9874"/>
                </a:cubicBezTo>
                <a:cubicBezTo>
                  <a:pt x="9101" y="9784"/>
                  <a:pt x="9137" y="9673"/>
                  <a:pt x="9176" y="9557"/>
                </a:cubicBezTo>
                <a:cubicBezTo>
                  <a:pt x="9222" y="9421"/>
                  <a:pt x="9265" y="9286"/>
                  <a:pt x="9271" y="9144"/>
                </a:cubicBezTo>
                <a:cubicBezTo>
                  <a:pt x="9271" y="9080"/>
                  <a:pt x="9271" y="9059"/>
                  <a:pt x="9271" y="9017"/>
                </a:cubicBezTo>
                <a:cubicBezTo>
                  <a:pt x="9204" y="9016"/>
                  <a:pt x="9266" y="9032"/>
                  <a:pt x="9271" y="9144"/>
                </a:cubicBezTo>
                <a:cubicBezTo>
                  <a:pt x="9289" y="9546"/>
                  <a:pt x="9272" y="9954"/>
                  <a:pt x="9239" y="10350"/>
                </a:cubicBezTo>
                <a:cubicBezTo>
                  <a:pt x="9226" y="10506"/>
                  <a:pt x="9207" y="10601"/>
                  <a:pt x="9112" y="10732"/>
                </a:cubicBezTo>
                <a:cubicBezTo>
                  <a:pt x="9057" y="10808"/>
                  <a:pt x="9001" y="10811"/>
                  <a:pt x="8922" y="10763"/>
                </a:cubicBezTo>
                <a:cubicBezTo>
                  <a:pt x="8821" y="10702"/>
                  <a:pt x="8828" y="10673"/>
                  <a:pt x="8795" y="10573"/>
                </a:cubicBezTo>
                <a:cubicBezTo>
                  <a:pt x="8764" y="10512"/>
                  <a:pt x="8754" y="10493"/>
                  <a:pt x="8763" y="10446"/>
                </a:cubicBezTo>
              </a:path>
              <a:path w="10701" h="3303">
                <a:moveTo>
                  <a:pt x="9557" y="9906"/>
                </a:moveTo>
                <a:cubicBezTo>
                  <a:pt x="9557" y="10032"/>
                  <a:pt x="9552" y="10137"/>
                  <a:pt x="9525" y="10255"/>
                </a:cubicBezTo>
                <a:cubicBezTo>
                  <a:pt x="9512" y="10312"/>
                  <a:pt x="9525" y="10387"/>
                  <a:pt x="9525" y="10446"/>
                </a:cubicBezTo>
              </a:path>
              <a:path w="10701" h="3303">
                <a:moveTo>
                  <a:pt x="9906" y="8223"/>
                </a:moveTo>
                <a:cubicBezTo>
                  <a:pt x="9939" y="8313"/>
                  <a:pt x="9992" y="8388"/>
                  <a:pt x="10033" y="8477"/>
                </a:cubicBezTo>
                <a:cubicBezTo>
                  <a:pt x="10135" y="8697"/>
                  <a:pt x="10211" y="8916"/>
                  <a:pt x="10287" y="9144"/>
                </a:cubicBezTo>
                <a:cubicBezTo>
                  <a:pt x="10362" y="9371"/>
                  <a:pt x="10377" y="9601"/>
                  <a:pt x="10382" y="9842"/>
                </a:cubicBezTo>
                <a:cubicBezTo>
                  <a:pt x="10386" y="10019"/>
                  <a:pt x="10404" y="10278"/>
                  <a:pt x="10350" y="10446"/>
                </a:cubicBezTo>
                <a:cubicBezTo>
                  <a:pt x="10312" y="10565"/>
                  <a:pt x="10225" y="10693"/>
                  <a:pt x="10160" y="10795"/>
                </a:cubicBezTo>
                <a:cubicBezTo>
                  <a:pt x="10112" y="10870"/>
                  <a:pt x="10071" y="10887"/>
                  <a:pt x="10001" y="10922"/>
                </a:cubicBezTo>
              </a:path>
              <a:path w="10701" h="3303">
                <a:moveTo>
                  <a:pt x="10763" y="9462"/>
                </a:moveTo>
                <a:cubicBezTo>
                  <a:pt x="10868" y="9462"/>
                  <a:pt x="10811" y="9451"/>
                  <a:pt x="10890" y="9398"/>
                </a:cubicBezTo>
                <a:cubicBezTo>
                  <a:pt x="10937" y="9367"/>
                  <a:pt x="11085" y="9398"/>
                  <a:pt x="11144" y="9398"/>
                </a:cubicBezTo>
              </a:path>
              <a:path w="10701" h="3303">
                <a:moveTo>
                  <a:pt x="10795" y="9779"/>
                </a:moveTo>
                <a:cubicBezTo>
                  <a:pt x="10943" y="9779"/>
                  <a:pt x="11092" y="9779"/>
                  <a:pt x="11240" y="9779"/>
                </a:cubicBezTo>
              </a:path>
              <a:path w="10701" h="3303">
                <a:moveTo>
                  <a:pt x="12414" y="8382"/>
                </a:moveTo>
                <a:cubicBezTo>
                  <a:pt x="12378" y="8433"/>
                  <a:pt x="12334" y="8488"/>
                  <a:pt x="12287" y="8541"/>
                </a:cubicBezTo>
                <a:cubicBezTo>
                  <a:pt x="12186" y="8656"/>
                  <a:pt x="12090" y="8726"/>
                  <a:pt x="12002" y="8858"/>
                </a:cubicBezTo>
                <a:cubicBezTo>
                  <a:pt x="11910" y="8996"/>
                  <a:pt x="11840" y="9149"/>
                  <a:pt x="11779" y="9303"/>
                </a:cubicBezTo>
                <a:cubicBezTo>
                  <a:pt x="11720" y="9450"/>
                  <a:pt x="11670" y="9653"/>
                  <a:pt x="11652" y="9811"/>
                </a:cubicBezTo>
                <a:cubicBezTo>
                  <a:pt x="11634" y="9969"/>
                  <a:pt x="11668" y="10107"/>
                  <a:pt x="11716" y="10255"/>
                </a:cubicBezTo>
                <a:cubicBezTo>
                  <a:pt x="11757" y="10382"/>
                  <a:pt x="11803" y="10420"/>
                  <a:pt x="11874" y="10509"/>
                </a:cubicBezTo>
                <a:cubicBezTo>
                  <a:pt x="11908" y="10552"/>
                  <a:pt x="11969" y="10624"/>
                  <a:pt x="12033" y="10636"/>
                </a:cubicBezTo>
                <a:cubicBezTo>
                  <a:pt x="12045" y="10638"/>
                  <a:pt x="12090" y="10550"/>
                  <a:pt x="12097" y="10541"/>
                </a:cubicBezTo>
              </a:path>
              <a:path w="10701" h="3303">
                <a:moveTo>
                  <a:pt x="12287" y="9366"/>
                </a:moveTo>
                <a:cubicBezTo>
                  <a:pt x="12435" y="9366"/>
                  <a:pt x="12584" y="9366"/>
                  <a:pt x="12732" y="9366"/>
                </a:cubicBezTo>
              </a:path>
              <a:path w="10701" h="3303">
                <a:moveTo>
                  <a:pt x="13049" y="9049"/>
                </a:moveTo>
                <a:cubicBezTo>
                  <a:pt x="13078" y="9097"/>
                  <a:pt x="13100" y="9174"/>
                  <a:pt x="13081" y="9239"/>
                </a:cubicBezTo>
                <a:cubicBezTo>
                  <a:pt x="13056" y="9322"/>
                  <a:pt x="13035" y="9405"/>
                  <a:pt x="13018" y="9493"/>
                </a:cubicBezTo>
                <a:cubicBezTo>
                  <a:pt x="13007" y="9551"/>
                  <a:pt x="13017" y="9605"/>
                  <a:pt x="12986" y="9652"/>
                </a:cubicBezTo>
                <a:cubicBezTo>
                  <a:pt x="12957" y="9681"/>
                  <a:pt x="12946" y="9696"/>
                  <a:pt x="12954" y="9652"/>
                </a:cubicBezTo>
                <a:cubicBezTo>
                  <a:pt x="13013" y="9652"/>
                  <a:pt x="13029" y="9626"/>
                  <a:pt x="13081" y="9620"/>
                </a:cubicBezTo>
                <a:cubicBezTo>
                  <a:pt x="13186" y="9608"/>
                  <a:pt x="13271" y="9636"/>
                  <a:pt x="13367" y="9652"/>
                </a:cubicBezTo>
                <a:cubicBezTo>
                  <a:pt x="13450" y="9666"/>
                  <a:pt x="13580" y="9668"/>
                  <a:pt x="13652" y="9620"/>
                </a:cubicBezTo>
                <a:cubicBezTo>
                  <a:pt x="13700" y="9588"/>
                  <a:pt x="13720" y="9541"/>
                  <a:pt x="13748" y="9493"/>
                </a:cubicBezTo>
              </a:path>
              <a:path w="10701" h="3303">
                <a:moveTo>
                  <a:pt x="13684" y="8890"/>
                </a:moveTo>
                <a:cubicBezTo>
                  <a:pt x="13684" y="8976"/>
                  <a:pt x="13668" y="9060"/>
                  <a:pt x="13652" y="9144"/>
                </a:cubicBezTo>
                <a:cubicBezTo>
                  <a:pt x="13620" y="9314"/>
                  <a:pt x="13544" y="9479"/>
                  <a:pt x="13526" y="9652"/>
                </a:cubicBezTo>
                <a:cubicBezTo>
                  <a:pt x="13506" y="9844"/>
                  <a:pt x="13497" y="10033"/>
                  <a:pt x="13462" y="10224"/>
                </a:cubicBezTo>
                <a:cubicBezTo>
                  <a:pt x="13432" y="10371"/>
                  <a:pt x="13422" y="10412"/>
                  <a:pt x="13430" y="10509"/>
                </a:cubicBezTo>
              </a:path>
              <a:path w="10701" h="3303">
                <a:moveTo>
                  <a:pt x="14256" y="10160"/>
                </a:moveTo>
                <a:cubicBezTo>
                  <a:pt x="14202" y="10160"/>
                  <a:pt x="14270" y="10171"/>
                  <a:pt x="14288" y="10224"/>
                </a:cubicBezTo>
                <a:cubicBezTo>
                  <a:pt x="14313" y="10299"/>
                  <a:pt x="14319" y="10364"/>
                  <a:pt x="14319" y="10446"/>
                </a:cubicBezTo>
                <a:cubicBezTo>
                  <a:pt x="14319" y="10561"/>
                  <a:pt x="14324" y="10656"/>
                  <a:pt x="14288" y="10763"/>
                </a:cubicBezTo>
                <a:cubicBezTo>
                  <a:pt x="14256" y="10860"/>
                  <a:pt x="14258" y="10965"/>
                  <a:pt x="14192" y="11049"/>
                </a:cubicBezTo>
                <a:cubicBezTo>
                  <a:pt x="14136" y="11120"/>
                  <a:pt x="14094" y="11204"/>
                  <a:pt x="14034" y="11271"/>
                </a:cubicBezTo>
                <a:cubicBezTo>
                  <a:pt x="14023" y="11282"/>
                  <a:pt x="14013" y="11292"/>
                  <a:pt x="14002" y="11303"/>
                </a:cubicBezTo>
              </a:path>
              <a:path w="10701" h="3303">
                <a:moveTo>
                  <a:pt x="14827" y="8763"/>
                </a:moveTo>
                <a:cubicBezTo>
                  <a:pt x="14869" y="8763"/>
                  <a:pt x="14849" y="8763"/>
                  <a:pt x="14891" y="8763"/>
                </a:cubicBezTo>
                <a:cubicBezTo>
                  <a:pt x="14954" y="8763"/>
                  <a:pt x="15002" y="8741"/>
                  <a:pt x="15050" y="8731"/>
                </a:cubicBezTo>
                <a:cubicBezTo>
                  <a:pt x="15117" y="8717"/>
                  <a:pt x="15175" y="8724"/>
                  <a:pt x="15240" y="8700"/>
                </a:cubicBezTo>
                <a:cubicBezTo>
                  <a:pt x="15322" y="8670"/>
                  <a:pt x="15374" y="8668"/>
                  <a:pt x="15462" y="8668"/>
                </a:cubicBezTo>
                <a:cubicBezTo>
                  <a:pt x="15518" y="8668"/>
                  <a:pt x="15543" y="8696"/>
                  <a:pt x="15558" y="8700"/>
                </a:cubicBezTo>
                <a:cubicBezTo>
                  <a:pt x="15568" y="8700"/>
                  <a:pt x="15579" y="8700"/>
                  <a:pt x="15589" y="8700"/>
                </a:cubicBezTo>
                <a:cubicBezTo>
                  <a:pt x="15567" y="8745"/>
                  <a:pt x="15563" y="8785"/>
                  <a:pt x="15526" y="8826"/>
                </a:cubicBezTo>
                <a:cubicBezTo>
                  <a:pt x="15473" y="8885"/>
                  <a:pt x="15381" y="8931"/>
                  <a:pt x="15335" y="8985"/>
                </a:cubicBezTo>
                <a:cubicBezTo>
                  <a:pt x="15273" y="9058"/>
                  <a:pt x="15245" y="9093"/>
                  <a:pt x="15176" y="9144"/>
                </a:cubicBezTo>
                <a:cubicBezTo>
                  <a:pt x="15146" y="9167"/>
                  <a:pt x="15104" y="9220"/>
                  <a:pt x="15081" y="9239"/>
                </a:cubicBezTo>
                <a:cubicBezTo>
                  <a:pt x="15075" y="9244"/>
                  <a:pt x="14913" y="9333"/>
                  <a:pt x="15018" y="9271"/>
                </a:cubicBezTo>
                <a:cubicBezTo>
                  <a:pt x="15057" y="9248"/>
                  <a:pt x="15131" y="9188"/>
                  <a:pt x="15176" y="9176"/>
                </a:cubicBezTo>
                <a:cubicBezTo>
                  <a:pt x="15246" y="9157"/>
                  <a:pt x="15284" y="9181"/>
                  <a:pt x="15335" y="9208"/>
                </a:cubicBezTo>
                <a:cubicBezTo>
                  <a:pt x="15406" y="9245"/>
                  <a:pt x="15438" y="9267"/>
                  <a:pt x="15494" y="9334"/>
                </a:cubicBezTo>
                <a:cubicBezTo>
                  <a:pt x="15544" y="9394"/>
                  <a:pt x="15554" y="9475"/>
                  <a:pt x="15558" y="9557"/>
                </a:cubicBezTo>
                <a:cubicBezTo>
                  <a:pt x="15564" y="9663"/>
                  <a:pt x="15539" y="9747"/>
                  <a:pt x="15526" y="9842"/>
                </a:cubicBezTo>
                <a:cubicBezTo>
                  <a:pt x="15513" y="9943"/>
                  <a:pt x="15467" y="10040"/>
                  <a:pt x="15399" y="10128"/>
                </a:cubicBezTo>
                <a:cubicBezTo>
                  <a:pt x="15359" y="10180"/>
                  <a:pt x="15244" y="10271"/>
                  <a:pt x="15176" y="10287"/>
                </a:cubicBezTo>
                <a:cubicBezTo>
                  <a:pt x="15110" y="10303"/>
                  <a:pt x="14978" y="10281"/>
                  <a:pt x="14922" y="10255"/>
                </a:cubicBezTo>
                <a:cubicBezTo>
                  <a:pt x="14859" y="10226"/>
                  <a:pt x="14818" y="10215"/>
                  <a:pt x="14764" y="10160"/>
                </a:cubicBezTo>
                <a:cubicBezTo>
                  <a:pt x="14725" y="10121"/>
                  <a:pt x="14723" y="10133"/>
                  <a:pt x="14764" y="10065"/>
                </a:cubicBezTo>
              </a:path>
              <a:path w="10701" h="3303">
                <a:moveTo>
                  <a:pt x="15653" y="8096"/>
                </a:moveTo>
                <a:cubicBezTo>
                  <a:pt x="15682" y="8126"/>
                  <a:pt x="15654" y="8098"/>
                  <a:pt x="15684" y="8128"/>
                </a:cubicBezTo>
                <a:cubicBezTo>
                  <a:pt x="15824" y="8269"/>
                  <a:pt x="15998" y="8397"/>
                  <a:pt x="16129" y="8541"/>
                </a:cubicBezTo>
                <a:cubicBezTo>
                  <a:pt x="16223" y="8644"/>
                  <a:pt x="16332" y="8793"/>
                  <a:pt x="16383" y="8922"/>
                </a:cubicBezTo>
                <a:cubicBezTo>
                  <a:pt x="16439" y="9065"/>
                  <a:pt x="16474" y="9246"/>
                  <a:pt x="16478" y="9398"/>
                </a:cubicBezTo>
                <a:cubicBezTo>
                  <a:pt x="16483" y="9603"/>
                  <a:pt x="16482" y="9799"/>
                  <a:pt x="16446" y="10001"/>
                </a:cubicBezTo>
                <a:cubicBezTo>
                  <a:pt x="16412" y="10189"/>
                  <a:pt x="16346" y="10405"/>
                  <a:pt x="16256" y="10573"/>
                </a:cubicBezTo>
                <a:cubicBezTo>
                  <a:pt x="16190" y="10697"/>
                  <a:pt x="16098" y="10821"/>
                  <a:pt x="16002" y="10922"/>
                </a:cubicBezTo>
                <a:cubicBezTo>
                  <a:pt x="15921" y="11008"/>
                  <a:pt x="15853" y="11060"/>
                  <a:pt x="15748" y="11112"/>
                </a:cubicBezTo>
                <a:cubicBezTo>
                  <a:pt x="15694" y="11139"/>
                  <a:pt x="15638" y="11158"/>
                  <a:pt x="15589" y="11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Ink 9"/>
          <p:cNvSpPr/>
          <p:nvPr/>
        </p:nvSpPr>
        <p:spPr>
          <a:xfrm>
            <a:off x="3029040" y="4297320"/>
            <a:ext cx="880920" cy="617760"/>
          </a:xfrm>
          <a:custGeom>
            <a:avLst/>
            <a:gdLst/>
            <a:ahLst/>
            <a:rect l="l" t="t" r="r" b="b"/>
            <a:pathLst>
              <a:path w="2445" h="1715">
                <a:moveTo>
                  <a:pt x="8414" y="12097"/>
                </a:moveTo>
                <a:cubicBezTo>
                  <a:pt x="8414" y="12262"/>
                  <a:pt x="8425" y="12417"/>
                  <a:pt x="8446" y="12573"/>
                </a:cubicBezTo>
                <a:cubicBezTo>
                  <a:pt x="8489" y="12896"/>
                  <a:pt x="8408" y="13251"/>
                  <a:pt x="8477" y="13557"/>
                </a:cubicBezTo>
                <a:cubicBezTo>
                  <a:pt x="8477" y="13568"/>
                  <a:pt x="8477" y="13578"/>
                  <a:pt x="8477" y="13589"/>
                </a:cubicBezTo>
                <a:cubicBezTo>
                  <a:pt x="8452" y="13494"/>
                  <a:pt x="8446" y="13418"/>
                  <a:pt x="8446" y="13303"/>
                </a:cubicBezTo>
                <a:cubicBezTo>
                  <a:pt x="8446" y="13148"/>
                  <a:pt x="8418" y="13011"/>
                  <a:pt x="8414" y="12859"/>
                </a:cubicBezTo>
                <a:cubicBezTo>
                  <a:pt x="8410" y="12703"/>
                  <a:pt x="8440" y="12565"/>
                  <a:pt x="8446" y="12414"/>
                </a:cubicBezTo>
                <a:cubicBezTo>
                  <a:pt x="8450" y="12313"/>
                  <a:pt x="8468" y="12220"/>
                  <a:pt x="8509" y="12128"/>
                </a:cubicBezTo>
                <a:cubicBezTo>
                  <a:pt x="8534" y="12073"/>
                  <a:pt x="8542" y="12051"/>
                  <a:pt x="8604" y="12033"/>
                </a:cubicBezTo>
                <a:cubicBezTo>
                  <a:pt x="8653" y="12019"/>
                  <a:pt x="8699" y="12033"/>
                  <a:pt x="8731" y="12065"/>
                </a:cubicBezTo>
                <a:cubicBezTo>
                  <a:pt x="8785" y="12119"/>
                  <a:pt x="8792" y="12253"/>
                  <a:pt x="8795" y="12319"/>
                </a:cubicBezTo>
                <a:cubicBezTo>
                  <a:pt x="8801" y="12436"/>
                  <a:pt x="8848" y="12547"/>
                  <a:pt x="8826" y="12668"/>
                </a:cubicBezTo>
                <a:cubicBezTo>
                  <a:pt x="8802" y="12799"/>
                  <a:pt x="8795" y="12913"/>
                  <a:pt x="8795" y="13049"/>
                </a:cubicBezTo>
                <a:cubicBezTo>
                  <a:pt x="8795" y="13150"/>
                  <a:pt x="8808" y="13248"/>
                  <a:pt x="8826" y="13303"/>
                </a:cubicBezTo>
                <a:cubicBezTo>
                  <a:pt x="8826" y="13250"/>
                  <a:pt x="8826" y="13261"/>
                  <a:pt x="8826" y="13208"/>
                </a:cubicBezTo>
                <a:cubicBezTo>
                  <a:pt x="8826" y="13053"/>
                  <a:pt x="8841" y="12913"/>
                  <a:pt x="8858" y="12764"/>
                </a:cubicBezTo>
                <a:cubicBezTo>
                  <a:pt x="8873" y="12626"/>
                  <a:pt x="8860" y="12486"/>
                  <a:pt x="8890" y="12351"/>
                </a:cubicBezTo>
                <a:cubicBezTo>
                  <a:pt x="8912" y="12253"/>
                  <a:pt x="8960" y="12084"/>
                  <a:pt x="9017" y="12002"/>
                </a:cubicBezTo>
                <a:cubicBezTo>
                  <a:pt x="9060" y="11940"/>
                  <a:pt x="9084" y="11953"/>
                  <a:pt x="9144" y="11938"/>
                </a:cubicBezTo>
                <a:cubicBezTo>
                  <a:pt x="9200" y="12010"/>
                  <a:pt x="9208" y="12018"/>
                  <a:pt x="9239" y="12097"/>
                </a:cubicBezTo>
                <a:cubicBezTo>
                  <a:pt x="9281" y="12204"/>
                  <a:pt x="9323" y="12297"/>
                  <a:pt x="9334" y="12414"/>
                </a:cubicBezTo>
                <a:cubicBezTo>
                  <a:pt x="9349" y="12582"/>
                  <a:pt x="9352" y="12756"/>
                  <a:pt x="9366" y="12922"/>
                </a:cubicBezTo>
                <a:cubicBezTo>
                  <a:pt x="9378" y="13071"/>
                  <a:pt x="9384" y="13222"/>
                  <a:pt x="9398" y="13367"/>
                </a:cubicBezTo>
                <a:cubicBezTo>
                  <a:pt x="9409" y="13482"/>
                  <a:pt x="9396" y="13547"/>
                  <a:pt x="9493" y="13621"/>
                </a:cubicBezTo>
                <a:cubicBezTo>
                  <a:pt x="9541" y="13658"/>
                  <a:pt x="9586" y="13662"/>
                  <a:pt x="9652" y="13652"/>
                </a:cubicBezTo>
                <a:cubicBezTo>
                  <a:pt x="9727" y="13641"/>
                  <a:pt x="9758" y="13607"/>
                  <a:pt x="9811" y="13557"/>
                </a:cubicBezTo>
                <a:cubicBezTo>
                  <a:pt x="9875" y="13497"/>
                  <a:pt x="9899" y="13443"/>
                  <a:pt x="9938" y="13367"/>
                </a:cubicBezTo>
              </a:path>
              <a:path w="2445" h="1715">
                <a:moveTo>
                  <a:pt x="10065" y="12382"/>
                </a:moveTo>
                <a:cubicBezTo>
                  <a:pt x="10124" y="12338"/>
                  <a:pt x="10177" y="12351"/>
                  <a:pt x="10255" y="12351"/>
                </a:cubicBezTo>
                <a:cubicBezTo>
                  <a:pt x="10394" y="12351"/>
                  <a:pt x="10578" y="12338"/>
                  <a:pt x="10668" y="12382"/>
                </a:cubicBezTo>
                <a:cubicBezTo>
                  <a:pt x="10679" y="12382"/>
                  <a:pt x="10689" y="12382"/>
                  <a:pt x="10700" y="12382"/>
                </a:cubicBezTo>
              </a:path>
              <a:path w="2445" h="1715">
                <a:moveTo>
                  <a:pt x="10160" y="12890"/>
                </a:moveTo>
                <a:cubicBezTo>
                  <a:pt x="10295" y="12890"/>
                  <a:pt x="10415" y="12901"/>
                  <a:pt x="10541" y="12922"/>
                </a:cubicBezTo>
                <a:cubicBezTo>
                  <a:pt x="10642" y="12939"/>
                  <a:pt x="10729" y="12929"/>
                  <a:pt x="10827" y="12954"/>
                </a:cubicBezTo>
                <a:cubicBezTo>
                  <a:pt x="10837" y="12954"/>
                  <a:pt x="10848" y="12954"/>
                  <a:pt x="10858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Ink 10"/>
          <p:cNvSpPr/>
          <p:nvPr/>
        </p:nvSpPr>
        <p:spPr>
          <a:xfrm>
            <a:off x="4321080" y="4114800"/>
            <a:ext cx="571680" cy="868320"/>
          </a:xfrm>
          <a:custGeom>
            <a:avLst/>
            <a:gdLst/>
            <a:ahLst/>
            <a:rect l="l" t="t" r="r" b="b"/>
            <a:pathLst>
              <a:path w="1588" h="2414">
                <a:moveTo>
                  <a:pt x="12160" y="11430"/>
                </a:moveTo>
                <a:cubicBezTo>
                  <a:pt x="12128" y="11430"/>
                  <a:pt x="12118" y="11430"/>
                  <a:pt x="12097" y="11430"/>
                </a:cubicBezTo>
                <a:cubicBezTo>
                  <a:pt x="12097" y="11626"/>
                  <a:pt x="12088" y="11816"/>
                  <a:pt x="12065" y="12002"/>
                </a:cubicBezTo>
                <a:cubicBezTo>
                  <a:pt x="12049" y="12127"/>
                  <a:pt x="12083" y="12234"/>
                  <a:pt x="12033" y="12351"/>
                </a:cubicBezTo>
              </a:path>
              <a:path w="1588" h="2414">
                <a:moveTo>
                  <a:pt x="12668" y="11430"/>
                </a:moveTo>
                <a:cubicBezTo>
                  <a:pt x="12657" y="11528"/>
                  <a:pt x="12630" y="11618"/>
                  <a:pt x="12605" y="11716"/>
                </a:cubicBezTo>
                <a:cubicBezTo>
                  <a:pt x="12555" y="11911"/>
                  <a:pt x="12472" y="12094"/>
                  <a:pt x="12414" y="12287"/>
                </a:cubicBezTo>
                <a:cubicBezTo>
                  <a:pt x="12337" y="12543"/>
                  <a:pt x="12229" y="12791"/>
                  <a:pt x="12160" y="13049"/>
                </a:cubicBezTo>
                <a:cubicBezTo>
                  <a:pt x="12112" y="13228"/>
                  <a:pt x="12054" y="13440"/>
                  <a:pt x="12033" y="13621"/>
                </a:cubicBezTo>
                <a:cubicBezTo>
                  <a:pt x="12022" y="13714"/>
                  <a:pt x="12021" y="13760"/>
                  <a:pt x="12002" y="13843"/>
                </a:cubicBezTo>
              </a:path>
              <a:path w="1588" h="2414">
                <a:moveTo>
                  <a:pt x="12605" y="12732"/>
                </a:moveTo>
                <a:cubicBezTo>
                  <a:pt x="12661" y="12718"/>
                  <a:pt x="12688" y="12679"/>
                  <a:pt x="12732" y="12636"/>
                </a:cubicBezTo>
                <a:cubicBezTo>
                  <a:pt x="12785" y="12584"/>
                  <a:pt x="12832" y="12553"/>
                  <a:pt x="12890" y="12510"/>
                </a:cubicBezTo>
                <a:cubicBezTo>
                  <a:pt x="12949" y="12466"/>
                  <a:pt x="12979" y="12466"/>
                  <a:pt x="13018" y="12510"/>
                </a:cubicBezTo>
                <a:cubicBezTo>
                  <a:pt x="13063" y="12561"/>
                  <a:pt x="13065" y="12664"/>
                  <a:pt x="13049" y="12732"/>
                </a:cubicBezTo>
                <a:cubicBezTo>
                  <a:pt x="13018" y="12863"/>
                  <a:pt x="12939" y="12988"/>
                  <a:pt x="12890" y="13113"/>
                </a:cubicBezTo>
                <a:cubicBezTo>
                  <a:pt x="12852" y="13210"/>
                  <a:pt x="12811" y="13278"/>
                  <a:pt x="12764" y="13367"/>
                </a:cubicBezTo>
                <a:cubicBezTo>
                  <a:pt x="12729" y="13433"/>
                  <a:pt x="12706" y="13477"/>
                  <a:pt x="12636" y="13494"/>
                </a:cubicBezTo>
                <a:cubicBezTo>
                  <a:pt x="12663" y="13474"/>
                  <a:pt x="12749" y="13448"/>
                  <a:pt x="12764" y="13430"/>
                </a:cubicBezTo>
                <a:cubicBezTo>
                  <a:pt x="12817" y="13365"/>
                  <a:pt x="12839" y="13360"/>
                  <a:pt x="12922" y="13335"/>
                </a:cubicBezTo>
                <a:cubicBezTo>
                  <a:pt x="12980" y="13317"/>
                  <a:pt x="13054" y="13307"/>
                  <a:pt x="13113" y="13303"/>
                </a:cubicBezTo>
                <a:cubicBezTo>
                  <a:pt x="13197" y="13298"/>
                  <a:pt x="13253" y="13329"/>
                  <a:pt x="13335" y="13335"/>
                </a:cubicBezTo>
                <a:cubicBezTo>
                  <a:pt x="13402" y="13340"/>
                  <a:pt x="13446" y="13345"/>
                  <a:pt x="13494" y="13303"/>
                </a:cubicBezTo>
                <a:cubicBezTo>
                  <a:pt x="13567" y="13239"/>
                  <a:pt x="13563" y="13175"/>
                  <a:pt x="13589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59:26Z</dcterms:created>
  <dc:creator>Sharon Fieldman</dc:creator>
  <dc:description/>
  <dc:language>en-US</dc:language>
  <cp:lastModifiedBy>njamison</cp:lastModifiedBy>
  <dcterms:modified xsi:type="dcterms:W3CDTF">2011-05-10T12:53:16Z</dcterms:modified>
  <cp:revision>15</cp:revision>
  <dc:subject/>
  <dc:title>Goal 2.02 Prerequisite</dc:title>
</cp:coreProperties>
</file>